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72654"/>
        <c:axId val="67985729"/>
      </c:barChart>
      <c:catAx>
        <c:axId val="49472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85729"/>
        <c:crosses val="autoZero"/>
        <c:auto val="1"/>
        <c:lblAlgn val="ctr"/>
        <c:lblOffset val="100"/>
        <c:noMultiLvlLbl val="0"/>
      </c:catAx>
      <c:valAx>
        <c:axId val="67985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2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CC4-3D87-4665-80DB-DB30AEE1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566-C171-41D0-A995-45D2641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64A-DD83-46C1-9B39-BB3479F1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D07-D349-4D84-90C0-1B9D34CA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28C-1286-4B47-A8CF-77077F23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DBB-38F1-4D67-9F83-06B51ABC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C9A-EAA9-414D-B525-F6C10C3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325-2D8A-43C2-A68D-81279A14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2BB-B69C-4520-95F9-60FCA96C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625-155E-4EDE-AAF9-03AB695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2BA-7A4B-44F9-A9DF-00231E8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69F-F167-4932-AA0B-809ABF4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7C013-D402-4254-AAFC-F79B73A797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