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03171"/>
        <c:axId val="31573910"/>
      </c:barChart>
      <c:catAx>
        <c:axId val="62303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73910"/>
        <c:crosses val="autoZero"/>
        <c:auto val="1"/>
        <c:lblAlgn val="ctr"/>
        <c:lblOffset val="100"/>
        <c:noMultiLvlLbl val="0"/>
      </c:catAx>
      <c:valAx>
        <c:axId val="31573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03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68D-D3F1-4975-BA3A-0A644915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D3C-6F62-42A4-A951-F1825769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616-A50E-4272-BB7C-7CE7D321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FAC-C2BA-4B69-9CBA-D61C97E6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7D2-C412-4AF3-91CA-D0C25FBA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552-A9C5-42F0-8792-CEEF129F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A76-FAB8-49DE-83DE-6D68FD5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BC0-228A-4CEA-B967-7D9F478B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04E-6772-437C-B642-13CBD29B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515-9B52-44B6-A129-C37FF40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55B-D1BC-4FC2-8270-003D7CD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06D-22FE-462E-9D38-5B0DC057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F6CB7-DEA1-429D-A9F5-CF3601B8F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