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96175"/>
        <c:axId val="50879734"/>
      </c:barChart>
      <c:catAx>
        <c:axId val="4729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79734"/>
        <c:crosses val="autoZero"/>
        <c:auto val="1"/>
        <c:lblAlgn val="ctr"/>
        <c:lblOffset val="100"/>
        <c:noMultiLvlLbl val="0"/>
      </c:catAx>
      <c:valAx>
        <c:axId val="50879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9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E0B-E269-4850-8949-4A2AB99D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E30-57C3-495B-A586-A10911D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DD7C-B92C-4828-B331-8BA32DEB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86D-EE9B-4BB8-82BC-4831E1E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AAD-B3AF-4301-A7B8-E172FDA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98B-11DB-42B9-9BFE-31C5EB94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495-9B83-4F16-A630-075BF81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F7E-CA83-437D-A4BA-B66DDEA7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299-DC20-4CFE-A172-8FC0A18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257-836F-4B64-BBD1-FD2B69A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06F-257B-4EA8-90DB-1A8DEEB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818-61B1-456F-8501-2B024146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83C0-28D3-45E4-8B08-FE9EFA1CD2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