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61548-47A8-472C-B9CA-B7E6EAF70B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ortlet or tile will represent one area of functionality, e.g. apache virtual hosts, tomcat data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want to reinvent stuff in providing a usable CLI implementation. The idea would be to just have CLI call the domain layer directly. Essentially this would make the CLI a first class citizen similar to the Struts Actions or Portal rendering methods. Should see same interface as Struts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idation has to be in the Domain Layer so that it can be applied consistently regardless of client inte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key requirement which the CLI brings is the need to provide the capability of making ‘direct updates’ rather than having to perform a read followed by an update. This is going to be critical for items that have just a monolithic config e.g. Apache. Don't want the client to have pass in all configuration information just to update one part of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m of this layer is to abstract away complexities due to configuration, remoteness of resources, and updating multipl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really just a marker class e.g. GetDataSource, StopServer. Action class or subclasses really shouldn’t have much state or any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Args: a wrapper for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a concrete instance of a Server, Service, Application, or some group of those mapping to an actual entity within the topology of resources being adminis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ic invoke() mechanism enables easier decoupling between the intention of an action from its implementation, essentially similar to the benefits JMX gives you in this reg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having the arguments to an action kept in a map should make it simpler to support a generic GUI and CLI which is not tightly coupled to particular actions or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mmediate’ calls are ones which get executed immediately on the appropriate resource, e.g. read operations, some lifecycle (start/stop) operations possib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Queued’ calls are ones which do not get executed immediately, but instead get added to a queue for execution at a later tim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ing Queued calls the user, through the GUI/CLI, will have the ability to apply all the changes at once or to throw them away so that they are never appli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GUI/CLI This enables support for commit/discard commands to be made through the GUI/CLI for applying or throwing away a set of ac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le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ay in which the invoke() operation is called with simple, generic arguments allows for simple persistence of the queue itself.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other benefit of having the queue concept is that we can insert items into the queue, underneath the feet of the user, e.g. okay I see that you made a particular sort of update, we're going to need to wrap that in a "server stop“, "server start" pai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source topology will be created by registering platforms, servers, services, and applications. Included in the topological information will be configuration layout, e.g. is this JBossAS server using netboot? Is this Tomcat server clustered? Distribution filesystem root. This information will be used to determine how changes should be applied to a particular resour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ources should be able to be added manually or autodiscove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How to give clients a consistent view of their changes prior to them being committed. Should this problem be left to the GUI or CLI layers or managed by the Domain lay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possible solution in the domain layer: This is mainly a problem for ‘Immediate’ actions, e.g. I issue a command to read a datasource, which I’ve changed, but not yet committed. We want to return the changed value. For reads you have to go up through the queue to check if the read request makes sense, e.g. the resource being read hasn't been deleted. Then if it does, you execute the read then go up through the stack again to see if any of the pending changes will have impacted the data.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shouldn’t be a problem for ‘queued’ actions since we could may be support adding invalid actions to the queue, e.g. an update after a delete, but then just fail that action when it comes to get executed after a commi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im of this layer is to just abstract away complexities due to remoteness of resources and the engine/agent topology. It will defer to the Infrastructure Layer to carry out the actual chan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receive a set of one or more instructions from the Domain Layer and then combine that with the physical topology information that has been registered, to come up with a list of instructions to pass to the Infrastructure lay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ctually gets executed will vary depending upon the resource being administered and engine/agent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if you want to update a datasource, then how you would do this depends on the physical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two local instances one machine, versus one netboot server and two machi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no agents deployed, (only remote JMX will be available), versus an agent deployed which can manipulate the filesystem di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support plugging in different implementation options. For instance JBoss Support Platinum customers would have access to ‘high-value’ features, e.g. transactional updates across multiple nodes. While we may want to let all users have access to basic non-transactional update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s cares of implementing the instructions received from the Target layer,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this file on this webdav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blah-ds.xml on these three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scription above does not impose very many implementation restrictions. The blah-ds.xml files could be updated by updating a central SVN repository and then getting the servers to do an ‘svn update’, or by ssh’ing into each machine and running a perl command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breakdown of the responsibilities in the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main layer handles initial requests and feeds installation information into the Topology reposi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 layer deals with converting abstract requests from the Domain layer e.g. “update all Apache instances on this group of servers to have virtual host X” into a set of concrete actions e.g. “add the &lt;VirtualHost 10.1.2.3&gt; stanza to the httpd.conf file, found under the SERVER_ROOT C:/apache, on machines with IP 192.168.0.1, 192.168.0.2, 192.168.0.3.” The target layer will read from the Topology repository in order to help determine what concrete actions need to occ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frastructure layer is responsible for taking instructions from the Domain layer and actually attempting to execute them. This is the layer that will talk to the agents to carry out actions, but is also likely to need to be able to JMX server (for agent less configurations) or update WebDAV servers to make changes to netboot configu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67073C-B19D-43BE-BFB2-FD30758202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95A64C-03D3-49AC-9161-FA1E24311C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852E4E-0A51-405C-AAE5-D9127C3205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CA1ECB-975C-4A51-906F-37149552FE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D8B68F-BD2A-4E53-9217-5AF0AA2C6D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F67421-8F7A-47B6-9AE2-0D2934AA21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C2B1E3-4568-4961-A59E-CA8E748AF0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F55E6A-6F0F-4A66-98DC-B5CDA0B218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ED68FC-9BAE-4FC7-9859-AE26C2CAF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C0A86-4EA8-444E-BAC1-C4FE0DDF3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1F7A7-3F86-42DB-8FD1-5E481E69D9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4421B-8606-43ED-AABB-F91FA77307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E403E-8728-4B74-8D26-EED952744B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CLI</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I will be Struts+Tiles bas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uld like to use BeanShell for CL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m to avoid updating CLI classes when Domain Layer chang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POJO remoting” to make calls inside of same JVM as Engine.</a:t>
            </a:r>
            <a:endParaRPr b="0" lang="en-US" sz="32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a:t>
            </a:r>
            <a:r>
              <a:rPr b="0" lang="en-US" sz="2400" spc="-1" strike="noStrike">
                <a:solidFill>
                  <a:srgbClr val="000000"/>
                </a:solidFill>
                <a:latin typeface="Arial"/>
              </a:rPr>
              <a:t>Showing differences between an individual resource and a group of resources.</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do authentication/authorization for CL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yer used by GUI/CL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s call invoke(Action action, ActionArgs args, Target targe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a way to configure what are valid action+args+target tuples, then have them validated on invoc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add some caller identification information to argument list in order to do authorization checks and keep actions of different users separate, e.g. EJB method permissio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both sync and async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immediate’ and ‘queued’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es actual resource topology being administer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For async calls need some standard way to let the user query the status of one or more invocations: success, failure, err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How to give clients a consistent view of their changes prior to them being commit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rget Layer</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yer which maps from logical action &amp; target to actual set of instructions to be execu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main Layer calls invo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n action is invoked what actually gets executed will vary based on: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t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 topolo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rastructure Layer</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layer is responsible for taking instructions such as update this netboot server to have this setting, and actually doing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 does not expose the underlying implem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al Layers</a:t>
            </a:r>
            <a:endParaRPr b="0" lang="en-US" sz="4400" spc="-1" strike="noStrike">
              <a:solidFill>
                <a:srgbClr val="000000"/>
              </a:solidFill>
              <a:latin typeface="Arial"/>
            </a:endParaRPr>
          </a:p>
        </p:txBody>
      </p:sp>
      <p:graphicFrame>
        <p:nvGraphicFramePr>
          <p:cNvPr id="66" name=""/>
          <p:cNvGraphicFramePr/>
          <p:nvPr/>
        </p:nvGraphicFramePr>
        <p:xfrm>
          <a:off x="3014640" y="1600200"/>
          <a:ext cx="3113280" cy="4525920"/>
        </p:xfrm>
        <a:graphic>
          <a:graphicData uri="http://schemas.openxmlformats.org/presentationml/2006/ole">
            <p:oleObj r:id="rId1" spid="">
              <p:embed/>
              <p:pic>
                <p:nvPicPr>
                  <p:cNvPr id="67" name="" descr=""/>
                  <p:cNvPicPr/>
                  <p:nvPr/>
                </p:nvPicPr>
                <p:blipFill>
                  <a:blip r:embed="rId2"/>
                  <a:stretch/>
                </p:blipFill>
                <p:spPr>
                  <a:xfrm>
                    <a:off x="3014640" y="1600200"/>
                    <a:ext cx="311328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9"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70"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71"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grpSp>
        <p:nvGrpSpPr>
          <p:cNvPr id="72" name=""/>
          <p:cNvGrpSpPr/>
          <p:nvPr/>
        </p:nvGrpSpPr>
        <p:grpSpPr>
          <a:xfrm>
            <a:off x="533520" y="4114800"/>
            <a:ext cx="2895480" cy="2514600"/>
            <a:chOff x="533520" y="4114800"/>
            <a:chExt cx="2895480" cy="2514600"/>
          </a:xfrm>
        </p:grpSpPr>
        <p:sp>
          <p:nvSpPr>
            <p:cNvPr id="73"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4"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5" name=""/>
            <p:cNvSpPr/>
            <p:nvPr/>
          </p:nvSpPr>
          <p:spPr>
            <a:xfrm>
              <a:off x="1371600" y="502920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76" name=""/>
            <p:cNvSpPr/>
            <p:nvPr/>
          </p:nvSpPr>
          <p:spPr>
            <a:xfrm>
              <a:off x="1371600" y="586728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grpSp>
      <p:sp>
        <p:nvSpPr>
          <p:cNvPr id="77"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8"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9"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80" name=""/>
          <p:cNvSpPr/>
          <p:nvPr/>
        </p:nvSpPr>
        <p:spPr>
          <a:xfrm>
            <a:off x="4267080" y="4572000"/>
            <a:ext cx="213372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82"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352680" y="6248520"/>
            <a:ext cx="3276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400800" y="5257800"/>
            <a:ext cx="13716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90" name=""/>
          <p:cNvCxnSpPr>
            <a:stCxn id="78" idx="2"/>
            <a:endCxn id="75" idx="1"/>
          </p:cNvCxnSpPr>
          <p:nvPr/>
        </p:nvCxnSpPr>
        <p:spPr>
          <a:xfrm flipH="1" flipV="1" rot="10800000">
            <a:off x="684720" y="2818080"/>
            <a:ext cx="686520" cy="2553120"/>
          </a:xfrm>
          <a:prstGeom prst="bentConnector3">
            <a:avLst>
              <a:gd name="adj1" fmla="val -63378"/>
            </a:avLst>
          </a:prstGeom>
          <a:ln w="9360">
            <a:solidFill>
              <a:srgbClr val="000000"/>
            </a:solidFill>
            <a:miter/>
            <a:tailEnd len="med" type="triangle" w="med"/>
          </a:ln>
        </p:spPr>
      </p:cxnSp>
      <p:cxnSp>
        <p:nvCxnSpPr>
          <p:cNvPr id="91" name=""/>
          <p:cNvCxnSpPr>
            <a:stCxn id="79" idx="1"/>
            <a:endCxn id="78"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92"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93"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John Mazzitelli</cp:lastModifiedBy>
  <dcterms:modified xsi:type="dcterms:W3CDTF">2005-04-14T04:53:18Z</dcterms:modified>
  <cp:revision>41</cp:revision>
  <dc:subject/>
  <dc:title>JBN Admin</dc:title>
</cp:coreProperties>
</file>