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36474-7478-4757-80BF-105B1DF045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bottom half of previous screen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gger alert on the result of a control a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duration of condition before alert fires, e.g. lasts for 5mins within an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frequency of condition , e.g. 10 times  in 30minu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 alerts, which helps in preventing a single problem from generating a huge number of ale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ety of control actions allowed on JBoss Server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art/Stop/Restar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anage JBoss Launcher Service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tages of the Launcher Service on Windows are the integration with the MS Services, on unix can configure the launcher server to restart the process if it exits abnormal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reate DataSourc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Control allows for immediate control action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actions can be scheduled for later execution (may be recurring or non-recurring schedu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view history of previously executed control 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[Extra credi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fine an alert and a recovery alert then trigger the alert then get back to “normal” conditions to trigger a recovery aler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) Define alert for “low memory” (look at the graph to determine a good value of free memory that will assure you that an alert will be triggered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) Define recovery alert for “low memory resolved” (again, look at the graph to see what a good value would be that would assure the recovery alert will be triggered)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 &amp; Host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the install path to the JBoss server configuration location (e.g. “default”, “all” configur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Cou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how many services belong to the JBoss server and what their types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s all services (EJBs, JMS destinations,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their current availability met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guration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mote JNDI endpoint (jnp: URL) used to probe the JBoss in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auto-discovery enablement 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 used to start the JBoss instance (such as the full path to the run.bat and the server configuration name – e.g. “default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at the Server avail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ath that are high level charts for other metr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o the left shows availability of the groups of services running on this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include when control actions occurred, e.g. server re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define a new Alert on this met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the chart to the dashbo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metrics that can be col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ically collected every 5/10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turn them off or alter collection inter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are collecting a metric you can set an alert on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name, descriptio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ity (=&gt; dashboard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/In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urrently collected metrics are displayed in drop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6D648795-C18A-4948-B741-0CF89662B3E2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onitoring JBos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93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ing JBoss Application Serv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Server Alert Defini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792468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Variety of control actions allowed on JBoss Server itself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rt/Stop/Rest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JBoss Launcher Serv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DataSou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Quick Control allows for immediate control action execu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ntrol actions can be scheduled for later execution (may be recurring or non-recurring schedule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an view history of previously executed control ac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162560" cy="48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en the following capabilitie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llect JBoss AS configuration/installation inform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llect metrics on app server performanc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define alerts to respond to even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tions to control the app server instance and install new servic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hange the JVM Free Memory metric to be collected every 20 second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ew the JVM Free Memory metric graph and narrow the time display range – notice that this metric is now collected more often than the oth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fine an alert on the JVM Free Memory metric and see that it gets fired appropriately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reate a new Local-Tx DataSource using the Control Actions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e the DataSource shortly appear in the inventory and that you can collect metrics on it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447920"/>
            <a:ext cx="824364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oss Application Server management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e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ype &amp; Host Properti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the install path to the JBoss server configuration location (e.g. “default”, “all” configurations)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rvice Count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how many services belong to the JBoss server and what their types are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rvic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Lists all services (EJBs, JMS destinations, etc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their current availability metric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onfiguration Properti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ared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remote JNDI endpoint (jnp: URL) used to probe the JBoss insta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rvice auto-discovery enablement fla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ormation used to start the JBoss instance (such as the full path to the run.bat and the server configuration name – e.g. “default”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 of JBoss Serv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3822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-specific Monitor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Boss Server itsel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vailability, JVM memory, Thread count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tateless/Stateful Session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reate Calls per Minute, MaxPoolSize, PoolSize, Remove Calls per Minut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essage Driven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essages Received per Minut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ntity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ooledBeans, Ready Beans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CA Connection Poo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vailable Connections, Min/Max/Total Connections, Connections Created/Destroyed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MS Destinat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essages in Queue, Received Count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8077320" cy="49417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onitoring of JBoss Serv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2209680"/>
            <a:ext cx="152640" cy="1600200"/>
          </a:xfrm>
          <a:custGeom>
            <a:avLst/>
            <a:gdLst>
              <a:gd name="textAreaLeft" fmla="*/ 97560 w 152640"/>
              <a:gd name="textAreaRight" fmla="*/ 153000 w 15264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362320"/>
            <a:ext cx="838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Services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deployed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in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4495680"/>
            <a:ext cx="76320" cy="990720"/>
          </a:xfrm>
          <a:custGeom>
            <a:avLst/>
            <a:gdLst>
              <a:gd name="textAreaLeft" fmla="*/ 48960 w 76320"/>
              <a:gd name="textAreaRight" fmla="*/ 76320 w 763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20" y="4495680"/>
            <a:ext cx="825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Metrics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collected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for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43320" y="2624040"/>
            <a:ext cx="4648320" cy="30492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41560" y="2112840"/>
            <a:ext cx="304920" cy="182880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294920" y="3886200"/>
            <a:ext cx="1752840" cy="20574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371600" y="2895480"/>
            <a:ext cx="3581280" cy="30481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4000" y="5943600"/>
            <a:ext cx="107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Green=goo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3962520"/>
            <a:ext cx="4572000" cy="121896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819160" y="4572000"/>
            <a:ext cx="533160" cy="14479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6019920"/>
            <a:ext cx="102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Metric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rill Into JVM Free Memory Grap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693396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514600" y="1219320"/>
            <a:ext cx="5181480" cy="51973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figure Metric Col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1523880"/>
            <a:ext cx="990720" cy="30492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1752120" y="1676520"/>
            <a:ext cx="1676520" cy="3045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9160" y="198108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Switch to the “Configure”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view to configure metric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collection interv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1904760" y="3809880"/>
            <a:ext cx="609480" cy="99072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1904760" y="2362320"/>
            <a:ext cx="685800" cy="129528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0600" y="3505320"/>
            <a:ext cx="160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Select the metrics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to be configu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3760" y="4278240"/>
            <a:ext cx="153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And then define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their new interval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(or disable the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67000" y="5057640"/>
            <a:ext cx="895320" cy="1067040"/>
          </a:xfrm>
          <a:custGeom>
            <a:avLst/>
            <a:gdLst/>
            <a:ahLst/>
            <a:rect l="l" t="t" r="r" b="b"/>
            <a:pathLst>
              <a:path w="1095" h="470">
                <a:moveTo>
                  <a:pt x="13" y="0"/>
                </a:moveTo>
                <a:lnTo>
                  <a:pt x="0" y="470"/>
                </a:lnTo>
                <a:lnTo>
                  <a:pt x="1095" y="470"/>
                </a:lnTo>
              </a:path>
            </a:pathLst>
          </a:custGeom>
          <a:noFill/>
          <a:ln w="93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5943600"/>
            <a:ext cx="4038480" cy="38088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78040" y="37987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Server Alert Defini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 can set alerts for any collected metr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868680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18:11:09Z</dcterms:created>
  <dc:creator>John Mazzitelli</dc:creator>
  <dc:description/>
  <dc:language>en-US</dc:language>
  <cp:lastModifiedBy>John Mazzitelli</cp:lastModifiedBy>
  <dcterms:modified xsi:type="dcterms:W3CDTF">2006-01-20T18:56:03Z</dcterms:modified>
  <cp:revision>68</cp:revision>
  <dc:subject/>
  <dc:title>Agent Overview</dc:title>
</cp:coreProperties>
</file>