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9294813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295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526572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93328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526572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2356E-8477-4518-AEED-096C08E021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’ll be doing the power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greg and I will be assisting you with the l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A6E5BBA9-1E55-4FA1-AB7B-5E338468D203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JBoss ON the Road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8960" y="3429000"/>
            <a:ext cx="64767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Boss Operations Networ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ining – Jan/Feb 2006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duction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harles Crouch (JBoss, Inc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Operations Network tea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ead open source admin conso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duction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reg Hinkle (JBoss, Inc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Operations Network tea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ead of numerous open source project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MC4J, JarJunkie, Carbon and Chire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duction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5080" y="1371600"/>
            <a:ext cx="8001000" cy="49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ohn Mazzitelli (JBoss, Inc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Operations Network tea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aterial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veryone should have a CD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rom the CD you will need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inary JBoss Operations Network distribution for the O/S you are running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cense.xm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cense.pdf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py the files to a temporary directory on your laptop, but *DON’T* start installing!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5080" y="1311120"/>
            <a:ext cx="8001000" cy="49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Boss ON overview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Boss ON architecture and feature-se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Boss ON installation and configurat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4186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ab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rea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Boss ON Portal overview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4186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ab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nitoring JBoss AS with JBoss 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4186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ab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9T13:38:31Z</dcterms:created>
  <dc:creator>ghinkle</dc:creator>
  <dc:description/>
  <dc:language>en-US</dc:language>
  <cp:lastModifiedBy>John Mazzitelli</cp:lastModifiedBy>
  <dcterms:modified xsi:type="dcterms:W3CDTF">2006-01-20T18:54:51Z</dcterms:modified>
  <cp:revision>80</cp:revision>
  <dc:subject/>
  <dc:title>JBN Enterprise Management</dc:title>
</cp:coreProperties>
</file>