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B74D-4EE2-4271-8498-D403EC7B2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358B-8821-4BC4-931E-027F4E6C0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673CAF-DBB9-487C-95B4-E95CDD1FB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780EB9-23C7-4CB2-B2F5-437C43DE6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1CA0D6-A45A-476F-952C-3700B8EE0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78A196-9A8A-45FB-B4D1-F8C79936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D6AAB7-955B-4631-9BC1-34C94913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9FD3A7-18C7-45FC-BB9F-83C3733E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479B38-F84E-45A9-9EDA-08734B96C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A30D30-52FC-4399-A8BF-73E95CDA2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A9F981-0D19-47A1-895C-F1EBA0FB6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412FB87-B825-49D9-B5E2-9DA75D70E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9D3B-E5BF-40B9-9B09-62A494EF0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0C98D52-2D3D-4FCC-BC1A-495502DE7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B5E2FCE-CBB0-4F9D-AFBC-E6729C740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51238D2-62EE-4C16-ACE7-29E940AFE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9E72849-7FC7-4C1C-B262-1B73FF2C2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1636B9E-D023-4AA9-84E1-D7F121351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DCD79BE-CD97-442A-9913-286206EC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65321B7-468B-4B4A-9FEE-4CBEAD75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F34B5D0-7120-411B-A48E-9E464B83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E3C3965-111C-41FC-9733-9765EE821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7036ABE-20CE-4E6B-9230-F2530F573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BAF7-1090-4BB5-ADA0-C63FCC67B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F5CC692-BC91-439B-9B94-E9A1133E8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620886-09A8-4411-95F2-7DE537AB2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A8C552-1492-4D8A-9BC2-C11AFA9A3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10707B-0C4C-4A15-921B-C71864317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55FF38-067D-4F23-949B-B6396F302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8B1DB8-6F23-4797-AFA7-3B1D742DB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1B61CC-BE32-423A-83D5-25C8E4089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463C0F-E881-44F8-AD55-B084A30F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0FF055-E0CA-4F27-9BA2-8B114743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9CCA1B-DB88-46D7-9251-A27C64CA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DFECE-C765-4EBB-B1F5-4FE26EE18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F623B3-8486-4A1F-97B6-3DA40C5E0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AEDE73-9DA8-477F-8094-797D2446F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A2D56E-5E00-40AE-AAEB-369F1CB8E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432048-AE76-4595-A0AF-4B1022888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F07735-D70C-4DDE-9F00-B909E98D2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627515-06C4-4FD9-B4FA-DDF43482B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2BC94D-AE86-4E84-9535-D450CB691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5CA128-17DB-4143-B8E5-AFF97B10C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AE6F5C-992C-4417-AC22-47C194D34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002707-3C5E-4234-AC30-C84464E7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7213C-52CF-4677-9496-8F3F70993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5CCAEF-60CE-436F-BF39-217719BD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AF68BE-931D-41D0-93A9-B53771D2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8BFF12-F07D-47EA-8757-65D59672F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C4A592-BA35-49B1-9FE5-13642F77E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BE9A0E-6D80-4FFF-89E0-7C2EAE065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647DA-FB89-417B-B97A-B9D28AD4B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B7137-7489-42AC-B45E-92CD53CF4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0D31D-9699-4AFA-94DD-FB47B1F33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8ADF7-604D-493C-A658-E969ADE86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44B8C-FCF5-4E24-A5BF-6ACD5ADE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8B26-28B3-422D-957F-7FAAC9190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1CBCE-4D16-4D47-8501-15564111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23283-EF0C-481F-8FE9-3C8DD232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1BD2F-042F-4E95-84D9-2D266A5F5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C28D9-44AA-4805-83E8-3B4BCFD30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AB0CC-5771-4303-BF0A-BBFEFA50E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C6A35-6649-4106-BB6F-D5D0E3908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0AAFA-2C19-41FF-AE67-33FA17036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28BB6-D1A5-4D6E-A9FA-EC17DF09A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5DC74-88F3-444D-99AB-802ED46C4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E47AF-FBE3-4460-8DBC-FFF546B36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8496-AA63-426E-B20A-F7A804E42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8024B-285B-4DF8-967B-17A9B6BA3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F63DF-B237-48E4-9A1A-8DE0B82A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44EE4-A144-48BF-8E38-CA43B324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7FE30-1CAC-455E-A135-CB4C57BD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54F79-E78E-4F9B-BC84-0AAC131FF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8151A-3AA4-4091-AACC-5021250C0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161F1-027F-495C-BE8B-40BAA6892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4A921-7990-4ADA-A41C-698D621FE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BABC6-CE1F-4D35-AE50-DD3430D20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1795B-46A1-46EF-AEAD-634123769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10C5-EEC3-427E-90A2-5A58CE237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0905C-3DB3-4E1C-A8C3-B7ECFBDFE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3735B-9F93-4117-943E-4C369D6F8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6938E-42DD-4433-8583-3C255ED95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E2EAF-5E2D-41E4-8105-A2DD7BB9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89F64-71E0-461C-8C55-3F9032F6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BC13C-C301-4566-A765-EA209A32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07738-B015-4F0D-8C7B-65BAAB55D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7F26C-942C-4EBF-A1F1-AD67E93E1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07C9D-F184-4DB8-A4C2-EAAC49B3E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616E0A-74DD-4899-B3E9-1D641D147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740B-78AC-4D29-ACC6-9DA905097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BA43DA-A6FB-4996-8431-BD88D3161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5C4009-082A-468D-BB16-52F455BEE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E78123-2EED-48DB-AA1B-26BA2401D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7246DA-302B-4E8B-B033-21BEC55F1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8334FF-B836-4A19-88D7-7AF1E8F66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99803D-99E4-4987-8E27-A64D4C03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F3AAD0-9BC1-4D5A-90EB-DAA0BAA1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DF38D6-99D3-493E-A984-BA68A77D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67DD27-C2E4-4459-A568-C430538AA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F89B46-7E28-42A3-87B5-B6461F12A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F26F-0E85-4F70-B624-8C11E1E91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EAA5AA-D9DF-4D67-B1B7-2D54498FC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5F3E5-3B08-4434-A7FC-6798FABFD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1968B-05D0-46EB-B937-3D434AB42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77BAA-163B-4C7D-A8FD-EAEF15AE3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114FD-C962-4800-B645-008346BFE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31DA7-EC28-4772-B174-7E2901CA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4AB575-1B94-41EB-BE44-CE05F7EF7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23B94-12A9-4075-9AF6-40AD1F47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06D71-1FD2-4BC3-B43E-D3ECF279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E1CF8-4624-475E-AE20-019EE539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A79B-6E1A-443B-B6CE-C0FF1F28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DC81E-994C-4C83-B2BB-218A81CB7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98B9F9-D6DF-4BCA-AC21-4372FE2C8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9A65B-5D5C-46E1-805B-25FF16A4C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DCEA02-547A-4552-A4D7-BF00D642F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401F8-CF60-4AE0-A35F-9BF833A65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9A9E2-51EC-4096-B918-A0BCCDC29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594F48-D973-4F54-9788-3B76AEF20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8F68E-346B-4D57-8A00-8DE88F8C3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559B5-8889-4DB8-87E4-D0C456F40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9FB6F-0F8E-46F8-89A6-43465D7A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9E04-5925-4A90-B820-1E7FDA76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9C2D5A-F5EE-4FB2-BB9C-5E7E131B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2DEE18-E35D-4293-ACAD-9B157C7A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3F8723-1833-4420-A538-B352EC20F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06122-C0A1-4F6A-9AD9-E6311C0A7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F2542-5FC6-4431-A828-8D1EA4228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319163-98FB-4425-962F-7BFB80223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C851CF-36AC-43F8-B2BE-0E0857A30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004C90-4A2A-48E7-81CB-7AEB416FA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9AA0A-7C81-43A3-964B-3E21F4021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A3D2E6-D9FC-4F81-BA42-670171FDA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16D0-0678-433B-AC0F-28F4CEA6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9E223D-3855-4FB7-A2FA-635521C91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F35A10-6B74-4EE3-B947-634EEEF9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49D9DD-9ED9-4966-BC1E-E46AF794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DFDC14-6C32-4685-83F1-B0AA26AF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60323-3D5C-4B47-ABE4-9E020BED1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772A16-F5B5-462E-9A53-17FA68746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9B48E5-FE5C-4C04-BEA0-56548CA37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71834F-886E-4431-86BB-D640A8520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BD74BD-7EB8-4EA5-9B54-657EA3DD0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8A1B45-FBB9-4C2E-A308-A6888CA0B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CF6F-88A2-428D-B3F5-4E1978CEBE36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40EFB-90B5-4951-97A0-EF76DD660F7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CBC26-12F8-442F-9243-4B835F2178E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8F857-2853-4978-BEFA-FBB6EB43F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A58EF-6BFB-42A7-B388-8FBEDA127519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88F3C-2E88-4832-8C83-BBA1658CD66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514D-4C00-447C-818C-462E9CC01092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B419E-EA63-4AD9-A14C-564874D91DC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B7216-9E09-4075-A837-1DE532BDBABB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EE611-B0C7-4C91-86CF-4DB919CA6A6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F8786-2143-4895-BCA5-8462376AAF5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7E514-B4C8-4CDF-A0B8-CAFED81583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0041B-A9C4-4D1E-8A29-2FD695E381B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790A9-0BEE-4F77-B570-B620AC9265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C592-E4C8-4A0B-98AF-2BFDCFC6632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8FAF1-9192-4826-A814-7937D473B8FE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472A8-FAD2-4BC6-8D50-216215BC101F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EEAEE-1E91-4BA0-96FE-A261D707F58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C1C37-2C0D-4709-98B1-8DB6928CF290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3CE36-7017-465A-8F62-2E3AD07B017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A5621-3A9F-489C-B184-8D11C3A6C8A2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7FD49-6E13-4AF1-8AD5-3287AE26BB4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910F7-1A0E-4E1D-A335-BAAC12E8F47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74930-47BA-4150-9F7B-EAAB6F2AB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4DE2-D644-451A-919F-757950C67DA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F901ED-9E17-4E03-8289-E2C44A0F2168}" type="datetime1">
              <a:rPr lang="en-US"/>
              <a:t>07/31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34AEAB-732A-4E30-915D-EAB564DF16A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F6F50196-9ED9-4836-8C4F-E6D510E80DE2}" type="datetime1">
              <a:rPr lang="en-US"/>
              <a:t>07/31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" dur="1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0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66BF5-D5A3-4F6A-BA6F-6EFA5B25F81E}" type="slidenum">
              <a:t>3</a:t>
            </a:fld>
          </a:p>
        </p:txBody>
      </p:sp>
    </p:spTree>
  </p:cSld>
  <p:transition>
    <p:comb dir="horz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686024-86C3-4284-A3A0-E4AB688945FF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C7801DFD-56B2-45FA-B228-BD495776CEC7}" type="datetime1">
              <a:rPr lang="en-US"/>
              <a:t>07/31/26</a:t>
            </a:fld>
          </a:p>
        </p:txBody>
      </p:sp>
    </p:spTree>
  </p:cSld>
  <p:transition>
    <p:wedg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6000"/>
                            </p:stCondLst>
                            <p:childTnLst>
                              <p:par>
                                <p:cTn id="2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8000"/>
                            </p:stCondLst>
                            <p:childTnLst>
                              <p:par>
                                <p:cTn id="2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0AB0DD-5F84-47F4-ABB7-17A80780A8D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29E245D5-7D41-4204-825B-E0C6826175DD}" type="datetime1">
              <a:rPr lang="en-US"/>
              <a:t>07/31/26</a:t>
            </a:fld>
          </a:p>
        </p:txBody>
      </p:sp>
    </p:spTree>
  </p:cSld>
  <p:transition>
    <p:wipe dir="d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4000"/>
                            </p:stCondLst>
                            <p:childTnLst>
                              <p:par>
                                <p:cTn id="2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0"/>
                            </p:stCondLst>
                            <p:childTnLst>
                              <p:par>
                                <p:cTn id="29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7000"/>
                            </p:stCondLst>
                            <p:childTnLst>
                              <p:par>
                                <p:cTn id="3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9000"/>
                            </p:stCondLst>
                            <p:childTnLst>
                              <p:par>
                                <p:cTn id="3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0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5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4DF27A-FE07-43B1-BB1A-B1E2FF2E3E5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79A427D0-BFE5-40F0-B027-CAC447472DD3}" type="datetime1">
              <a:rPr lang="en-US"/>
              <a:t>07/31/26</a:t>
            </a:fld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5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6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4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5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