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5AA4-3D80-43F4-829D-F85219BB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64D0-310B-4532-83FB-40886303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8A304-0E30-450C-B15A-314E2894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D371F-7CAD-4755-BF5A-F77DB52E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05353-B442-462A-9137-FF01E409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D16E9-1D4E-468F-A27F-3E50D307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BD517-B436-4FA5-B554-6847BFCA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C43A9-A7B8-45E3-B29B-2C782E00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ECCB1-684B-43F5-821F-E310779A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57A6C-153E-41DA-98D5-91D9CF76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70F6C-9AC3-4DA4-8E08-D2C071D3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A03D66-1DF8-4176-84D1-A254A549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DB9D-CD69-44CC-B9F4-B60C6D82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5F0BAE-FC8E-40CA-BCD6-DBAB3375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40B241-C25F-4F4F-9797-5BE3D182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3975A8-7235-4024-985B-A4DF1EE1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81BA00-B3EE-48B5-8D3F-7D891B8B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A0FAF6-A08E-424A-99BC-E81281E0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858A26-0D3D-4BEB-B472-DA6BF56D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FD62B9-D561-42A0-B880-6EBFFB83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AB041B-91C2-4B41-BC29-06DF6175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BE5C5E-E9B6-479E-B985-8B62C818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73A9FF-606B-41E6-A7EA-2FF920BD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27D1-40BF-4A32-82E6-DC6F6728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4783B3-6826-4816-B5FC-D80996C6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DACE1-AF92-4DDE-860F-6FF7D663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BC1BB-8ADA-4380-8E2D-55004B16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0CB7E-BCB5-462E-8D09-0FD74743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D5371-325E-4FF8-AF87-2C422123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DCC14-1DB5-434A-941F-1E937370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77C9C-162A-4541-93DC-43916BDC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4F441-FB44-4E95-9B01-9C4DC301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4CEE2-D8FE-42EF-9B62-45FED8B3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D7E0D-C993-4E97-9DDF-A2FF707E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D7BE-EF3E-421C-B9EA-6DD419CC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CC960-FCF8-4595-BB2E-9CD4DE5F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30A25-8E11-4C8B-9776-5A558914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A64DB-3596-4301-8DBB-8F0BBD02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D5039-7E6A-4BCD-8ABB-E3A3679AE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79128-1F56-492E-88D8-5A52951C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48E8A-6A6E-4D29-852C-38CDED91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8BA5A-666A-4077-BDE4-BA4FF2FC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B22CB-98AF-4512-9BDD-2A739F34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C44FC-FE59-4A09-8292-7AAE19FB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E6F48-3034-4B15-9713-915644A7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AAAA-46F8-4596-8406-3B5A40FB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FD372-38C5-4787-9589-49D33F91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D550B-9D37-4AEC-BAB2-6EFA9804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0D1D8-17E5-4089-8601-A4348C89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80514-0960-4A84-AC62-F0B668E3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2A309-7D0D-42D7-83B1-157C1612D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596F-6AE6-4576-B13E-41937B16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734F-58C7-455A-A070-A63FD479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5287-D110-4806-8924-D43011B3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C0DA-523E-4224-9321-F43B31BA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867F-D13B-446A-AACA-A9E4A0B8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CA8E-5C91-401B-9CF8-B3CCABF0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B7EA-A870-43C0-B2EA-4D441710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E85D-A06D-47FB-B8DB-27C96B1B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A4CF-88C3-4CE9-9B8D-100E2B3C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E6A4-0657-467F-A38B-0FEE2307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F536-9C84-4260-8582-FF39F44C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CDED3-9523-4039-9639-629FD938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E7BA1-A0A7-458A-8EE4-43DF89D3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E4473-EA90-42F9-963E-7E408A39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7D20D-86A7-43F7-8D89-97D4DAF3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8EB9C-FE89-43B4-BBF6-8DD7A7B5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15E5-26B4-4761-90AA-910CA034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A8523-A28B-46E0-B28A-F05262BB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45F58-1F79-48A4-AFE1-D5D377D6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B1114-00F0-4E5D-B4D6-6033FAF6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EDCB3-23E1-4B5C-9910-4EBAD847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A1B87-4C26-4327-9A46-BA187D3F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E8C12-9F9A-4C27-8C19-45E8C36E5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25409-B66F-431C-AD59-D986F674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D19A8-0435-4EB4-AA27-7988B9CF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C06DE-3F21-4536-92AD-7FC2DD12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A01F0-5D5A-44E9-A151-0116995B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7D9C-D74F-40DC-A15D-D7E3F70A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47F2D-5CA1-4757-9367-6AFB7357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A71C1-8C2F-493F-8286-D533CE4E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AF736-1BDB-4336-94C8-4930AFAF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E856E-4F52-45E8-9539-3F15DEBB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E819E-7973-49AB-B50E-E1625597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C4F70-8A7D-4678-BAD2-3406B185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388BC-007A-4EF1-9C9A-F9E11DC9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BC54C-5A3A-42EF-83AA-C85A9CDE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46C7A-5972-45D9-B076-61AA6A0C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227269-C887-4087-ACA5-19D028FA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3AD6-F292-4CE3-8408-108134CD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CCFF1B-8EA1-42B5-85DD-7E43CB72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0D23F4-E1D5-4D14-BC72-CFDC99B5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F0401D-40B8-4083-9448-30AD2909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068C6C-3578-4CB1-83E8-98F35BC9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403419-CAAC-487B-8110-3029D79D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88B921-4D91-42AC-AC97-86655BD3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740CA2-7129-497C-9BB2-EB022CAF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850AAC-29D0-4B35-B004-67465F62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E36AAD-6F17-4330-8C9E-C0B8D7EF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77A804-BB97-47B9-AA6A-EA93ACA8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E913-6911-4EC5-8105-D7AAE97E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B0D946-7124-47F1-8712-5E31C787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9581F-9D04-4525-B682-52E2482E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6ABCB-899F-45DD-9D68-E356042B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F6EC9-FC2B-4F14-BCDB-C6428506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89185-C44F-4125-9C02-1D73AB8E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65FD6-0049-45E6-868C-D81A646D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28CF8-A09D-4737-BF38-18B22C43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E8D6A-4CFC-4584-B170-3B31A529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6BF92-C84A-4038-9A31-FCD076DF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DED4C-5084-4B88-BBDE-21CCF0CF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74E6-A25B-410D-A60C-B49DB949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6C5CB-5BD6-48F7-81BA-AB45B47C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AE459-923B-4491-888D-E50D552C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06A32-25A3-4DAA-863C-CFA67600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E4CCF-4ACF-4AF5-A2E5-D2EAF10D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CADB6-897B-49AB-9512-9C1EC7DE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EB16E-FECD-4ECE-B080-F3FF42FA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3D7AA-8854-4353-81EC-6D030BD3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B7B13-4B1A-4A9F-99B9-E1ADBD9C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64C40-9DFB-41DA-9D3A-D2F09301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7F60C-7A45-44CC-B5E4-01CF2EAC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57BF-5BD3-4DA0-B745-A0C24187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0A960-93BA-4B5A-9685-C8EB67D7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0579E-87A5-4284-9146-478854E3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5C353-3CFD-45AB-8D1C-A0AD2F1B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05B28-76FE-40BD-A0BE-67298FBC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2A5EA-F770-423A-A753-8DB0DF1D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C3E11-4F0D-4604-AD75-A9CBAF0B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40D01-01FD-4889-9475-221E44EB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33F82-33ED-4DC8-AA80-99BA1279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B894C-2A54-40DC-98B6-9CCE22A8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BE8A2-A9ED-4C8A-8FB1-DEE9ABC6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00D8-DD7B-49E0-9B55-29E77541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31352-CE6E-436C-96DD-94F02B2B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0196B-0BBA-4013-BB9A-A7CC0862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BB166-6357-488E-953E-0936B0DB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C27FC-6DE1-4A96-83F4-5CD1501C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6391E-9B80-45CF-AA19-4AB6C2FB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E9B38-4A92-45D8-B9F5-94A8C492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07228-D9C2-43CC-9C9E-FC34DAC0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08C76-B251-47AE-8E95-5079A3F8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B6469-4847-4FDC-B874-E9BB8E02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9A593-B078-459E-9192-6B03A1CE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3688-43E2-4442-948C-F61FC2CD4E9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03BF-2EAB-4C14-BEAA-A197A00CA1F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13C5-E9EC-47CC-AAE2-6912EEE5568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2E0E-7D42-4525-BA52-423C25197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E141-6627-4178-B16E-0C5CB818463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5C22-6BD3-4C99-BA9F-FB70DE3E235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573A-3ECF-4000-ACFD-22EED9CE2BD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EA3B-1882-4D43-B8F9-84341AEAD34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D257-B210-4AF7-8548-34EB9C9C143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7B43-C34D-426F-B63E-BB8FD66C849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F529-E307-4758-BC1C-84542D96F52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653A-5154-49A3-A119-B849344F8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E63C-210B-4F6C-85B0-5FA38568961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4F54-7E72-40BC-AE06-1CCAAFCD3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46E2-B2ED-434C-98DD-F508AC2F01B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042E-20AF-47CE-8075-FF6584BF97E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45AD-2655-4755-8DE3-F5784D296A0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8F45-B4F2-4F5C-9887-B7E68244551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42E5-F1EB-41C0-9B10-14A0B225875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7F3B-5A31-4A16-9169-BDBE8C4876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D572-8922-47C5-923B-260CC9C09A5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89AF-2400-4E74-8610-41A3CF406D9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54C9-03F8-4D1D-8B2C-0C7BE5D46DF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E040-B030-4827-A669-C0650A8C1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D2B7-106E-48CB-9930-69C3C8BD79E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FC76D-66D3-4C6A-83CE-336E2CF23950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5BF99-F786-4D90-A8AE-A8B38D3256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150A2193-AF4C-4B98-A29C-4F243649A4B6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15" dur="1230" fill="hold"/>
                                        <p:tgtEl>
                                          <p:spTgt spid="119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16" dur="123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1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18" dur="123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1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44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AEFF2-C02C-482D-91D2-612F07C5C85B}" type="slidenum">
              <a:t>3</a:t>
            </a:fld>
          </a:p>
        </p:txBody>
      </p:sp>
    </p:spTree>
  </p:cSld>
  <p:transition>
    <p:comb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CBE974-7043-4523-92F8-7C82D7924E1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976BD639-0DA3-4618-8491-CCD4E955A619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9BA3D-25E0-4784-9252-B071AE3457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FDFDF52D-44BA-4D72-98EB-6E028457C1DC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7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9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36877-8D87-470E-BECE-1BF526FC36A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4EA9BAD9-9FFD-4B3D-8B3E-33D71F046E11}" type="datetime1">
              <a:rPr lang="en-US"/>
              <a:t>07/31/26</a:t>
            </a:fld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