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8989B-C91B-4AC7-934E-F0F3748763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C5184-A92F-4A1A-8765-2885C1E14B5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D46487-9136-4AB9-9235-44E30E2667E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64D036-79AF-413F-822E-DFD77ED9F27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CEF8AD-2717-4444-9A29-7741AD19F40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DFED1F-FC2D-48EB-B0F0-95C66760B4D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C7E3D8-D443-4F6F-9ACE-139BDEA9D20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D0E4D6-9CCD-4497-AF3A-65511EA6540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4513D1-D0D6-4D41-9030-0FEAAF54635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704F08-A16D-498E-A958-D59BF18EEDE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9B0C11-F4A6-45A8-852B-5E2933403F8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3D974D-D54F-4BFB-B3C2-D344455DF9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3EAFA-F534-4AB9-B3B6-4B50771168E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49E056-09E1-44DA-8E41-8556F6E654A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CF2D3F-50C6-4956-B4BC-2202132F180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B7BF34-7DC0-48C0-AED6-0285BBEBFCB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A3192A-317A-4D74-BDEE-8BF7C941CCA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7CC98C-C13E-4A4E-8D88-E7C82808F9D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019E54-12EC-4B68-A3EA-C561A8B8D07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34FE08-852B-438C-84FB-CAD1AD45E14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841C75-2499-4BA9-A33B-5A882FCA1ED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8884A3-E317-489F-A45A-831393C3506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46E0EC-2C62-4D0C-9CB6-365A31258B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792FB-43C1-488D-884F-BF79479DAD4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140B1B-5319-49D9-AD21-08FCF26F938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3CB93-E6D0-4E98-AF36-67E14E29353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30344-47F2-420F-8172-4CF44541294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90F1E-27C7-4BE3-B46C-8074031AD69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E77D8-5A34-4599-BAE2-46612D0F0A5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099FE-6B67-44E0-9EA0-4845B027C1F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0CF91-2CF5-4D84-A704-D81755074FD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FF273-405F-434C-8101-8C3123EE986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ED5FB-A696-4D59-BA9B-6E938B6C7DA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78652-AB22-4329-85EE-80785470FF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CA08F-BE3F-4995-873A-C8F04FE6507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7A385-ABA2-440C-911D-70B35CE904A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5F243-5926-4CA5-BF23-54581A2BDE5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178A2-5E9B-447D-BEF9-8DF2CFE8AA3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BB7578-FB43-488F-8216-06B792CCF7A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56C0B4-5259-4629-9F27-39224E7969F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784B63-E210-4D0E-8574-ABDDD8D3857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BB5CAC-7103-4931-9265-6E3570DA32F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BCD602-A8F5-45FB-9A74-779F18307B6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06A5DE-D528-4729-AA11-44245762A33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3B9011-C006-4C9D-AC75-7FF8EDD745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E3BB93-0682-4F9A-A464-04F08850733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1C2D4D-BFC2-4607-95DB-F35A9E418ED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6A28C7-077F-48C4-BC57-E0818848EE9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53D0DB-62C2-4CA8-B685-D44F62E6324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1ED336-0279-4071-A355-EAD5D5442F9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86D7C4-A84E-4136-8F37-047D941AEB8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DD854E-7375-4E78-86C8-6BF2098E1B9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2D0B34-046B-467C-87CB-0A7135BF0FA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73B3E6-B412-4D52-ACA8-7195DEADC68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E7DAF4-8C91-446A-98F4-F87F272D045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E8F478-3766-4FE2-A754-C181ECB9EF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C3C9A2-E565-434D-8CBF-11671A5763C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203963-CAD0-44B6-9EE2-E4FC85F681B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74B4B7-2549-4D73-A92A-F67FABF4A00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0B57B4-3A74-4039-8716-2ABA37AD095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3116A6-53C2-4E9F-A79B-81F838366DB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175F65-DDE5-492C-892C-49B20C91D5B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4AACB2-9FF8-483B-89E2-FC1BC409E82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E46210-E252-44FF-A169-1EB2E8B156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C3F609-C4AE-4D0C-BCE5-5ADD20ECD2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22C709-540F-4885-B9DB-5C867641D9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44D076-4E93-49DD-99F2-73454C0FBB4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86EE9B-D23F-4BFB-BE97-FB312EE7B7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BC636-9949-407A-9A28-CE33FB6D49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53F7EF-031E-4F8C-8A92-6DDDB555A3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841337-CBBE-4216-86E9-3FAB835CBD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AD5D5A-7595-4362-8EBE-E08CB1BFB2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5D75E2-978D-4000-B1DF-230ABB7214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D886C6-A660-47CB-9F45-898455F62D4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7B64-EA13-4D43-BEC6-BAA9E488F8A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65A3-4331-4121-8907-7828793C366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442E-E21B-412A-A89C-862A8A72F42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BB18-5EAD-410C-A2A2-8B961A449A7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29E8-FF00-4743-ACC3-A478337811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67AD7-0BF5-4C01-B642-DD4FAE8BA9D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17D9-58D7-43DF-A03E-D48A16A141C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B5A23-E640-4F1F-8EE0-F23D30627B1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93BA-CD82-4131-8ACA-2E6CD9EEF8E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39EB-60C5-4F0F-AA17-9CFB9E95916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1BC6-29D5-40EB-B6D1-5DAB3E389B6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3549-04B6-4E9E-8CE5-1302DA78A8E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0DB91-A84A-452E-8D77-D6866A92D89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E620E5-B36D-4A33-8150-0CD1DFFE4F2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ED6988-9291-4781-8303-CFD4F410B66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A3F57E-FEE2-484E-A0D6-1E73674318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50054-8723-43E0-9DB9-A56C44DFEC5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085B59-E565-4DC6-A932-3A8CCD4D17D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CE31F2-5A15-4111-A7FC-9D59C32ED90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41FE4E-087A-4A6E-87CC-C104E8709A5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2A6E0D-33F4-466D-8EDE-71F19498ACF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C5B6A3-1782-4C22-9329-86EF62F0CB4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55B1D1-4E0D-495F-8DDD-3CF5C8F9B46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5D6623-FDF9-4766-9E99-3A63C1D1D4D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D7351D-F194-405E-8586-8414FD1323F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BD3A7C-5CB3-427F-80D5-DCCBE8DAB33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8EAB5-681A-4C21-9A82-F0DB0C5BC17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6238F-3575-4362-B65E-9587FBED795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2037D-0279-4675-BF9A-15CAE8D7ED7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5DCEFA-183E-4A20-A40A-FEEAFB03885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33B2BB-A8BC-46A5-9D4B-388059967A2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640688-81E3-4494-A120-0B75BC773B9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2B4F61-38D9-4350-A9D6-DED65B52251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C3E512-AB7E-4CA0-85AF-AA9D43DBF69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82B2A1-AE2E-4B75-8B1B-61CE489914B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03A334-D858-4B95-9FBE-A10AE6ECA1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27A1D-7D18-4C20-92F1-AFCED8C330F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8FB2E5-AD8A-42BF-9C24-7E3A1A65E04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A9E96F-B777-4FF9-AB21-8D38A5D8219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9ACD40-B1E5-4BA1-BF04-FCFE58B97CB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62A958-C775-4D3B-A1B1-0C4E6EC4996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08D23A-C609-4D99-A417-00C55CAC46A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453F2-2EAE-4E85-AAF5-8F46768D051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51760-B2F9-42DA-94C3-6553DE9EA44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F0E49-0909-4DF3-AD0B-C408E7BA778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5974B-DCF0-4BA4-B54B-4AE79FA92ED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A53DC-3119-4B36-AB60-C98F456692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6288B-B2BB-44BB-BC33-2EF1E7CED5E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C43DA-91DF-4E6D-B881-342C40FDD99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F2A5A-9552-4C0F-93F0-D77A18517DD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F902C-303A-4BDE-9744-5EA235DFD8C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43077-C2F6-4DC0-A79B-53788614A8B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8AFBE-AD76-486B-81D5-BC862F261AF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B4C91-9367-440F-B41F-716E377144D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0565B-0FBA-4588-B1B8-AA127B8B6AB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6A30FC-0952-4895-A873-26330F62FCA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531EEE-62EF-4D48-84DB-CEF9A9E6BED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23826C-07ED-4102-A406-F84D51EB8B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BKG-12x-Rul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0"/>
          <p:cNvGrpSpPr/>
          <p:nvPr/>
        </p:nvGrpSpPr>
        <p:grpSpPr>
          <a:xfrm>
            <a:off x="5648400" y="6510240"/>
            <a:ext cx="2419200" cy="323640"/>
            <a:chOff x="5648400" y="6510240"/>
            <a:chExt cx="2419200" cy="323640"/>
          </a:xfrm>
        </p:grpSpPr>
        <p:sp>
          <p:nvSpPr>
            <p:cNvPr id="2" name="Text Box 24"/>
            <p:cNvSpPr/>
            <p:nvPr/>
          </p:nvSpPr>
          <p:spPr>
            <a:xfrm>
              <a:off x="5648400" y="6510240"/>
              <a:ext cx="2419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33"/>
                  </a:solidFill>
                  <a:latin typeface="Tahoma"/>
                </a:rPr>
                <a:t>© 2010 Mentor Graphics Corp. Company Confidential</a:t>
              </a:r>
              <a:endParaRPr b="0" lang="en-US" sz="7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3" name="Text Box 22"/>
            <p:cNvSpPr/>
            <p:nvPr/>
          </p:nvSpPr>
          <p:spPr>
            <a:xfrm>
              <a:off x="5653080" y="6619680"/>
              <a:ext cx="14479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286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33"/>
                  </a:solidFill>
                  <a:latin typeface="Tahoma"/>
                </a:rPr>
                <a:t>www.mentor.com</a:t>
              </a:r>
              <a:endParaRPr b="0" lang="en-US" sz="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2880-B5B5-43CD-AF56-2013E26D2656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98E9-159F-4F44-9964-309821D234AA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7"/>
          </p:nvPr>
        </p:nvSpPr>
        <p:spPr>
          <a:xfrm>
            <a:off x="41904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1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379D-4ADF-4E98-A019-883BA421F39E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1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463C-7E59-4208-88F4-6BC22F201E7D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6F60-1FD9-4BD8-96F8-F4E7E41C58B0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-360" y="6629040"/>
            <a:ext cx="384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C97C-2CBD-4198-BCC7-DAE923D74B90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C2A6-CB3E-4359-B06A-CEF3E33C7927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8766-2B6B-4F2A-BA86-FE285818E051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C:\Documents and Settings\lseigneu\Desktop\PPT MAIN DEV\TESTING FILE SIZES\SET PS bkgs in PP saved as JPGs then used for template\A\_B AS POSTED w C bkgs dropped in\Slide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Documents and Settings\lseigneu\Desktop\PPT MAIN DEV\TESTING FILE SIZES\SET PS bkgs in PP saved as JPGs then used for template\A\_B AS POSTED w C bkgs dropped in\Slide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22AC-B726-40D2-8DAC-B4BE118B4429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C:\Documents and Settings\lseigneu\Desktop\template 032110 home\lite clos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Your Initials, Presentation Title, Month Yea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2E08-B1FF-479D-A50D-118A2F620B85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ftr" idx="1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14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8EAB-4A6E-484D-818C-5DB8030D3635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nhanced Tcl/Tk Widgets for EDA Applications</a:t>
            </a:r>
            <a:br>
              <a:rPr sz="3200"/>
            </a:br>
            <a:br>
              <a:rPr sz="32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 Bansal, Roshni Lalwani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_bansal@mentor.com, roshni_lalwani@mentor.com </a:t>
            </a:r>
            <a:endParaRPr b="1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5" name="TextBox 3"/>
          <p:cNvSpPr/>
          <p:nvPr/>
        </p:nvSpPr>
        <p:spPr>
          <a:xfrm>
            <a:off x="3774240" y="5464080"/>
            <a:ext cx="428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Gaurav Bansal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17'th Annual </a:t>
            </a:r>
            <a:r>
              <a:rPr b="1" i="1" lang="en-IN" sz="1600" spc="-1" strike="noStrike">
                <a:solidFill>
                  <a:srgbClr val="ffffff"/>
                </a:solidFill>
                <a:latin typeface="Tahoma"/>
              </a:rPr>
              <a:t>Tcl/Tk</a:t>
            </a: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 Conference (Tcl'2010)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October 11 - October 15, 2010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1268280" y="2354400"/>
            <a:ext cx="6337440" cy="1842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0" name=""/>
          <p:cNvSpPr/>
          <p:nvPr/>
        </p:nvSpPr>
        <p:spPr>
          <a:xfrm>
            <a:off x="1308240" y="1816200"/>
            <a:ext cx="6337080" cy="2682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1308240" y="2084400"/>
            <a:ext cx="6297480" cy="27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89" name=""/>
          <p:cNvCxnSpPr>
            <a:stCxn id="585" idx="2"/>
            <a:endCxn id="58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99" name=""/>
          <p:cNvCxnSpPr>
            <a:stCxn id="594" idx="2"/>
            <a:endCxn id="59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00" name=""/>
          <p:cNvCxnSpPr>
            <a:stCxn id="595" idx="2"/>
            <a:endCxn id="59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10" name=""/>
          <p:cNvCxnSpPr>
            <a:stCxn id="605" idx="2"/>
            <a:endCxn id="60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11" name=""/>
          <p:cNvCxnSpPr>
            <a:stCxn id="606" idx="2"/>
            <a:endCxn id="609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12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23" name=""/>
          <p:cNvCxnSpPr>
            <a:endCxn id="621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24" name=""/>
          <p:cNvCxnSpPr>
            <a:endCxn id="622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36" name=""/>
          <p:cNvCxnSpPr>
            <a:stCxn id="628" idx="2"/>
            <a:endCxn id="63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37" name=""/>
          <p:cNvCxnSpPr>
            <a:stCxn id="629" idx="2"/>
            <a:endCxn id="63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3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4" name=""/>
          <p:cNvCxnSpPr>
            <a:stCxn id="656" idx="2"/>
            <a:endCxn id="66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65" name=""/>
          <p:cNvCxnSpPr>
            <a:stCxn id="657" idx="2"/>
            <a:endCxn id="66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7" name=""/>
          <p:cNvCxnSpPr>
            <a:stCxn id="660" idx="2"/>
            <a:endCxn id="66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4" name=""/>
          <p:cNvCxnSpPr>
            <a:stCxn id="686" idx="2"/>
            <a:endCxn id="69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5" name=""/>
          <p:cNvCxnSpPr>
            <a:stCxn id="687" idx="2"/>
            <a:endCxn id="69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9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8" name=""/>
          <p:cNvCxnSpPr>
            <a:stCxn id="690" idx="2"/>
            <a:endCxn id="69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9" name=""/>
          <p:cNvCxnSpPr>
            <a:stCxn id="691" idx="2"/>
            <a:endCxn id="697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00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26" name=""/>
          <p:cNvCxnSpPr>
            <a:stCxn id="718" idx="2"/>
            <a:endCxn id="72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27" name=""/>
          <p:cNvCxnSpPr>
            <a:stCxn id="719" idx="2"/>
            <a:endCxn id="72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28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30" name=""/>
          <p:cNvCxnSpPr>
            <a:stCxn id="722" idx="2"/>
            <a:endCxn id="728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31" name=""/>
          <p:cNvCxnSpPr>
            <a:stCxn id="723" idx="2"/>
            <a:endCxn id="729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32" name=""/>
          <p:cNvSpPr/>
          <p:nvPr/>
        </p:nvSpPr>
        <p:spPr>
          <a:xfrm rot="16200000">
            <a:off x="5957640" y="3566520"/>
            <a:ext cx="304920" cy="3990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4040 h 3990960"/>
              <a:gd name="textAreaBottom" fmla="*/ 3886920 h 399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508788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7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8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9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4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7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51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3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5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6" name=""/>
          <p:cNvSpPr/>
          <p:nvPr/>
        </p:nvSpPr>
        <p:spPr>
          <a:xfrm>
            <a:off x="7772400" y="2971800"/>
            <a:ext cx="9144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35 {}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1" name=""/>
          <p:cNvCxnSpPr>
            <a:stCxn id="752" idx="2"/>
            <a:endCxn id="75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2" name=""/>
          <p:cNvCxnSpPr>
            <a:stCxn id="753" idx="2"/>
            <a:endCxn id="75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3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4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5" name=""/>
          <p:cNvCxnSpPr>
            <a:stCxn id="757" idx="2"/>
            <a:endCxn id="763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6" name=""/>
          <p:cNvCxnSpPr>
            <a:stCxn id="758" idx="2"/>
            <a:endCxn id="764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7" name=""/>
          <p:cNvSpPr/>
          <p:nvPr/>
        </p:nvSpPr>
        <p:spPr>
          <a:xfrm rot="16200000">
            <a:off x="6286320" y="3237840"/>
            <a:ext cx="304920" cy="4648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8" name=""/>
          <p:cNvSpPr/>
          <p:nvPr/>
        </p:nvSpPr>
        <p:spPr>
          <a:xfrm>
            <a:off x="543240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9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1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3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5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7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9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0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1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3" name=""/>
          <p:cNvSpPr/>
          <p:nvPr/>
        </p:nvSpPr>
        <p:spPr>
          <a:xfrm>
            <a:off x="8077320" y="3886200"/>
            <a:ext cx="609480" cy="30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4" name=""/>
          <p:cNvSpPr/>
          <p:nvPr/>
        </p:nvSpPr>
        <p:spPr>
          <a:xfrm>
            <a:off x="8153280" y="4572000"/>
            <a:ext cx="60984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7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154080" y="1469880"/>
            <a:ext cx="92962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Changes like addition/deletion of a column does not require any iterations by the widget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Display data is provided by the application - takes fraction of a second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2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7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2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3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4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8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9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0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1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5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6" name=""/>
          <p:cNvSpPr/>
          <p:nvPr/>
        </p:nvSpPr>
        <p:spPr>
          <a:xfrm>
            <a:off x="2651040" y="41860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0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1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2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3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7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8" name=""/>
          <p:cNvSpPr/>
          <p:nvPr/>
        </p:nvSpPr>
        <p:spPr>
          <a:xfrm>
            <a:off x="1192320" y="4927680"/>
            <a:ext cx="7951680" cy="1919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4927680"/>
            <a:ext cx="1192320" cy="1930320"/>
          </a:xfrm>
          <a:prstGeom prst="rect">
            <a:avLst/>
          </a:prstGeom>
          <a:noFill/>
          <a:ln w="2844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4159080"/>
            <a:ext cx="9144000" cy="806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sign and Wave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5532480" y="2200320"/>
            <a:ext cx="2495520" cy="257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5494320" y="4773600"/>
            <a:ext cx="2573280" cy="20844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5494320" y="1316160"/>
            <a:ext cx="257328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2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6" name=""/>
          <p:cNvSpPr/>
          <p:nvPr/>
        </p:nvSpPr>
        <p:spPr>
          <a:xfrm>
            <a:off x="4721400" y="1662120"/>
            <a:ext cx="1041120" cy="3111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7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9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o we create a hash table for item-&gt;name and item pointer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721400" y="1662120"/>
            <a:ext cx="2692080" cy="3111480"/>
            <a:chOff x="4721400" y="1662120"/>
            <a:chExt cx="2692080" cy="3111480"/>
          </a:xfrm>
        </p:grpSpPr>
        <p:sp>
          <p:nvSpPr>
            <p:cNvPr id="872" name=""/>
            <p:cNvSpPr/>
            <p:nvPr/>
          </p:nvSpPr>
          <p:spPr>
            <a:xfrm>
              <a:off x="4721400" y="1662120"/>
              <a:ext cx="2692080" cy="31114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 -&gt;name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53360" y="1662120"/>
              <a:ext cx="0" cy="230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726080" y="200808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726080" y="22766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726080" y="36590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76200" y="2392200"/>
            <a:ext cx="8458200" cy="3463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938160" y="328464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tegories and sub-categories should be displayed as in-place expandable/collapsible column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938160" y="3236760"/>
            <a:ext cx="5477040" cy="233388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3035160" y="4235400"/>
            <a:ext cx="5486400" cy="23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andable/ collapsible we need to provide a clickable icon 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bug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5532480" y="4811760"/>
            <a:ext cx="2495520" cy="2035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5494320" y="1316160"/>
            <a:ext cx="2573280" cy="34574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4764240" y="2738520"/>
            <a:ext cx="1766880" cy="191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5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376200" y="304488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7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43880" cy="36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4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7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1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2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olumn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6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7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8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9" name=""/>
          <p:cNvSpPr/>
          <p:nvPr/>
        </p:nvSpPr>
        <p:spPr>
          <a:xfrm>
            <a:off x="115416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0" name=""/>
          <p:cNvSpPr/>
          <p:nvPr/>
        </p:nvSpPr>
        <p:spPr>
          <a:xfrm>
            <a:off x="280512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1" name=""/>
          <p:cNvSpPr/>
          <p:nvPr/>
        </p:nvSpPr>
        <p:spPr>
          <a:xfrm>
            <a:off x="4456080" y="2468520"/>
            <a:ext cx="157500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2" name=""/>
          <p:cNvSpPr/>
          <p:nvPr/>
        </p:nvSpPr>
        <p:spPr>
          <a:xfrm>
            <a:off x="610884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4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6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 two canvases and grid them inside the clipper as column 0 and column 1 of row 0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0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1" name=""/>
          <p:cNvSpPr/>
          <p:nvPr/>
        </p:nvSpPr>
        <p:spPr>
          <a:xfrm>
            <a:off x="2882880" y="3390840"/>
            <a:ext cx="506736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2" name=""/>
          <p:cNvSpPr/>
          <p:nvPr/>
        </p:nvSpPr>
        <p:spPr>
          <a:xfrm>
            <a:off x="2960640" y="341640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3" name=""/>
          <p:cNvSpPr/>
          <p:nvPr/>
        </p:nvSpPr>
        <p:spPr>
          <a:xfrm>
            <a:off x="4611600" y="341784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4" name=""/>
          <p:cNvSpPr/>
          <p:nvPr/>
        </p:nvSpPr>
        <p:spPr>
          <a:xfrm>
            <a:off x="6264360" y="341784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5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6" name=""/>
          <p:cNvSpPr/>
          <p:nvPr/>
        </p:nvSpPr>
        <p:spPr>
          <a:xfrm>
            <a:off x="847800" y="3398760"/>
            <a:ext cx="172872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7" name=""/>
          <p:cNvSpPr/>
          <p:nvPr/>
        </p:nvSpPr>
        <p:spPr>
          <a:xfrm>
            <a:off x="925560" y="342432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1"/>
          <a:stretch/>
        </p:blipFill>
        <p:spPr>
          <a:xfrm>
            <a:off x="771480" y="6513480"/>
            <a:ext cx="1959120" cy="19692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2690640" y="6519960"/>
            <a:ext cx="5337360" cy="19692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st scrollbar alters the xview of the column 0 such that it scrolls the instance names of the tree column and not the column itself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nd scrollbar alters the xview of the 2nd canvas so that the rest of the columns scroll past the tree column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Browser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154160" y="2238480"/>
            <a:ext cx="4340160" cy="2496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154160" y="4735440"/>
            <a:ext cx="4340160" cy="21225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1154160" y="1316160"/>
            <a:ext cx="434016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380880" y="3916440"/>
            <a:ext cx="8458200" cy="14335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 Highlighting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xt highlighting helps to point out the issues easily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link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t to the relevant file or information in other windows of the tool to debug the issues very quickly. 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925040" cy="479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5724360" y="4197240"/>
            <a:ext cx="9208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9" name=""/>
          <p:cNvSpPr/>
          <p:nvPr/>
        </p:nvSpPr>
        <p:spPr>
          <a:xfrm>
            <a:off x="6821640" y="6002280"/>
            <a:ext cx="1974600" cy="365040"/>
          </a:xfrm>
          <a:prstGeom prst="flowChartTerminator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Exit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0" name=""/>
          <p:cNvSpPr/>
          <p:nvPr/>
        </p:nvSpPr>
        <p:spPr>
          <a:xfrm>
            <a:off x="3471840" y="5286240"/>
            <a:ext cx="5238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1" name=""/>
          <p:cNvSpPr/>
          <p:nvPr/>
        </p:nvSpPr>
        <p:spPr>
          <a:xfrm>
            <a:off x="1844640" y="1432080"/>
            <a:ext cx="4095720" cy="68580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Load file in to the text widget (read &amp; write in chuck size =256k)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2" name=""/>
          <p:cNvSpPr/>
          <p:nvPr/>
        </p:nvSpPr>
        <p:spPr>
          <a:xfrm>
            <a:off x="1576440" y="2557440"/>
            <a:ext cx="4646520" cy="70344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Calculate the boundary of visible area of text widget. 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Start line = B1 and last line = B2.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3" name=""/>
          <p:cNvSpPr/>
          <p:nvPr/>
        </p:nvSpPr>
        <p:spPr>
          <a:xfrm>
            <a:off x="1536840" y="5848200"/>
            <a:ext cx="4762440" cy="69228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Highlight the lines as per their category an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Parse each word and mark it as hyperlink if the word is filename or instance name or DRC i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4" name=""/>
          <p:cNvSpPr/>
          <p:nvPr/>
        </p:nvSpPr>
        <p:spPr>
          <a:xfrm>
            <a:off x="2228760" y="3746520"/>
            <a:ext cx="3341880" cy="1487520"/>
          </a:xfrm>
          <a:prstGeom prst="flowChartDecision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If the text between (B1, B2) has already been parse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965" name=""/>
          <p:cNvCxnSpPr>
            <a:stCxn id="961" idx="2"/>
            <a:endCxn id="962" idx="0"/>
          </p:cNvCxnSpPr>
          <p:nvPr/>
        </p:nvCxnSpPr>
        <p:spPr>
          <a:xfrm>
            <a:off x="3892680" y="2117520"/>
            <a:ext cx="8640" cy="4402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6" name=""/>
          <p:cNvCxnSpPr>
            <a:stCxn id="962" idx="2"/>
            <a:endCxn id="964" idx="0"/>
          </p:cNvCxnSpPr>
          <p:nvPr/>
        </p:nvCxnSpPr>
        <p:spPr>
          <a:xfrm flipV="1" rot="10800000">
            <a:off x="3899880" y="3260520"/>
            <a:ext cx="1080" cy="4863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7" name=""/>
          <p:cNvCxnSpPr>
            <a:stCxn id="964" idx="2"/>
            <a:endCxn id="963" idx="0"/>
          </p:cNvCxnSpPr>
          <p:nvPr/>
        </p:nvCxnSpPr>
        <p:spPr>
          <a:xfrm>
            <a:off x="3900600" y="5234040"/>
            <a:ext cx="18000" cy="61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8" name=""/>
          <p:cNvCxnSpPr>
            <a:stCxn id="963" idx="3"/>
            <a:endCxn id="959" idx="1"/>
          </p:cNvCxnSpPr>
          <p:nvPr/>
        </p:nvCxnSpPr>
        <p:spPr>
          <a:xfrm flipV="1">
            <a:off x="6298920" y="6184080"/>
            <a:ext cx="523080" cy="10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9" name=""/>
          <p:cNvCxnSpPr>
            <a:stCxn id="964" idx="3"/>
            <a:endCxn id="959" idx="0"/>
          </p:cNvCxnSpPr>
          <p:nvPr/>
        </p:nvCxnSpPr>
        <p:spPr>
          <a:xfrm>
            <a:off x="5570280" y="4491000"/>
            <a:ext cx="2238840" cy="15120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 – Incremental Pars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2832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ank you.</a:t>
            </a:r>
            <a:endParaRPr b="1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72" name="Slide Number Placeholder 2"/>
          <p:cNvSpPr/>
          <p:nvPr/>
        </p:nvSpPr>
        <p:spPr>
          <a:xfrm>
            <a:off x="0" y="662616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84E0-0BFB-4C3F-97A3-FCD874F550DB}" type="slidenum">
              <a:rPr b="0" lang="en-US" sz="8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Transcript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154160" y="4735440"/>
            <a:ext cx="4340160" cy="211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1154160" y="1355760"/>
            <a:ext cx="4340160" cy="337968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1154160" y="4965840"/>
            <a:ext cx="4340160" cy="1689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1154160" y="1355760"/>
            <a:ext cx="4340160" cy="88272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1154160" y="2392200"/>
            <a:ext cx="4340160" cy="211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347760" y="1201680"/>
            <a:ext cx="2457360" cy="614520"/>
          </a:xfrm>
          <a:prstGeom prst="ellipse">
            <a:avLst/>
          </a:prstGeom>
          <a:solidFill>
            <a:srgbClr val="33cccc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tiHierarchy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5992920" y="4735440"/>
            <a:ext cx="150012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Text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63" name=""/>
          <p:cNvCxnSpPr>
            <a:stCxn id="561" idx="4"/>
            <a:endCxn id="560" idx="0"/>
          </p:cNvCxnSpPr>
          <p:nvPr/>
        </p:nvCxnSpPr>
        <p:spPr>
          <a:xfrm flipH="1" rot="16200000">
            <a:off x="2172240" y="1226880"/>
            <a:ext cx="554760" cy="1748520"/>
          </a:xfrm>
          <a:prstGeom prst="bentConnector3">
            <a:avLst>
              <a:gd name="adj1" fmla="val 50389"/>
            </a:avLst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4"/>
            <a:endCxn id="557" idx="3"/>
          </p:cNvCxnSpPr>
          <p:nvPr/>
        </p:nvCxnSpPr>
        <p:spPr>
          <a:xfrm rot="5400000">
            <a:off x="5899320" y="4966200"/>
            <a:ext cx="453240" cy="12358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76200" y="181620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9:50:02Z</dcterms:created>
  <dc:creator>Prashant Thakre</dc:creator>
  <dc:description/>
  <dc:language>en-US</dc:language>
  <cp:lastModifiedBy>gbansal</cp:lastModifiedBy>
  <dcterms:modified xsi:type="dcterms:W3CDTF">2010-10-15T00:34:53Z</dcterms:modified>
  <cp:revision>1315</cp:revision>
  <dc:subject/>
  <dc:title>Slide 1</dc:title>
</cp:coreProperties>
</file>