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04920" y="3596040"/>
            <a:ext cx="853416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04920" y="359604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7840" y="359604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90680" y="109512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76080" y="109512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04920" y="359604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90680" y="359604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76080" y="359604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4560" y="101160"/>
            <a:ext cx="5722920" cy="38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4920" y="359604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7840" y="359604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4920" y="3596040"/>
            <a:ext cx="853416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4920" y="3596040"/>
            <a:ext cx="853416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4920" y="359604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7840" y="359604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90680" y="109512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080" y="109512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4920" y="359604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90680" y="359604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080" y="359604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04560" y="101160"/>
            <a:ext cx="5722920" cy="38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04920" y="359604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7840" y="359604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04920" y="3596040"/>
            <a:ext cx="853416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601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SzPct val="110000"/>
              <a:buFont typeface="Arial"/>
              <a:buChar char="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cc"/>
              </a:buClr>
              <a:buFont typeface="Frutiger 87ExtraBlackC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Frutiger 87ExtraBlackC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Frutiger 87ExtraBlackC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957240"/>
            <a:ext cx="9137520" cy="0"/>
          </a:xfrm>
          <a:prstGeom prst="line">
            <a:avLst/>
          </a:prstGeom>
          <a:ln w="12600">
            <a:solidFill>
              <a:srgbClr val="ce1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165440" y="6630840"/>
            <a:ext cx="1187640" cy="1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D4D31-813C-477A-B6E5-F333A7BF6740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499600" y="6630840"/>
            <a:ext cx="644400" cy="1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ge </a:t>
            </a:r>
            <a:fld id="{C9A16683-F0F3-4E15-A4A1-8E7C8B522F1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427960" y="6608880"/>
            <a:ext cx="0" cy="199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6315120" y="209520"/>
            <a:ext cx="2604960" cy="44784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-19440" y="6620040"/>
            <a:ext cx="2158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230040" indent="-23004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lang="en-US" sz="1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Annual Tcl/Tk Conferen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7267680" y="212760"/>
            <a:ext cx="1627200" cy="3938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65240" y="2118960"/>
            <a:ext cx="7407360" cy="91908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1455840"/>
            <a:ext cx="6381720" cy="45576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7219800" y="212760"/>
            <a:ext cx="1627200" cy="3938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8966160" y="1457280"/>
            <a:ext cx="177840" cy="4549680"/>
          </a:xfrm>
          <a:prstGeom prst="rect">
            <a:avLst/>
          </a:prstGeom>
          <a:solidFill>
            <a:srgbClr val="ce11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1455840"/>
            <a:ext cx="914400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6006960"/>
            <a:ext cx="914400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5451480" y="4138200"/>
            <a:ext cx="3392640" cy="124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hn J. Se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ipal Software Engine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 October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title"/>
          </p:nvPr>
        </p:nvSpPr>
        <p:spPr>
          <a:xfrm>
            <a:off x="5081400" y="1981080"/>
            <a:ext cx="3762360" cy="14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gent SMITH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volution of a Test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ol in Tcl/T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04760" y="0"/>
            <a:ext cx="0" cy="685800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399920" y="6497640"/>
            <a:ext cx="470376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230040" indent="-230040" algn="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© 2008 Raytheon Company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Customer Success Is Our Mission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 is a registered trademark of Raytheon Company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348A4E-F79B-4C51-ABA9-311CC8D1CAFE}" type="datetime1">
              <a:rPr lang="en-US"/>
              <a:t>07/28/26</a:t>
            </a:fld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utomate (continued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“transport controls” for playb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C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 back to previous test c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p playb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e one test c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gin executing test cases in sequ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la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tween test cases (speed contro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play of current test case, line number, and file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button to “record” new test c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esters are not program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y didn’t like preparing test case files with a text edi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y saw the blindingly obvious solution that I mis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ways listen to feedback from the user commun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75884" r="0" b="0"/>
          <a:stretch/>
        </p:blipFill>
        <p:spPr>
          <a:xfrm>
            <a:off x="5983200" y="1395360"/>
            <a:ext cx="2853000" cy="870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EF2891-6836-4266-9C07-B53823926AB5}" type="datetime1">
              <a:rPr lang="en-US"/>
              <a:t>07/28/26</a:t>
            </a:fld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 Hook Into Tell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ller uses a peculiar homegrown IPC scheme intern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code was available, but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ctions are compiled into static libra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are my option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shared library with wrappers for Teller IPC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it to register for Teller internal mess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socket to receive other messages intended for Mak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793800" y="2709720"/>
          <a:ext cx="7408800" cy="1241640"/>
        </p:xfrm>
        <a:graphic>
          <a:graphicData uri="http://schemas.openxmlformats.org/drawingml/2006/table">
            <a:tbl>
              <a:tblPr/>
              <a:tblGrid>
                <a:gridCol w="4422600"/>
                <a:gridCol w="1555920"/>
                <a:gridCol w="1430280"/>
              </a:tblGrid>
              <a:tr h="3063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ssible Solu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e it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ar it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iTc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fid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47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stom C extension in shared libra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9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’s easy to extend Tcl with other langu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398669-6D30-4722-ADCB-B3256AB751B7}" type="datetime1">
              <a:rPr lang="en-US"/>
              <a:t>07/28/26</a:t>
            </a:fld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oks (continued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end the test case D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cify outgoing messages we expect to be gener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cify incoming messages we expect to come b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Log men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to lo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Te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pons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e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go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sages to Other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om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sages from Other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to log 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ent summ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x/ASCII du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D75176-CFBE-439D-90C6-A5952EDC65F6}" type="datetime1">
              <a:rPr lang="en-US"/>
              <a:t>07/28/26</a:t>
            </a:fld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. Parse the Dat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ic Tactical Information Message Format (GTIM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ller already has a C tool to dump GTIMF mess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ses fields and displays them numerical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n’t interpret values, so not truly human-read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rd to correlate with Agent SMITH Event Lo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 GTIMF parser in 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ssage structure from ICD encoded in simple data struct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lper procedures parse message hierarchical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uld easily be extended to other protoc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ss than a week to design, code, test, and document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ce again, Tcl excels at network program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DB93BB-90D4-4AE6-945E-298D2E60112D}" type="datetime1">
              <a:rPr lang="en-US"/>
              <a:t>07/28/26</a:t>
            </a:fld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de-By-Side Comparis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5378400" y="1206360"/>
            <a:ext cx="2870280" cy="4832640"/>
            <a:chOff x="5378400" y="1206360"/>
            <a:chExt cx="2870280" cy="4832640"/>
          </a:xfrm>
        </p:grpSpPr>
        <p:pic>
          <p:nvPicPr>
            <p:cNvPr id="148" name="" descr=""/>
            <p:cNvPicPr/>
            <p:nvPr/>
          </p:nvPicPr>
          <p:blipFill>
            <a:blip r:embed="rId1"/>
            <a:stretch/>
          </p:blipFill>
          <p:spPr>
            <a:xfrm>
              <a:off x="5378400" y="5006880"/>
              <a:ext cx="2870280" cy="103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" descr=""/>
            <p:cNvPicPr/>
            <p:nvPr/>
          </p:nvPicPr>
          <p:blipFill>
            <a:blip r:embed="rId2"/>
            <a:stretch/>
          </p:blipFill>
          <p:spPr>
            <a:xfrm>
              <a:off x="5395680" y="1206360"/>
              <a:ext cx="2853000" cy="3606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65200" y="1089000"/>
            <a:ext cx="3867120" cy="5168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1600920" y="6178680"/>
            <a:ext cx="20289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230040" indent="-2300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l Sket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011280" y="6175440"/>
            <a:ext cx="1660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230040" indent="-2300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nal To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556A4D-FD03-40FE-A7ED-E1B60BE1D530}" type="datetime1">
              <a:rPr lang="en-US"/>
              <a:t>07/28/26</a:t>
            </a:fld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cl/Tk helped ensure success of initial ef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e enough for rapid prototyp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exible enough for changing requir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werful enough for delivered appl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ent SMITH has been well received by multiple user communities and used in some unexpected w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stem Engineers use it to explore “What if?” scenar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Engineers use it to debug other Teller chan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Engineers use it to provide repeatable stimul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cl/Tk is ideal for developing tools and test har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5B6D4A-ED2B-4E9D-9032-D6AE4E5E1D23}" type="datetime1">
              <a:rPr lang="en-US"/>
              <a:t>07/28/26</a:t>
            </a:fld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062000"/>
            <a:ext cx="4419360" cy="47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stomer has an existing system called Story Te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nteracts with other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asked us to add a new system called Story Mak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ts data from other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ds data to Story Tel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ll-defined interface (IC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66000" y="1295280"/>
            <a:ext cx="2224080" cy="876600"/>
          </a:xfrm>
          <a:prstGeom prst="rect">
            <a:avLst/>
          </a:prstGeom>
          <a:solidFill>
            <a:srgbClr val="dad9a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marL="230040" indent="-230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ory Te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66000" y="5286240"/>
            <a:ext cx="2224080" cy="876600"/>
          </a:xfrm>
          <a:prstGeom prst="rect">
            <a:avLst/>
          </a:prstGeom>
          <a:solidFill>
            <a:srgbClr val="dad9a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marL="230040" indent="-230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ory Ma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Cloud"/>
          <p:cNvSpPr/>
          <p:nvPr/>
        </p:nvSpPr>
        <p:spPr>
          <a:xfrm>
            <a:off x="5807160" y="2809800"/>
            <a:ext cx="2743200" cy="1838520"/>
          </a:xfrm>
          <a:prstGeom prst="pie">
            <a:avLst/>
          </a:prstGeom>
          <a:solidFill>
            <a:srgbClr val="dad9ad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30040" indent="-230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6" name=""/>
          <p:cNvCxnSpPr>
            <a:stCxn id="94" idx="1"/>
            <a:endCxn id="93" idx="1"/>
          </p:cNvCxnSpPr>
          <p:nvPr/>
        </p:nvCxnSpPr>
        <p:spPr>
          <a:xfrm flipH="1" rot="10800000">
            <a:off x="6051240" y="1732680"/>
            <a:ext cx="2160" cy="3991680"/>
          </a:xfrm>
          <a:prstGeom prst="bentConnector3">
            <a:avLst>
              <a:gd name="adj1" fmla="val -41500000"/>
            </a:avLst>
          </a:prstGeom>
          <a:ln w="2844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97" name=""/>
          <p:cNvCxnSpPr>
            <a:stCxn id="95" idx="4"/>
            <a:endCxn id="94" idx="0"/>
          </p:cNvCxnSpPr>
          <p:nvPr/>
        </p:nvCxnSpPr>
        <p:spPr>
          <a:xfrm>
            <a:off x="7178400" y="4660920"/>
            <a:ext cx="1080" cy="6120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98" name=""/>
          <p:cNvCxnSpPr>
            <a:stCxn id="93" idx="2"/>
            <a:endCxn id="95" idx="5"/>
          </p:cNvCxnSpPr>
          <p:nvPr/>
        </p:nvCxnSpPr>
        <p:spPr>
          <a:xfrm>
            <a:off x="7178400" y="2185560"/>
            <a:ext cx="1080" cy="7153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headEnd len="lg" type="triangle" w="lg"/>
            <a:tailEnd len="lg" type="triangle" w="lg"/>
          </a:ln>
        </p:spPr>
      </p:cxn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AEACA5-DF9B-4D8D-9DAA-96F1910A804F}" type="datetime1">
              <a:rPr lang="en-US"/>
              <a:t>07/28/26</a:t>
            </a:fld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Proble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y Maker not available during developmen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ly complicated accept/reject log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ssages contain many interrelated fiel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ller performs validity and consistency chec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terally hundreds of test c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rtification required to play with those Other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ral communities with different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Engineers need to perform Unit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stem Engineers need to perform Integration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Engineers need to perform Functional Qualification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isky effort – How can we ensure succes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D20D76-0413-4568-9964-E12E9CE661A4}" type="datetime1">
              <a:rPr lang="en-US"/>
              <a:t>07/28/26</a:t>
            </a:fld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posed Solu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232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y Teller project engineer sketched out an idea for a tool that would let yo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 test mess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be the required initial conditions and expected outpu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d it to Tel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e the respon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e any error mess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icate test PASS/FA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hard would it b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4645080" y="1089000"/>
            <a:ext cx="4076640" cy="5448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949A44-2825-478E-AC36-069E55376C0F}" type="datetime1">
              <a:rPr lang="en-US"/>
              <a:t>07/28/26</a:t>
            </a:fld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l/Tk to the Rescue!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cellent prototyping 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cl makes networking eas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k excels at building GU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ready used in Story series and related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ment proceeded in four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Prototype proposed solution for proof-of-concept dem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Automate the tool with playback of test c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Hook into Teller to monitor internal and external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 Parse the data into human-readable fo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 use Tcl/Tk for prototypes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delivered applic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E68D3C-E8B4-4B14-8808-A31935389423}" type="datetime1">
              <a:rPr lang="en-US"/>
              <a:t>07/28/26</a:t>
            </a:fld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y “Agent” SMITH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previous project of mine was nicknamed “matrix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was developed when the first Matrix movie was rele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features a prominent matrix of data in the form of a Tk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other project was a code counting t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unt SLOCu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rted a trend of including “titles” when naming th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cronym SMITH was a natural for this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one called it “Agent SMITH”, with a Hugo Weaving draw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name stu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274A05-C856-4FC2-B615-7537FB7C409D}" type="datetime1">
              <a:rPr lang="en-US"/>
              <a:t>07/28/26</a:t>
            </a:fld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 Prototype Proposed Solu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detailed Expected Response fiel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iminate confusing Expected Outputs fiel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are really two kinds of respon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actual response message back from Te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tions taken by Teller and the Other System as a 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automatically check expected vs. actual respon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ill need a way to describe external reactions, but how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generic Event Log p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rolling text wid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bines TEST Case, Initial Conditions, Result, and Erro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destination host:port fields for mess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 made some design changes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befor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he de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7238880" y="1089000"/>
            <a:ext cx="1764000" cy="235908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8499600" y="1812960"/>
            <a:ext cx="0" cy="547560"/>
          </a:xfrm>
          <a:prstGeom prst="line">
            <a:avLst/>
          </a:prstGeom>
          <a:ln w="28440">
            <a:solidFill>
              <a:srgbClr val="ce112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456320" y="1200240"/>
            <a:ext cx="1446480" cy="2714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458120" y="3006720"/>
            <a:ext cx="1446120" cy="2444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8167680" y="1457280"/>
            <a:ext cx="1440" cy="1533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454880" y="1506600"/>
            <a:ext cx="1446120" cy="296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ce1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376983-41E5-4AB3-ACB8-E69C25299B9C}" type="datetime1">
              <a:rPr lang="en-US"/>
              <a:t>07/28/26</a:t>
            </a:fld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3.27088E-006 L -0.37465 0.17649 E">
                                      <p:cBhvr>
                                        <p:cTn id="6" dur="10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" dur="1000" fill="hold"/>
                                        <p:tgtEl>
                                          <p:spTgt spid="113"/>
                                        </p:tgtEl>
                                      </p:cBhvr>
                                      <p:to x="300000" y="3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" dur="1000" fill="hold"/>
                                        <p:tgtEl>
                                          <p:spTgt spid="113"/>
                                        </p:tgtEl>
                                      </p:cBhvr>
                                      <p:to x="33000" y="33000"/>
                                    </p:animScale>
                                  </p:childTnLst>
                                </p:cTn>
                              </p:par>
                              <p:par>
                                <p:cTn id="1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7465 0.17649 L 0.00017 -0.00116 E">
                                      <p:cBhvr>
                                        <p:cTn id="14" dur="10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totype (continued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monstrate proof-of-concept to Teller te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menus to aid in data en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rst try used tk_optionMenu widg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 good for labels - they show their current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de the window big and clutt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witch to menubuttons with down-arrow character in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uld we have used combo boxes?  (Maybe still cluttered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e size of main wind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ke the Event Log a separate resizable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e the Exit button into a File me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e the destination specification into a Server me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 made some design changes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fte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he de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750000" y="4324320"/>
            <a:ext cx="2057400" cy="7398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rcRect l="0" t="47648" r="60009" b="27354"/>
          <a:stretch/>
        </p:blipFill>
        <p:spPr>
          <a:xfrm>
            <a:off x="6961320" y="1693800"/>
            <a:ext cx="1646280" cy="1298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C58F7A-B6EA-4C02-9A59-52773B42F61E}" type="datetime1">
              <a:rPr lang="en-US"/>
              <a:t>07/28/26</a:t>
            </a:fld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 Automate the Too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entry to File menu to Open a test cas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d by 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s a simple Domain-Specific Language (DS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mple test cas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# Case  Msg Msg     Track  TELL ID                          Spe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#  Num  Typ ID      ID     Stat Threat      Cat     Plat    Type    N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ase 1  11  123     JJS     0   ASMDFRND    AIR     FTR     F18     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get msg "Enter the desired Message ID:" ;# get value of msg from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ase 2  11  $msg    JJS     0   FRIEND      AIR     FTR    *F-18    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llegal specific 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note "Special setup required for next test case!" ;# stops automaticall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ase 3  11  123     JJS     0   FRIEND      AIR    *BMR    *F18     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consistent platform &amp; specific 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’s easy to create Domain Specific Languages with Tc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79520" y="3894120"/>
            <a:ext cx="539640" cy="252360"/>
          </a:xfrm>
          <a:prstGeom prst="ellipse">
            <a:avLst/>
          </a:prstGeom>
          <a:noFill/>
          <a:ln w="28440">
            <a:solidFill>
              <a:srgbClr val="ce1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9280" y="4157640"/>
            <a:ext cx="879480" cy="252360"/>
          </a:xfrm>
          <a:prstGeom prst="ellipse">
            <a:avLst/>
          </a:prstGeom>
          <a:noFill/>
          <a:ln w="28440">
            <a:solidFill>
              <a:srgbClr val="ce1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73040" y="4919760"/>
            <a:ext cx="539640" cy="252360"/>
          </a:xfrm>
          <a:prstGeom prst="ellipse">
            <a:avLst/>
          </a:prstGeom>
          <a:noFill/>
          <a:ln w="28440">
            <a:solidFill>
              <a:srgbClr val="ce1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52480" y="4405320"/>
            <a:ext cx="540000" cy="252360"/>
          </a:xfrm>
          <a:prstGeom prst="ellipse">
            <a:avLst/>
          </a:prstGeom>
          <a:noFill/>
          <a:ln w="28440">
            <a:solidFill>
              <a:srgbClr val="ce1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297080" y="4327560"/>
            <a:ext cx="461880" cy="156960"/>
          </a:xfrm>
          <a:prstGeom prst="line">
            <a:avLst/>
          </a:prstGeom>
          <a:ln w="28440">
            <a:solidFill>
              <a:srgbClr val="ce112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5B3214-95FA-445C-93EE-A3BC3389D6C0}" type="datetime1">
              <a:rPr lang="en-US"/>
              <a:t>07/28/26</a:t>
            </a:fld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5T17:46:14Z</dcterms:created>
  <dc:creator/>
  <dc:description/>
  <cp:keywords/>
  <dc:language>en-US</dc:language>
  <cp:lastModifiedBy>RTSC</cp:lastModifiedBy>
  <cp:lastPrinted>2009-04-22T19:24:48Z</cp:lastPrinted>
  <dcterms:modified xsi:type="dcterms:W3CDTF">2008-10-14T18:38:11Z</dcterms:modified>
  <cp:revision>109</cp:revision>
  <dc:subject/>
  <dc:title>Presentation  Title to allow  for 3 lines</dc:title>
</cp:coreProperties>
</file>