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EC26-A50B-49AC-8403-FDA22A6DF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9E77-D45F-43D0-BB68-8589480A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0C1C-B76D-4A64-AD9E-92D218196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ED18-8C70-4957-B380-1BB707B38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3485-8E33-4227-A065-7F89E726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6F31-CA32-4CA6-A068-CC68CF0A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2F2D-F57B-483E-83A8-FEC68501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6299-9F67-4AE4-9320-BAC58D30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D2A3-7DAC-45A2-8E23-4EAE8743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877F-13FA-4542-9368-EB77FDB8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5924-6A3A-4F58-80DE-4E00B768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6714-1F4E-40A7-8D9D-20BA95EF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DCBE-0D6D-4276-ACA5-8C2757BEA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: final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he unnecessary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dbdsdc { uplo compq d e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list $dnew $u $vt $q $iq $info]  ;# Leaving out "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types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rs (mostly floating-point and inte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dimensional arrays (vec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dimensional arrays (mat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: mapped onto Tcl lists and n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wrapper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the various roles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data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rguments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s of ar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the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erplate code (integer array 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 *v; int size__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s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WrapCopyIntListToArray( interp, objv[1], &amp;v, &amp;size__v ) != TCL_OK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l_SetResult( interp, “Argument 1 must be a list of integers”, NULL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-u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kfree((char *)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ran routine (arrays x and w are return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ubroutine lagzo( n, x, w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nteg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ouble precision x(n), w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wrap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apfort::fproc ::Specfunc::laguerreZeros lagzo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n 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x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w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gzo( &amp;n, x, w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…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al code: return arrays x and w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arguments can not be deduced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nowledge of C and Fortran and interfacing the two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more than one result (as a list) requires extra code – not handled automatically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of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ost interest: the “driver”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are well described – autom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ndcrafting still required (to make the interface more Tcl-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PACK: user-defined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zeros for a vector-valued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hybrd1(fcn,n,x,fvec,tol,info,wa,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nfo,l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,wa(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f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is implemented via a user-defined subrout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fcn(n,x,fvec,ifl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lculate the functions at x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his vector in fv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sponding Tcl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fcn {x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... $x too far away ...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–code error “Unacceptable solu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fvec ;# Vector-value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via Wrapfort: subroutine fcn(n,x,fvec,if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apfort::fexternal fc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tra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n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x      {in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fvec   {out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iflag 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roc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vec  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rr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flag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th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the wrapper 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Ftcl and Wrap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cl is a project on SourceForge to combine Tcl and For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fort is part of that project, focusing on generating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void all C program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ftcl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: Tcl lists may not be the best representation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C libraries (akin to Crit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ole programs – develop a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such libraries makes this functionality available to Tcl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makes Tcl’s flexibility available to engineers and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ACK: Linear algebra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func: Special mathematic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PACK: least-squares min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multidimensional integrals (Str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TW: Fourier trans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the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ical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it to T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AIRYA(X,AI,BI,AD,B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Purpose: Compute Airy functions and their deriv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Input:   x  --- Argument of Airy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Output:  AI --- A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I --- B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D --- A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D --- B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Routine ca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JYIK for computing Jv(x), Yv(x), Iv(x)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Kv(x) with v=1/3 and 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LICIT DOUBLE PRECISION (A-H,O-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 -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 ai_ bi_ ad_ bd_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i_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i_ 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d_ 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d_ 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variable names – rather 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Return a list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[list $ai $bi $ad $b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: Separat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A {x} {      proc airyB {x}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$ai            return $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DBDSDC( UPLO, COMPQ, N, D, E, U, LDU, VT, LDVT, Q, IQ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WORK, IWORK, INFO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routine (version 3.2)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is a software package provided by Univ. of Tennessee,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Univ. of California Berkeley, Univ. of Colorado Denver and NAG Ltd..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Nov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Scalar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CTER          COMPQ, U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NFO, LDU, LDVT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Array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Q( * ), I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  D( * ), E( * ), Q( * ), U( LDU, * 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VT( LDVT, * ), 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argu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are array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provide 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output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in Tc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f we use lists to store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5:07:48Z</dcterms:created>
  <dc:creator>Computer Services</dc:creator>
  <dc:description/>
  <dc:language>en-US</dc:language>
  <cp:lastModifiedBy>Computer Services</cp:lastModifiedBy>
  <dcterms:modified xsi:type="dcterms:W3CDTF">2010-06-04T04:54:37Z</dcterms:modified>
  <cp:revision>15</cp:revision>
  <dc:subject/>
  <dc:title>Wrapping Fortran libraries</dc:title>
</cp:coreProperties>
</file>