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5BFE5776-89B6-45BD-B0AB-95345C4AC42C}"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AB3B2F32-FDB3-47B3-8EB3-0E89745DCEC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46D9FCF6-BADC-423B-85CF-D3D851C9336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CF35E8D-357E-4C4A-B9F9-6682B3FBB61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DAADD841-7EDA-47D1-BB2B-8C30A3332A8D}" type="datetime">
              <a:rPr b="0" lang="en-US" sz="1100" spc="-1" strike="noStrike">
                <a:solidFill>
                  <a:srgbClr val="064308"/>
                </a:solidFill>
                <a:latin typeface="Arial"/>
              </a:rPr>
              <a:t>07/29/26</a:t>
            </a:fld>
            <a:r>
              <a:rPr b="0" lang="en-US" sz="1100" spc="-1" strike="noStrike">
                <a:solidFill>
                  <a:srgbClr val="064308"/>
                </a:solidFill>
                <a:latin typeface="Arial"/>
              </a:rPr>
              <a:t>, </a:t>
            </a:r>
            <a:r>
              <a:rPr b="0" lang="en-US" sz="1100" spc="-1" strike="noStrike">
                <a:solidFill>
                  <a:srgbClr val="064308"/>
                </a:solidFill>
                <a:latin typeface="Arial"/>
              </a:rPr>
              <a:t>Slide </a:t>
            </a:r>
            <a:fld id="{FD4C0C37-A9FD-402E-8C4B-740EBE9C775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6AB80CC-26EF-48D9-A8C5-DD2F0FEBD56D}"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