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1FC9-671B-4117-8555-B3B5295E1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5508-BDE8-4115-BA38-B5E285DE8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0DEE-D127-421D-8117-3A6DBB02B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1029-FDC2-4C9C-94D5-9A7450F15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79001-A5D4-4628-9581-62BBDBAF4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608FF-5B44-45CE-BBE6-17FA12B88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22DA4-9BBA-46CD-8CF9-CDDFBBC00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DE8A4-A218-4AE4-A84B-052241695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00F84-F1D4-4600-933C-2F2E0693B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5B1C9-B751-4802-8E92-3B221CF16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47805-9436-470C-9B63-C223ECC1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49E9-A804-4629-9F6C-2911F94AC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8DA85-C040-4E6A-B4D3-BBD1CE6D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604AA-7DC4-4A2C-AD4C-DEC3B964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6E1AE-F6D2-4214-878E-AFF125435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FD8FA-567F-4D9F-AEB5-D2B5294CF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34B30-FB02-4E38-BE0A-84B24B2E0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27F8-BAD7-41A6-B03C-A8347CEAB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3182-89AD-4994-989F-A3769E273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0C37-8B3B-46AC-BB18-4FDDE32B8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8822-74F6-4B32-9721-F620AB702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4BF2-6B88-45D8-A4ED-700952CF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566B-D210-4AB4-848D-F148D252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CA4A-2DAF-4D03-9F03-6CC53E22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320" y="64036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40044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B3FF33-2506-42F2-903D-6AD3DC7AAD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180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56800"/>
            <a:ext cx="776916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320" y="63910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8000" y="639108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8B8F24-1004-490A-9AC5-F1595302E1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22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Networked Digital Whiteboar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with 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Handwritten-Symbol Interpreter an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Dynamic-Display-Objec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c3938"/>
                </a:solidFill>
                <a:latin typeface="Arial"/>
              </a:rPr>
              <a:t>Atsuhide Kobas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Henry M. Gunn High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Palo Alto, Califor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September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2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and arrow added by a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3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049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vas window with scrollbars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4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81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added by the participant who created the canvas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linked to a variable that affects the output (quadratic curve) on the added can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5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3526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widget window with a scrollbar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aster Controll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2763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by the pres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side controller has no page-change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114800" y="2286000"/>
            <a:ext cx="4314960" cy="27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raw/Write Tool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946240" y="2232000"/>
            <a:ext cx="3324240" cy="12859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3998880"/>
            <a:ext cx="769464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for all drawing and writing including the handwriting of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Hand-Written 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1148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oked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 and color set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on set by mouse click on the target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57800" y="2057400"/>
            <a:ext cx="171468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9528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types of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s selector helps quick com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can be linked to a variable that changes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2741760" cy="4037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943600" y="1905120"/>
            <a:ext cx="22417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anvas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Spinbox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hat is it?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69608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-based whiteboard presentation tool with unique function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ence can participate in th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s quick construction of complex objects for displaying during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etails on the Three Functions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464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written symbol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 and Widget Cre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Networking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TCL’s network-related command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25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devel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custom header to ind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s of data  (multiple combination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 of each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to handle each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wner ID and sequence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 extra information 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y on transmitt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of wish by both server and clients reduces the amount of transmitted code  (suitable for networking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widgets created by the Widget Creator, only the specifications entered in the Widget Creator are transmit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Hand-Written-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lgorithm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erfect or even near huma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lots of CPU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C module needed for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under development and modules for a small number of symbols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for the conver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 from Tex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symbols not available from Tex, custom raster symbol creatio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GUI and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GUI Tk-b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its of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and quick to create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amount of code fits well for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inspect the transmitted code in development stage, since it is written in human readable scri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 independent operation for each participant guaranteed by multiple interpr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urrent Problems</a:t>
            </a:r>
            <a:r>
              <a:rPr b="0" lang="en-US" sz="19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1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slide cre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akes more time to make presentation pages than the conventional presentation too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c input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re variation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get cre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der variety of widgets need to be handl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interpreter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 of threaded system desirable for smooth oper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-written symbol interpr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verage of more symbols and better recognition algorithm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unction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age advance/backup capability on the client side without affecting  the display of the serv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onclus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tate still version 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 edges exist. Refinement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TCL/TK knowledge required to compose presentation slides.  (Less so for clients to add  objects.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onvenience modules needed to compete directly with PowerPoint and Im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potential to become a useful tool for users in various fields, not just educ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other tool can enable networked two-way interactive presentation with dynamically manipulable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otiv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al presentation in classes and 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tific subjects: math, physics, chemistry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with the conventional presentation too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werPoint, Impress, etc. 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way information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(off-site) audience cannot particip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tools to quickly cre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symbol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display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 Our new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1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way information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audience to add objects on the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objects to be dynamically cre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s, ar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s, o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gets, both static and dynamically manipu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2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through network with participants at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ion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tworked Two-Way Present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79440" y="2322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2666880"/>
            <a:ext cx="94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esenter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2971800"/>
            <a:ext cx="42674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266688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228600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312408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335268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251460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502920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533412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4419720"/>
            <a:ext cx="1143000" cy="160020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449568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5800" y="495288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487692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86200" y="533412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CII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inary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3505320"/>
            <a:ext cx="144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411480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te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3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efficiently and quickly construct complex symbol structures  (for math, logic, scientific symbols) by hand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4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quickly create widgets including dynamically manipulable 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1 (Original)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-based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full-screen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cp:revision>0</cp:revision>
  <dc:subject/>
  <dc:title>Networked Digital Whiteboard  with  Handwritten-Symbol Interpreter and  Dynamic-Display-Object Creator</dc:title>
</cp:coreProperties>
</file>