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FE0F-E86D-4AE6-9268-967002995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27B2-6133-499C-A499-D77FDE356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4AB7-D21F-423D-A15E-EE05AE712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1C82-250E-4FC5-AD57-8E08BE63E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677A-0ED4-43A5-ABE1-687547132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617-A294-40AB-8F40-7AB4D814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F4F9-C827-49D7-B0B4-DE9D8885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400-373D-4199-97E6-7F13E147B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4E7-8EF6-492D-AEB5-BAA847728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04E9-C34F-41E5-8210-F86E79C6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FC6B-22F6-4404-8E99-C3288890D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25BA-4A72-4789-9875-94F84FF47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E5A6-A3E2-4A9F-B214-09FDFB94E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joe@mistachkin.com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ssil: Reload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ll Tcl Integ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 I use T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ever, since Fossil does not currently service the Tcl Event Loop, us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wa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ill almost certainly be requir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ing Tcl from Fossi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fter Tcl integration has been enabled at compile-time and runtime (via the “tcl” setting), it can be used anywhere it is legal to use TH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ccomplished using several new TH1 commands, namel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ll defined in the source fil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_tcl.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</a:t>
            </a:r>
            <a:r>
              <a:rPr b="0" lang="en-US" sz="4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Tcl brid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H1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Exp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clInvok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can be used anywhere TH1 is leg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Tcl side: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v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Ex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ful for accessing Fossil / TH1-specific functionality from a Tcl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the “Enhanced Default” ski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TclVersion {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[catch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Eval info patch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 tclVersion] == 0}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"&lt;a href=\"http://www.tcl.tk/\"&gt;Tcl&lt;/a&gt; version $tclVersio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tclVersion [getTclVersion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t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vanced” Exampl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from the test suit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: This may be unsafe due to the possibility of multiple copies of the SQLite library in the process (e.g. on Linux).  Also, please do NOT write to the Fossi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clInvoke set repository_name [repository 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userCount [tclEval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ckage require sqlit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qlite3 db $repository_name -readonly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 x [db eval {SELECT COUNT(*) FROM user;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b cl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$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 Dangerous Enoug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Hooks: Enables a TH1 (optionally with Tcl) script to be evaluated just prior to [and/or just after] any Fossil command or web p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efine or log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 pre-processing and/or post-processing for comm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and line arguments to the command can be seen by the scri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Hoo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HOOK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hook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Hook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inside “.fossil-settings/th1-setup” file inside of a test reposi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roc command_hook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 {$::cmd_name eq "timeline"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$::cmd_args\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uts "Tcl [tclEval {info patchlevel}]\n\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ill Need More Dang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Docs: Enables TH1 scripts to be evaluated when a “th1” file is viewed as embedded documen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abled by default at compile-time and run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NING: This option should only be enabled on a repository where all users with check-in privileges are “implicitly trusted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enable TH1 Do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100% sure that you want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./configure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-with-th1-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compile-time using “buildmsvc.bat”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SSIL_ENABLE_TH1_DOC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to the comma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time, enable the “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1-doc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” set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1 provides built-in scripting capabilities for Fossil; however, it is a small subset of “full”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re was a significant demand for advanced features that could be easily scripted if full Tcl was available (e.g. email notifications for check-i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1 Docs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is is 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ample.th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in the root of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sitory checkout, it could be view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the UR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://localhost:8080/doc/ckout/example.th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initialize 5; # enable Tcl, if configu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tml "Tcl 2 ** 2 == [tclEval {expr 2 ** 2}]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/t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ow “fileStat.th1” now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more complete example of how to make use of TH1 Docs and Tcl integr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e Mistachkin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joe@mistachkin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lace TH1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.  It was decided very early on that replacing TH1 would be too much of a break with backwards compatibi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ead, a dual-language solution was developed that involves seamless bi-directional “bridging” of TH1 and Tc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s with Tcl 8.4 or higher.  Supported on all platforms where dynamic loading is avail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ically, the new “private stubs” mechanism should be used (created by Jan Nijtman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Linux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om a Fossil source checkou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utomatic detection of Tcl library wor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stubs=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wise, something like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vate Stub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Fossil to be compiled with Tcl integration support without needing to locate an actual Tcl (or stubs) library at compile-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commended Compile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will configure Fossil to use the in-tree zlib, enable OpenSSL and JSON, and enable Tcl integr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/configure --with-zlib=compat/zlib --with-openssl=auto --json=1 --with-tcl=1 --with-tcl-private-stubs=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ilation (Window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MSVC is recommen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the “buildmsvc.bat” tool from a Fossil source checkout is recommended, e.g.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d w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uildmsvc.bat fossil.exe FOSSIL_ENABLE_TCL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eat, it built, now wh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you have a Fossil binary with Tcl integration enabled, there is [at least] one more step to be able to evaluate Tcl from within Fossil, which is to enable the “tcl” setting using a command similar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ssil settings tc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can be set per-repository or globally.  It is disabled by defaul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11T22:16:42Z</dcterms:created>
  <dc:creator>Joe Mistachkin</dc:creator>
  <dc:description/>
  <dc:language>en-US</dc:language>
  <cp:lastModifiedBy>Joe Mistachkin</cp:lastModifiedBy>
  <dcterms:modified xsi:type="dcterms:W3CDTF">2014-10-11T23:33:53Z</dcterms:modified>
  <cp:revision>74</cp:revision>
  <dc:subject/>
  <dc:title>Fossil</dc:title>
</cp:coreProperties>
</file>