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EF98-0FDD-4079-AD10-5BA1A3EFF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B743-68CA-470B-9318-6C12C9C9E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8BA3-EB55-4038-95D9-46BCE7F1A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45BF-839E-42CD-9704-CED561740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0DF6-9C03-407C-B16C-A15830D0D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FB8B-0818-48AB-AB72-12579BFFF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400E-C3F9-48FB-8D75-FA9242EC6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7D10-B469-45FD-A2D3-DEF8E208A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F528-D513-41BC-A820-3C3E409E3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0FBA-D722-472B-A4C9-39FB5FD88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9828-6F3B-4505-B4A0-2EFC86FF1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A827-F1D5-4954-8D4D-358F1595F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E3D86-E484-4EB6-BBEF-60406987DC3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eagle.to/" TargetMode="External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2590560"/>
            <a:ext cx="708660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agle: Tcl Integration with the CL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14040" y="3581280"/>
            <a:ext cx="7086600" cy="117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6th Annual Tcl Confer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oe Mistachk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cript Evalu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interp [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crea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]; # create a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eval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interp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This is a Tcl script.  The "eagle" comma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here is actually a Tcl command that h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been implemented in managed code (in th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case, it simply maps to the "eval" comma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in Eagle).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9900"/>
                </a:solidFill>
                <a:latin typeface="Courier New"/>
              </a:rPr>
              <a:t>eagl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debug break; # type "#go" to contin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dele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interp; # delete the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Tk in the Main Threa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interp [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crea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]; # create a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This will load Tk into the new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eval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interp {package require Tk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Service the Tcl event loop until we are cancel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fter 10000 [list interp cancel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atch {while {1} {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upda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dele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interp; # delete the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reating a Tcl Worker Threa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Initialize by-ref argument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result "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thread nul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Get the active Eagle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interp [object invoke -alias Interpreter GetActive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Create Tcl worker threa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$interp -alias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CreateTclThread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100 true resul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Extract the thread name from the resul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name [$result ToString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Get the object for the thread we just creat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$interp -alias -flags +NonPublic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GetTclThread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name \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hread resul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a Tcl Worker Threa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Initialize by-ref argument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t result "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Tell the worker thread to create a Tcl interp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$thread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QueueEvent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Create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Immediate null true resu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Queue a script to evaluate to the worker threa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$thread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QueueEvent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Evaluate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Immediate \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{package require Tk} true resu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Delete the worker thread (this will also cause th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Tcl interp to be deleted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$interp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DeleteTclThread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$name false resu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oes it run on Mono?</a:t>
            </a:r>
            <a:br>
              <a:rPr sz="4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by popular deman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ort Answer: Y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ng Answer: Yes, it runs on version 2.0 or higher.  However, version 2.4 or higher is recommended due to serious bugs in earlier versio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no does not perfectly emulate the .NET Framework and still has bugs that affect Eagle (e.g. #473899, #478489, #479061, #490932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monst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92cddc"/>
                </a:solidFill>
                <a:uFillTx/>
                <a:latin typeface="Times New Roman"/>
                <a:hlinkClick r:id="rId2"/>
              </a:rPr>
              <a:t>http://eagle.to/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s and Answ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909880" y="1608120"/>
            <a:ext cx="3322800" cy="47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is an open-source implementation of Tcl written in C# for the CL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ed to be highly extensible and easily embeddable into CLR-based applic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s approximately 90% of the Tcl 8.4 core command s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ait a minute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 integrate with Tcl if Eagle is already an implementation of the Tcl languag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y integrate with Tcl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existing Tcl integration solutions for the CLR were less than idea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possibility of using the expressive power of a Tcl-compatible language to control the integration of the Tcl language with the CLR was very compell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ows unit-testing of embedding scenarios that need to dynamically load and unload the Tcl librar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cl Integration Featur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any build of Tcl/Tk, version 8.4 or higher, including "basekits" and "stardlls"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32-bit and 64-bit operating system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worker threads with their own event loop processing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exit handler creation and deletio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script cancellation via TIP 285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a unified stack trace for errors via the Eagle errorInfo variabl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error line number management via TIP 336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events a deleted interpreter from being us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events an interpreter with activations from being deleted via TIP 335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oading Tcl Automaticall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if {![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tcl ready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]} then {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This command loads the "best" Tc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library available.  The exa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algorithm used is documented 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the pap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tcl lo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oading Tcl with Version Requiremen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if {![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cl ready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]} then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This command loads the "best" Tc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library available that meets t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specified version requirements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cl load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–minimumversion 8.4 \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-maximumversion 8.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oading a Specific Tcl Librar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if {![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cl ready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]} then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This command will skip the Tcl libra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detection logic and simply load t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specified Tcl library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cl load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{C:\full\path\to\tcl.dll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20:43:22Z</dcterms:created>
  <dc:creator>Joe Mistachkin</dc:creator>
  <dc:description/>
  <dc:language>en-US</dc:language>
  <cp:lastModifiedBy>Joe Mistachkin</cp:lastModifiedBy>
  <dcterms:modified xsi:type="dcterms:W3CDTF">2009-10-01T15:50:24Z</dcterms:modified>
  <cp:revision>369</cp:revision>
  <dc:subject>Eagle</dc:subject>
  <dc:title>Eagle: Tcl Integration with the CLR</dc:title>
</cp:coreProperties>
</file>