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B9F21-74CF-4B66-8686-DF98D0939B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9AF53-6F90-4F48-A055-F84AB6B479D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0A4D2E-1A07-4BE3-8411-64EFE4E1939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02740D-1124-479F-867B-C4CA45717E1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37FE67-317F-4160-B0C8-9FDB0F3F29E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2D9C08-6931-461E-B6FA-C829BCCCF73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E4C4FA-E190-42CA-A1EE-AB355D6B666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533EA5-623C-4742-BFA9-8310F0F00BE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5ED24A-F301-466C-BDB0-7234476DCB0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0CE8DC-8BED-4E47-A650-4F82E72DB61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2EAF94-FC76-48C9-AD45-5DF67AF2077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EFC914C-03BD-4C67-8796-93FE3B229D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BDC06-B91B-4024-829B-5165F42F091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AE33A1-98C7-4109-BF0C-ED15E6891DA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7589CD-62AD-4A1D-B52E-C2B083895F7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8C2FA6-E0F4-4031-9BB0-922B92C969E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534333-32D6-4DE0-BD01-DA92448C899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89BEEB-34D7-446A-928B-65042062775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2C930D8-E408-4890-A372-7D870338272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6DE3C64-1053-4221-BE04-22D47A5966B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8512142-ED7F-4938-A735-2EA4D2F215C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E6A8F6-6725-41C4-BDB8-2D61CF27942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30C26A9-072F-470D-921A-74024FA344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095E3-6299-4DE6-B528-A978A776C971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3F1C5E-F657-4E60-B825-666DB2B8B59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808D1-B758-41A5-89DE-C806709B2DF9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4C764-9DBC-42D9-9AD5-82E4DE26B2B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E6008-6464-44DC-989E-2652C77FE67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7D265-D433-4803-A4E1-0CA5E2D2C76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00155-60CD-448F-8D5E-600402D27BE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C0A93-87B7-42C9-A913-F37FB4812D0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3B3A6-1FDF-437F-8AF5-C91EF0761059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ABEB31-CBF5-4674-9ADA-411CC1876727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A869D5-0D20-4B3B-B8B6-79586513C4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CC0293-B842-4920-9C0B-05968290D5B4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A87409-56F3-420D-9AE9-17C0D0CEC25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9A86A-A7C2-4BEB-9B73-FB2195D2943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4B580-3F16-4192-B1F2-CEA16D3590C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7855A6-EC03-46AD-88D2-43ED442F4C5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D16BCC-7423-41E8-912D-7F48A1B9074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A07DD8-7186-4C94-95C1-C2E84A459557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0C86FC-FA0A-4AB1-8423-CF92B2F07DE0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1CC4B3-4D8C-4424-9F62-285DD1E74D4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2E7766-D379-47FC-BB77-ABF8EE2F7B3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985B8E-AEE9-4063-9A39-5FFED72FBB1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F105AD-89EF-458D-9758-12F09A6C8CE0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5237E4-061D-4575-9066-CE674B63EB3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BC4677-24F9-4768-BC11-D5238D1237C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2A0265-43FF-4748-8AB9-EC3A8D7CAC47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F76183-0F46-4E15-A34E-402DD3827CC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01B0A4-7FAE-4B17-BF29-3D3B2E3AB05D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5F0F17A-9C99-4DF1-B1CF-992EA5F92793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3650CCB-6652-451C-93A5-C726870EEB41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9FC013F-A23E-42DE-BE7D-9D7A71D9CFFE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812B4C5-749A-4C48-AF9F-CFC2EAAD14E9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48FA4C4-D232-4480-A0C1-0E980E3B431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F48809-4BDD-4382-83BF-496566329C11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B160529-6EAC-4F40-914C-B41106AADC1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2873A23-57BA-4E6C-BE3E-2FB6826D5534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DEA8AAC-14AF-40F2-96FA-9143EB60858B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547F54E-DAC5-41F9-925D-35C253F3CE5F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F718C5B-A7AC-4E9B-9AE4-8A7787AFFC52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3802248-B1ED-4EEF-91F5-47C8FD17B7FB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0885808-DA44-4ADE-B6AD-3912C4FD9D6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AF048E-8799-4AE1-87A6-DA4D0EFBC32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238F06-E2A8-494D-94CD-537B2D70B35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1BCD29-B201-4E24-8ED1-54B748A3DAE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E6FB44-8B48-46B3-B10B-5756D9C498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52C4F-B4EF-4887-A218-BBCF904EF5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54B866-1156-49F1-9AF4-5DA26140735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C93FEF-D3E0-43CD-B7F3-97852AE8333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D63D84-E0D9-43A9-9147-4917D856A9B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C41139-B416-4B3F-B2D5-A60B71D003D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4CA52F-E135-4A7F-B426-710903D56DB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944D9-F7BA-4F48-930C-D0659895917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E114C-0582-43BD-AF0B-45B7509980C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D98F4-B38E-4AFD-A317-ACFDE348201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34F7F-A881-47F6-8608-1CFF8F5B11D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AE2EA-43D0-41EB-8A8D-3762CB60EC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04C23-8594-4C68-91F0-0179B28DD30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B24C1-2B33-4197-8701-BF68B9FF71A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9FDD9-8FE9-4E97-9897-DBADC07B9D5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4AA06-EC5E-4D82-86F3-83803828AB0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ECB9E-6BB1-485A-9FE5-381195C9AA5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5337B-B083-4924-82AC-5CD9167F0CB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DA437-22E4-43E6-BC7B-30439F4DF01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75F50-16BB-4FBF-AAD3-9E17D8A4DDF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5FB982-6748-46DC-B061-6EC625EE64D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AB83D2-B13F-44D5-A938-94E6E16AEBC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6B73C7-AE98-451C-AA8C-3717AFAB49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02878-A5A5-4E67-BF3D-3CAD8A4E940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DFEB8F-0382-46AD-B42F-48D0C02D383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ABBFA4-0E78-48E8-A9D8-5D3A3805138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A566C3-7655-44F7-A270-A6C726810B3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39C26A-C449-451C-B4D6-FB46F408C93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C31DBF-02F3-420D-BA2B-AA8ADAE329F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70191B-FC2A-4F2F-8834-3B7951E30F8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6C4189-07F6-4AA7-8A08-49067E759AD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B2EC70-36FE-4E1D-920E-86168760D62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EC9727-4F4D-4DEF-BAED-5CAF9F7F94A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5E4F1-3FBB-4C19-B27F-D196A99F72E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990AE-3ED0-4EB4-8DED-022BA54C5EB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0E33F-B5C4-48F9-BB77-9782B5E1468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FFF835-1AB6-4CCC-94D2-57C91CECF44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B6D8BA-6465-4829-9504-4D2CE459BC2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5D0EAA-3113-4AF3-A682-AF14A52DA94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6EEE45-7B30-4C88-B45C-39EEEBD9409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09860A-0D4E-47F5-9EF3-2DE7B52BE51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0357A3-2732-4C32-BA7A-7D880C84170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C0965E-B53B-43DB-B394-498FCB589E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27F37-076D-487A-98F9-BB0BBB0EA8A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D0C05A-A2BA-4BB3-9DCC-EFE9665D250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014A89-E3CD-4FBC-BA66-A0C00C34A92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D28CDF-922D-442B-902D-FBB9C9BF9F6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9A0E15-9448-4491-9F07-ABA6B4033B1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6603E8-F8A2-4C48-A0A5-97E39AB25DE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FD086-8555-44BE-8324-FA590BFD6C8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41098-1082-4B19-8211-FC95DE58188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F07E7-6201-4215-BBD0-AF4FA5EF604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FBF23-4011-48F1-94E0-6CBD642EECF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73000-FD2F-4655-AF94-D5050E7758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3781A-277D-488C-8D1E-DED42FF095D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636E9-5172-44AF-9923-95407F8E575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40FCB-BF90-4C22-8809-4C3208B97EA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4FA60-5DB8-41B3-89A2-8858CEA5C55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83E23-6361-4978-B1D5-690DAD8E606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5D850-E9CB-4FDB-99CD-5D49946F667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DF1FB-2A5B-44C7-880A-BD854570D0B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5C014-D5D6-4A89-BAEF-4EED54CCBD9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591142-4C9B-4B86-98AD-B31BD5358AE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F8E179-4BE6-4677-9EBE-FC71A9B216A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8F4717-E316-42E1-A5DE-5BBFDB1F12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BKG-12x-Rule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30"/>
          <p:cNvGrpSpPr/>
          <p:nvPr/>
        </p:nvGrpSpPr>
        <p:grpSpPr>
          <a:xfrm>
            <a:off x="5648400" y="6510240"/>
            <a:ext cx="2419200" cy="323640"/>
            <a:chOff x="5648400" y="6510240"/>
            <a:chExt cx="2419200" cy="323640"/>
          </a:xfrm>
        </p:grpSpPr>
        <p:sp>
          <p:nvSpPr>
            <p:cNvPr id="2" name="Text Box 24"/>
            <p:cNvSpPr/>
            <p:nvPr/>
          </p:nvSpPr>
          <p:spPr>
            <a:xfrm>
              <a:off x="5648400" y="6510240"/>
              <a:ext cx="2419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33333"/>
                  </a:solidFill>
                  <a:latin typeface="Tahoma"/>
                </a:rPr>
                <a:t>© 2010 Mentor Graphics Corp. Company Confidential</a:t>
              </a:r>
              <a:endParaRPr b="0" lang="en-US" sz="7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3" name="Text Box 22"/>
            <p:cNvSpPr/>
            <p:nvPr/>
          </p:nvSpPr>
          <p:spPr>
            <a:xfrm>
              <a:off x="5653080" y="6619680"/>
              <a:ext cx="14479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286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3333"/>
                  </a:solidFill>
                  <a:latin typeface="Tahoma"/>
                </a:rPr>
                <a:t>www.mentor.com</a:t>
              </a:r>
              <a:endParaRPr b="0" lang="en-US" sz="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ED73A-E6DB-45BC-8188-D2C4494DF693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ftr" idx="1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sldNum" idx="1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CC165-8F25-4BB7-AFA8-C594B684B993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ftr" idx="17"/>
          </p:nvPr>
        </p:nvSpPr>
        <p:spPr>
          <a:xfrm>
            <a:off x="41904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sldNum" idx="1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2196E-D199-4115-8360-05BEC8A1B636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ftr" idx="1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sldNum" idx="2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EAB19-8131-4080-A90C-4A6F0FEFBE5B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ftr" idx="2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sldNum" idx="2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B4AD-ADAC-406D-A687-7646EC19F2BF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-360" y="6629040"/>
            <a:ext cx="384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03A53-67D8-4EAC-AA61-975F6A8B10C3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7FCB0-C42D-4C4F-A2C2-1186EF1CB393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7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3349B-C12C-45B1-B20B-C8F313606F5C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0" descr="C:\Documents and Settings\lseigneu\Desktop\PPT MAIN DEV\TESTING FILE SIZES\SET PS bkgs in PP saved as JPGs then used for template\A\_B AS POSTED w C bkgs dropped in\Slide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C:\Documents and Settings\lseigneu\Desktop\PPT MAIN DEV\TESTING FILE SIZES\SET PS bkgs in PP saved as JPGs then used for template\A\_B AS POSTED w C bkgs dropped in\Slide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"/>
          <p:cNvSpPr/>
          <p:nvPr/>
        </p:nvSpPr>
        <p:spPr>
          <a:xfrm>
            <a:off x="0" y="1066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DCD2-F193-4E5D-99E6-D16E3B86820C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C:\Documents and Settings\lseigneu\Desktop\template 032110 home\lite clos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1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Your Initials, Presentation Title, Month Yea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1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63EA4-9C03-4B41-A0D1-E43FFA68BB2E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ftr" idx="1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sldNum" idx="14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54E08-B35F-4AE3-BB61-692D11E4DDD9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nhanced Tcl/Tk Widgets for EDA Applications</a:t>
            </a:r>
            <a:br>
              <a:rPr sz="3200"/>
            </a:br>
            <a:br>
              <a:rPr sz="32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 Bansal, Roshni Lalwani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_bansal@mentor.com, roshni_lalwani@mentor.com </a:t>
            </a:r>
            <a:endParaRPr b="1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5" name="TextBox 3"/>
          <p:cNvSpPr/>
          <p:nvPr/>
        </p:nvSpPr>
        <p:spPr>
          <a:xfrm>
            <a:off x="3774240" y="5464080"/>
            <a:ext cx="428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Gaurav Bansal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17'th Annual </a:t>
            </a:r>
            <a:r>
              <a:rPr b="1" i="1" lang="en-IN" sz="1600" spc="-1" strike="noStrike">
                <a:solidFill>
                  <a:srgbClr val="ffffff"/>
                </a:solidFill>
                <a:latin typeface="Tahoma"/>
              </a:rPr>
              <a:t>Tcl/Tk</a:t>
            </a: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 Conference (Tcl'2010)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October 11 - October 15, 2010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9" name=""/>
          <p:cNvSpPr/>
          <p:nvPr/>
        </p:nvSpPr>
        <p:spPr>
          <a:xfrm>
            <a:off x="1268280" y="2354400"/>
            <a:ext cx="6337440" cy="1842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0" name=""/>
          <p:cNvSpPr/>
          <p:nvPr/>
        </p:nvSpPr>
        <p:spPr>
          <a:xfrm>
            <a:off x="1308240" y="1816200"/>
            <a:ext cx="6337080" cy="2682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1" name=""/>
          <p:cNvSpPr/>
          <p:nvPr/>
        </p:nvSpPr>
        <p:spPr>
          <a:xfrm>
            <a:off x="1308240" y="2084400"/>
            <a:ext cx="6297480" cy="270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8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89" name=""/>
          <p:cNvCxnSpPr>
            <a:stCxn id="585" idx="2"/>
            <a:endCxn id="58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93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4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5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6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99" name=""/>
          <p:cNvCxnSpPr>
            <a:stCxn id="594" idx="2"/>
            <a:endCxn id="59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00" name=""/>
          <p:cNvCxnSpPr>
            <a:stCxn id="595" idx="2"/>
            <a:endCxn id="59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0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9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10" name=""/>
          <p:cNvCxnSpPr>
            <a:stCxn id="605" idx="2"/>
            <a:endCxn id="60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11" name=""/>
          <p:cNvCxnSpPr>
            <a:stCxn id="606" idx="2"/>
            <a:endCxn id="609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12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3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4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5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6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7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1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2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23" name=""/>
          <p:cNvCxnSpPr>
            <a:endCxn id="621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24" name=""/>
          <p:cNvCxnSpPr>
            <a:endCxn id="622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2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36" name=""/>
          <p:cNvCxnSpPr>
            <a:stCxn id="628" idx="2"/>
            <a:endCxn id="63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37" name=""/>
          <p:cNvCxnSpPr>
            <a:stCxn id="629" idx="2"/>
            <a:endCxn id="63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3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5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4" name=""/>
          <p:cNvCxnSpPr>
            <a:stCxn id="656" idx="2"/>
            <a:endCxn id="66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65" name=""/>
          <p:cNvCxnSpPr>
            <a:stCxn id="657" idx="2"/>
            <a:endCxn id="66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7" name=""/>
          <p:cNvCxnSpPr>
            <a:stCxn id="660" idx="2"/>
            <a:endCxn id="66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8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4" name=""/>
          <p:cNvCxnSpPr>
            <a:stCxn id="686" idx="2"/>
            <a:endCxn id="69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5" name=""/>
          <p:cNvCxnSpPr>
            <a:stCxn id="687" idx="2"/>
            <a:endCxn id="69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9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8" name=""/>
          <p:cNvCxnSpPr>
            <a:stCxn id="690" idx="2"/>
            <a:endCxn id="69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9" name=""/>
          <p:cNvCxnSpPr>
            <a:stCxn id="691" idx="2"/>
            <a:endCxn id="697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00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1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2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3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4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5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6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7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8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9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0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1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2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3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1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26" name=""/>
          <p:cNvCxnSpPr>
            <a:stCxn id="718" idx="2"/>
            <a:endCxn id="72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27" name=""/>
          <p:cNvCxnSpPr>
            <a:stCxn id="719" idx="2"/>
            <a:endCxn id="72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28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9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30" name=""/>
          <p:cNvCxnSpPr>
            <a:stCxn id="722" idx="2"/>
            <a:endCxn id="728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31" name=""/>
          <p:cNvCxnSpPr>
            <a:stCxn id="723" idx="2"/>
            <a:endCxn id="729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32" name=""/>
          <p:cNvSpPr/>
          <p:nvPr/>
        </p:nvSpPr>
        <p:spPr>
          <a:xfrm rot="16200000">
            <a:off x="5957640" y="3566520"/>
            <a:ext cx="304920" cy="399096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4040 h 3990960"/>
              <a:gd name="textAreaBottom" fmla="*/ 3886920 h 3990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3" name=""/>
          <p:cNvSpPr/>
          <p:nvPr/>
        </p:nvSpPr>
        <p:spPr>
          <a:xfrm>
            <a:off x="508788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4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5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6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7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8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9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1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2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3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4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5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6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7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51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2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3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4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5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6" name=""/>
          <p:cNvSpPr/>
          <p:nvPr/>
        </p:nvSpPr>
        <p:spPr>
          <a:xfrm>
            <a:off x="7772400" y="2971800"/>
            <a:ext cx="91440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35 {}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0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1" name=""/>
          <p:cNvCxnSpPr>
            <a:stCxn id="752" idx="2"/>
            <a:endCxn id="75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2" name=""/>
          <p:cNvCxnSpPr>
            <a:stCxn id="753" idx="2"/>
            <a:endCxn id="75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3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4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5" name=""/>
          <p:cNvCxnSpPr>
            <a:stCxn id="757" idx="2"/>
            <a:endCxn id="763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6" name=""/>
          <p:cNvCxnSpPr>
            <a:stCxn id="758" idx="2"/>
            <a:endCxn id="764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7" name=""/>
          <p:cNvSpPr/>
          <p:nvPr/>
        </p:nvSpPr>
        <p:spPr>
          <a:xfrm rot="16200000">
            <a:off x="6286320" y="3237840"/>
            <a:ext cx="304920" cy="4648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8" name=""/>
          <p:cNvSpPr/>
          <p:nvPr/>
        </p:nvSpPr>
        <p:spPr>
          <a:xfrm>
            <a:off x="543240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9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0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1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2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3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4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5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6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7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8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9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0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1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2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3" name=""/>
          <p:cNvSpPr/>
          <p:nvPr/>
        </p:nvSpPr>
        <p:spPr>
          <a:xfrm>
            <a:off x="8077320" y="3886200"/>
            <a:ext cx="609480" cy="30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4" name=""/>
          <p:cNvSpPr/>
          <p:nvPr/>
        </p:nvSpPr>
        <p:spPr>
          <a:xfrm>
            <a:off x="8153280" y="4572000"/>
            <a:ext cx="60984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9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0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4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5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7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9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0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1" name=""/>
          <p:cNvSpPr/>
          <p:nvPr/>
        </p:nvSpPr>
        <p:spPr>
          <a:xfrm>
            <a:off x="154080" y="1469880"/>
            <a:ext cx="929628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Changes like addition/deletion of a column does not require any iterations by the widget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Display data is provided by the application - takes fraction of a second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2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3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4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5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6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7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0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1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2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3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4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6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7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8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9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0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1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2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3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4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5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6" name=""/>
          <p:cNvSpPr/>
          <p:nvPr/>
        </p:nvSpPr>
        <p:spPr>
          <a:xfrm>
            <a:off x="2651040" y="41860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49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0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1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2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3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4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6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7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8" name=""/>
          <p:cNvSpPr/>
          <p:nvPr/>
        </p:nvSpPr>
        <p:spPr>
          <a:xfrm>
            <a:off x="1192320" y="4927680"/>
            <a:ext cx="7951680" cy="1919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9" name=""/>
          <p:cNvSpPr/>
          <p:nvPr/>
        </p:nvSpPr>
        <p:spPr>
          <a:xfrm>
            <a:off x="0" y="4927680"/>
            <a:ext cx="1192320" cy="1930320"/>
          </a:xfrm>
          <a:prstGeom prst="rect">
            <a:avLst/>
          </a:prstGeom>
          <a:noFill/>
          <a:ln w="28440">
            <a:solidFill>
              <a:srgbClr val="e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0" name=""/>
          <p:cNvSpPr/>
          <p:nvPr/>
        </p:nvSpPr>
        <p:spPr>
          <a:xfrm>
            <a:off x="0" y="4159080"/>
            <a:ext cx="9144000" cy="806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sign and Wave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5532480" y="2200320"/>
            <a:ext cx="2495520" cy="257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3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4" name=""/>
          <p:cNvSpPr/>
          <p:nvPr/>
        </p:nvSpPr>
        <p:spPr>
          <a:xfrm>
            <a:off x="5494320" y="4773600"/>
            <a:ext cx="2573280" cy="20844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5" name=""/>
          <p:cNvSpPr/>
          <p:nvPr/>
        </p:nvSpPr>
        <p:spPr>
          <a:xfrm>
            <a:off x="5494320" y="1316160"/>
            <a:ext cx="257328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2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3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5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6" name=""/>
          <p:cNvSpPr/>
          <p:nvPr/>
        </p:nvSpPr>
        <p:spPr>
          <a:xfrm>
            <a:off x="4721400" y="1662120"/>
            <a:ext cx="1041120" cy="31114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7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9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0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o we create a hash table for item-&gt;name and item pointer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4721400" y="1662120"/>
            <a:ext cx="2692080" cy="3111480"/>
            <a:chOff x="4721400" y="1662120"/>
            <a:chExt cx="2692080" cy="3111480"/>
          </a:xfrm>
        </p:grpSpPr>
        <p:sp>
          <p:nvSpPr>
            <p:cNvPr id="872" name=""/>
            <p:cNvSpPr/>
            <p:nvPr/>
          </p:nvSpPr>
          <p:spPr>
            <a:xfrm>
              <a:off x="4721400" y="1662120"/>
              <a:ext cx="2692080" cy="311148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 -&gt;name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53360" y="1662120"/>
              <a:ext cx="0" cy="2305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726080" y="200808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726080" y="22766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726080" y="36590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76200" y="2392200"/>
            <a:ext cx="8458200" cy="3463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3" name="" descr=""/>
          <p:cNvPicPr/>
          <p:nvPr/>
        </p:nvPicPr>
        <p:blipFill>
          <a:blip r:embed="rId1"/>
          <a:stretch/>
        </p:blipFill>
        <p:spPr>
          <a:xfrm>
            <a:off x="938160" y="328464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tegories and sub-categories should be displayed as in-place expandable/collapsible column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6" name="" descr=""/>
          <p:cNvPicPr/>
          <p:nvPr/>
        </p:nvPicPr>
        <p:blipFill>
          <a:blip r:embed="rId1"/>
          <a:stretch/>
        </p:blipFill>
        <p:spPr>
          <a:xfrm>
            <a:off x="938160" y="3236760"/>
            <a:ext cx="5477040" cy="2333880"/>
          </a:xfrm>
          <a:prstGeom prst="rect">
            <a:avLst/>
          </a:prstGeom>
          <a:ln w="0">
            <a:noFill/>
          </a:ln>
        </p:spPr>
      </p:pic>
      <p:pic>
        <p:nvPicPr>
          <p:cNvPr id="887" name="" descr=""/>
          <p:cNvPicPr/>
          <p:nvPr/>
        </p:nvPicPr>
        <p:blipFill>
          <a:blip r:embed="rId2"/>
          <a:stretch/>
        </p:blipFill>
        <p:spPr>
          <a:xfrm>
            <a:off x="3035160" y="4235400"/>
            <a:ext cx="5486400" cy="231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xpandable/ collapsible we need to provide a clickable icon 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bug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5532480" y="4811760"/>
            <a:ext cx="2495520" cy="2035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0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1" name=""/>
          <p:cNvSpPr/>
          <p:nvPr/>
        </p:nvSpPr>
        <p:spPr>
          <a:xfrm>
            <a:off x="5494320" y="1316160"/>
            <a:ext cx="2573280" cy="34574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9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3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4" name=""/>
          <p:cNvSpPr/>
          <p:nvPr/>
        </p:nvSpPr>
        <p:spPr>
          <a:xfrm>
            <a:off x="4764240" y="2738520"/>
            <a:ext cx="1766880" cy="191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5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376200" y="304488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7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543880" cy="36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4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7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8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1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2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3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olumn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6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7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8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9" name=""/>
          <p:cNvSpPr/>
          <p:nvPr/>
        </p:nvSpPr>
        <p:spPr>
          <a:xfrm>
            <a:off x="115416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0" name=""/>
          <p:cNvSpPr/>
          <p:nvPr/>
        </p:nvSpPr>
        <p:spPr>
          <a:xfrm>
            <a:off x="280512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1" name=""/>
          <p:cNvSpPr/>
          <p:nvPr/>
        </p:nvSpPr>
        <p:spPr>
          <a:xfrm>
            <a:off x="4456080" y="2468520"/>
            <a:ext cx="157500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2" name=""/>
          <p:cNvSpPr/>
          <p:nvPr/>
        </p:nvSpPr>
        <p:spPr>
          <a:xfrm>
            <a:off x="610884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4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5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6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reate two canvases and grid them inside the clipper as column 0 and column 1 of row 0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9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0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1" name=""/>
          <p:cNvSpPr/>
          <p:nvPr/>
        </p:nvSpPr>
        <p:spPr>
          <a:xfrm>
            <a:off x="2882880" y="3390840"/>
            <a:ext cx="506736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2" name=""/>
          <p:cNvSpPr/>
          <p:nvPr/>
        </p:nvSpPr>
        <p:spPr>
          <a:xfrm>
            <a:off x="2960640" y="341640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3" name=""/>
          <p:cNvSpPr/>
          <p:nvPr/>
        </p:nvSpPr>
        <p:spPr>
          <a:xfrm>
            <a:off x="4611600" y="341784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4" name=""/>
          <p:cNvSpPr/>
          <p:nvPr/>
        </p:nvSpPr>
        <p:spPr>
          <a:xfrm>
            <a:off x="6264360" y="341784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5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6" name=""/>
          <p:cNvSpPr/>
          <p:nvPr/>
        </p:nvSpPr>
        <p:spPr>
          <a:xfrm>
            <a:off x="847800" y="3398760"/>
            <a:ext cx="172872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7" name=""/>
          <p:cNvSpPr/>
          <p:nvPr/>
        </p:nvSpPr>
        <p:spPr>
          <a:xfrm>
            <a:off x="925560" y="342432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48" name="" descr=""/>
          <p:cNvPicPr/>
          <p:nvPr/>
        </p:nvPicPr>
        <p:blipFill>
          <a:blip r:embed="rId1"/>
          <a:stretch/>
        </p:blipFill>
        <p:spPr>
          <a:xfrm>
            <a:off x="771480" y="6513480"/>
            <a:ext cx="1959120" cy="196920"/>
          </a:xfrm>
          <a:prstGeom prst="rect">
            <a:avLst/>
          </a:prstGeom>
          <a:ln w="0">
            <a:noFill/>
          </a:ln>
        </p:spPr>
      </p:pic>
      <p:pic>
        <p:nvPicPr>
          <p:cNvPr id="949" name="" descr=""/>
          <p:cNvPicPr/>
          <p:nvPr/>
        </p:nvPicPr>
        <p:blipFill>
          <a:blip r:embed="rId2"/>
          <a:stretch/>
        </p:blipFill>
        <p:spPr>
          <a:xfrm>
            <a:off x="2690640" y="6519960"/>
            <a:ext cx="5337360" cy="196920"/>
          </a:xfrm>
          <a:prstGeom prst="rect">
            <a:avLst/>
          </a:prstGeom>
          <a:ln w="0">
            <a:noFill/>
          </a:ln>
        </p:spPr>
      </p:pic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st scrollbar alters the xview of the column 0 such that it scrolls the instance names of the tree column and not the column itself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nd scrollbar alters the xview of the 2nd canvas so that the rest of the columns scroll past the tree column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Browser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1154160" y="2238480"/>
            <a:ext cx="4340160" cy="2496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6" name=""/>
          <p:cNvSpPr/>
          <p:nvPr/>
        </p:nvSpPr>
        <p:spPr>
          <a:xfrm>
            <a:off x="1154160" y="4735440"/>
            <a:ext cx="4340160" cy="21225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7" name=""/>
          <p:cNvSpPr/>
          <p:nvPr/>
        </p:nvSpPr>
        <p:spPr>
          <a:xfrm>
            <a:off x="1154160" y="1316160"/>
            <a:ext cx="434016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8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380880" y="3916440"/>
            <a:ext cx="8458200" cy="14335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xt Highlighting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xt highlighting helps to point out the issues easily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yperlink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t to the relevant file or information in other windows of the tool to debug the issues very quickly. 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57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925040" cy="4795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5724360" y="4197240"/>
            <a:ext cx="9208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Yes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9" name=""/>
          <p:cNvSpPr/>
          <p:nvPr/>
        </p:nvSpPr>
        <p:spPr>
          <a:xfrm>
            <a:off x="6821640" y="6002280"/>
            <a:ext cx="1974600" cy="365040"/>
          </a:xfrm>
          <a:prstGeom prst="flowChartTerminator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Exit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0" name=""/>
          <p:cNvSpPr/>
          <p:nvPr/>
        </p:nvSpPr>
        <p:spPr>
          <a:xfrm>
            <a:off x="3471840" y="5286240"/>
            <a:ext cx="5238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o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1" name=""/>
          <p:cNvSpPr/>
          <p:nvPr/>
        </p:nvSpPr>
        <p:spPr>
          <a:xfrm>
            <a:off x="1844640" y="1432080"/>
            <a:ext cx="4095720" cy="68580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Load file in to the text widget (read &amp; write in chuck size =256k)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2" name=""/>
          <p:cNvSpPr/>
          <p:nvPr/>
        </p:nvSpPr>
        <p:spPr>
          <a:xfrm>
            <a:off x="1576440" y="2557440"/>
            <a:ext cx="4646520" cy="70344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Calculate the boundary of visible area of text widget. 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Start line = B1 and last line = B2.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3" name=""/>
          <p:cNvSpPr/>
          <p:nvPr/>
        </p:nvSpPr>
        <p:spPr>
          <a:xfrm>
            <a:off x="1536840" y="5848200"/>
            <a:ext cx="4762440" cy="69228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Highlight the lines as per their category an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Parse each word and mark it as hyperlink if the word is filename or instance name or DRC i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4" name=""/>
          <p:cNvSpPr/>
          <p:nvPr/>
        </p:nvSpPr>
        <p:spPr>
          <a:xfrm>
            <a:off x="2228760" y="3746520"/>
            <a:ext cx="3341880" cy="1487520"/>
          </a:xfrm>
          <a:prstGeom prst="flowChartDecision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If the text between (B1, B2) has already been parse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965" name=""/>
          <p:cNvCxnSpPr>
            <a:stCxn id="961" idx="2"/>
            <a:endCxn id="962" idx="0"/>
          </p:cNvCxnSpPr>
          <p:nvPr/>
        </p:nvCxnSpPr>
        <p:spPr>
          <a:xfrm>
            <a:off x="3892680" y="2117520"/>
            <a:ext cx="8640" cy="4402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6" name=""/>
          <p:cNvCxnSpPr>
            <a:stCxn id="962" idx="2"/>
            <a:endCxn id="964" idx="0"/>
          </p:cNvCxnSpPr>
          <p:nvPr/>
        </p:nvCxnSpPr>
        <p:spPr>
          <a:xfrm flipV="1" rot="10800000">
            <a:off x="3899880" y="3260520"/>
            <a:ext cx="1080" cy="48636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7" name=""/>
          <p:cNvCxnSpPr>
            <a:stCxn id="964" idx="2"/>
            <a:endCxn id="963" idx="0"/>
          </p:cNvCxnSpPr>
          <p:nvPr/>
        </p:nvCxnSpPr>
        <p:spPr>
          <a:xfrm>
            <a:off x="3900600" y="5234040"/>
            <a:ext cx="18000" cy="614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8" name=""/>
          <p:cNvCxnSpPr>
            <a:stCxn id="963" idx="3"/>
            <a:endCxn id="959" idx="1"/>
          </p:cNvCxnSpPr>
          <p:nvPr/>
        </p:nvCxnSpPr>
        <p:spPr>
          <a:xfrm flipV="1">
            <a:off x="6298920" y="6184080"/>
            <a:ext cx="523080" cy="104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9" name=""/>
          <p:cNvCxnSpPr>
            <a:stCxn id="964" idx="3"/>
            <a:endCxn id="959" idx="0"/>
          </p:cNvCxnSpPr>
          <p:nvPr/>
        </p:nvCxnSpPr>
        <p:spPr>
          <a:xfrm>
            <a:off x="5570280" y="4491000"/>
            <a:ext cx="2238840" cy="151200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 – Incremental Pars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44000" cy="2832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hank you.</a:t>
            </a:r>
            <a:endParaRPr b="1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72" name="Slide Number Placeholder 2"/>
          <p:cNvSpPr/>
          <p:nvPr/>
        </p:nvSpPr>
        <p:spPr>
          <a:xfrm>
            <a:off x="0" y="662616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F3A0B-D075-4098-9118-DA4B952C6712}" type="slidenum">
              <a:rPr b="0" lang="en-US" sz="8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Transcript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1154160" y="4735440"/>
            <a:ext cx="4340160" cy="2111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3" name=""/>
          <p:cNvSpPr/>
          <p:nvPr/>
        </p:nvSpPr>
        <p:spPr>
          <a:xfrm>
            <a:off x="1154160" y="1355760"/>
            <a:ext cx="4340160" cy="337968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4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1154160" y="4965840"/>
            <a:ext cx="4340160" cy="1689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8" name=""/>
          <p:cNvSpPr/>
          <p:nvPr/>
        </p:nvSpPr>
        <p:spPr>
          <a:xfrm>
            <a:off x="1154160" y="1355760"/>
            <a:ext cx="4340160" cy="88272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9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0" name=""/>
          <p:cNvSpPr/>
          <p:nvPr/>
        </p:nvSpPr>
        <p:spPr>
          <a:xfrm>
            <a:off x="1154160" y="2392200"/>
            <a:ext cx="4340160" cy="21114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1" name=""/>
          <p:cNvSpPr/>
          <p:nvPr/>
        </p:nvSpPr>
        <p:spPr>
          <a:xfrm>
            <a:off x="347760" y="1201680"/>
            <a:ext cx="2457360" cy="614520"/>
          </a:xfrm>
          <a:prstGeom prst="ellipse">
            <a:avLst/>
          </a:prstGeom>
          <a:solidFill>
            <a:srgbClr val="33cccc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MtiHierarchy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2" name=""/>
          <p:cNvSpPr/>
          <p:nvPr/>
        </p:nvSpPr>
        <p:spPr>
          <a:xfrm>
            <a:off x="5992920" y="4735440"/>
            <a:ext cx="150012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Text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63" name=""/>
          <p:cNvCxnSpPr>
            <a:stCxn id="561" idx="4"/>
            <a:endCxn id="560" idx="0"/>
          </p:cNvCxnSpPr>
          <p:nvPr/>
        </p:nvCxnSpPr>
        <p:spPr>
          <a:xfrm flipH="1" rot="16200000">
            <a:off x="2172240" y="1226880"/>
            <a:ext cx="554760" cy="1748520"/>
          </a:xfrm>
          <a:prstGeom prst="bentConnector3">
            <a:avLst>
              <a:gd name="adj1" fmla="val 50389"/>
            </a:avLst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64" name=""/>
          <p:cNvCxnSpPr>
            <a:stCxn id="562" idx="4"/>
            <a:endCxn id="557" idx="3"/>
          </p:cNvCxnSpPr>
          <p:nvPr/>
        </p:nvCxnSpPr>
        <p:spPr>
          <a:xfrm rot="5400000">
            <a:off x="5899320" y="4966200"/>
            <a:ext cx="453240" cy="1235880"/>
          </a:xfrm>
          <a:prstGeom prst="bentConnector2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376200" y="181620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9:50:02Z</dcterms:created>
  <dc:creator>Prashant Thakre</dc:creator>
  <dc:description/>
  <dc:language>en-US</dc:language>
  <cp:lastModifiedBy>gbansal</cp:lastModifiedBy>
  <dcterms:modified xsi:type="dcterms:W3CDTF">2010-10-15T00:34:53Z</dcterms:modified>
  <cp:revision>1315</cp:revision>
  <dc:subject/>
  <dc:title>Slide 1</dc:title>
</cp:coreProperties>
</file>