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E939-7735-4D48-AFE2-2686B571B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56C3-F661-47BB-8C60-800C45A69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E93620-4C10-442D-BD02-83FA64C7F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9710D7-21EC-4FBD-9B40-4972E753F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098B05-0B86-4075-933A-F83B87F26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71A9AB-1CE1-44B4-94C1-8014B2AF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637E65-D99D-4FA7-BC53-C4AAE716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DEB541-B622-48B7-9F4E-D0F33FBD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1F1EC1-3F56-4831-A77C-9B1B63A00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FE4EBC-D838-4216-974A-DA1F34B91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289845-EA87-4EC9-9FB0-8C2EDED73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BC47ED2-B3B1-41FA-9811-93021C72F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C0FB-5F77-4CD4-B90B-04F771AC1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A6131DC-62AC-496C-9664-A507D099E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1D64172-8F53-40F9-8DA5-A16EBDF28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5EC1D30-F5EE-4BFE-ACE8-47A1B607E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5F26C8D-893F-44F8-8BCE-A3739A7E8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9C16B9A-CAD6-43B2-8C74-85E982B3D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EE994E3-EABC-4E9A-8087-4D53694A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9EC658D-84A6-4F23-9B6A-2FDAD38B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A659AA3-9B70-49F8-B4C4-4B77DDC3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EEA9348-4A1B-40CE-BB86-A96C36178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EB2E0EB-4E43-434F-8C9E-A989F949D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E177-9BD4-448B-841B-C41E90430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A832F7D-7B2E-4575-9C92-A53EDB28A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4C491F-D447-4835-9DE6-924F2BBAC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22F66F-97E9-4730-BACD-269C81E09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E49B10-0D17-405F-B994-AC951346E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7378AC-6D75-4C9A-8A52-A8DC03830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1ADC72-713E-4442-A821-1C6DE68D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CB4A84-BFE6-4B1C-B624-C8071BB53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80F993-64F7-4957-A8DF-133C4059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DE4FED-5EE3-4B48-92AF-07AC800F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2440AB-8C34-40E5-9342-353E6EF7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A1850-E45E-4A53-87E5-F4D359634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443CA0-0C3F-44C4-9D15-6E86B2520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CD9314-C4CC-4FDE-8A18-371B380E2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A3E8C5-E24D-4228-AB73-BF9B92ECF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C311F3-DFD0-49A3-A694-6875514B4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0B6FCF-AA2F-431C-AA71-AC4ECD8C3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09A9E5-877B-4343-90A0-D1F9AB85F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B88391-407E-40B3-B85D-205C670AE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3D1D3C-0EB4-47B3-ACEA-DA065CBB4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22D137-1853-4750-B27B-41DC37662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2F4054-A23C-47A9-BEC5-1D6625B9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DC084-41C5-4CCF-B3B2-01ED9E4AD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8FB223-E9B1-4F99-A386-44B9AD88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6F48D3-517B-45A9-9B6E-CDA477E9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BDBD36-0F2D-4F1A-9EB0-7051433D1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739EB6-23C7-4256-B1AB-AD7F776FD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A348E7-558E-4929-BDA8-009EA4DD8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DB13D-FBC4-4AAE-B8EF-CDB63AB42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D17E0-6B77-4B08-B77E-D876C6D3A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84083-433F-495E-8FD7-A3CD0E84B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1A8C0-BA37-4BFC-A79E-9A364146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06C4F-3311-4423-A590-D90F9574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A216-6C8B-4FCA-BF68-FE1565159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C2972-1B5D-4E3E-966A-CA619F5E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B9D43-A5E0-4797-AA7E-75D8374A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F2D84-36E4-4E83-B52C-3FA35847D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E2A30-B85E-4188-BEBF-DAA026BD9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42773-E911-4A75-86F1-46EFC0975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7F966-5CFA-4501-8254-85A6F7B3E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CAE22-740F-4D35-B7CB-359BBFADA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07818-A8A6-4474-AE25-7283B28D9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F94B0-7494-40C7-8915-9145C12F7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B8A60-02F4-48DE-A7B9-F7DC94D97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2F8D-BB8F-4317-85AA-887EEA3C9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4EAFA-F46A-4B43-814F-F08F26296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204B5-31F2-4FF2-B1F1-574CD09F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F6D37-E0DB-42E5-9EA2-8DEACC63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3F608-55CC-4192-9AED-49CB32A9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1DAC8-DE9D-47EB-876A-541ECF6C1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B8AB7-C55C-47E7-8F8F-0A2C0067B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F8CAA-85CB-4D89-93C1-8AD80CE97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CE577-63D0-4A46-8C34-23D529D48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8FB30-9421-4FCE-A5AA-D7407E811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0D9AB-0391-4505-8798-D90E73CED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8DEF-BF58-4BDD-B620-BDBE6D2B6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6D42B-4C39-4DFC-A063-7028595CA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54CA5-5EE5-4CD1-86D8-C32B00B7A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19142-75F5-4077-BE4E-BFB5BD3DE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D05BE-2FBC-495F-80CF-0306BE9D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BA8A3-47A5-45B7-A3AF-BF7D0BE3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4A692-955F-4488-BEA1-81982607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39768-D421-4E64-B9C7-E0F168917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819BE-0325-45DB-98CC-E01C08CB0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0E3A1-FAC3-48ED-9C47-41F019B29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E0339B-32F3-40A1-B3D2-8255C0007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C019-03D3-4376-B231-6D0B5075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67DD2F-5680-4CCC-8610-59C5DA8C1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C9864F-3FD3-4269-8E7E-1FF2521BB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596625-814D-448A-B082-A0CC480D6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0B63A2-E093-45E7-B346-327738556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A1FDF9-B7DF-4798-A456-9F95161E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5186C6-F3BE-403F-A31E-37F11A6D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9E7723-C3B9-40DE-BFAC-410CE0DE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025CB2-1B7D-4F79-8D2E-4CBA0D9F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8B6AE7-4092-45D0-B8B1-5676069C2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19AE74-211C-4E8A-B900-B651CCF67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036A-F7F4-4CD4-959B-646970BFD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F5CD1A-4E0E-4B23-9D44-0A6A48630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D32FA-71DE-4C7A-81FD-0F754B908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D69AF-AFEB-4F23-888B-1DA2036FC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9334F-6A22-448A-9403-35791352E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B6B37-F099-4095-A42B-7EB243F07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A979A-65BF-4484-9C93-FE038D912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4F3113-0058-46CA-9BA9-68CF135A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8FA33-6092-48E5-9729-6CE1B005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276FD-AC71-4962-932E-45BDACE6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7E752-624B-4BEE-8241-5612AE07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20E7-8A59-4962-9AEB-AF01A2AC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7034B-349C-4573-87CB-8CC75F368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0DA51-63EE-4198-B821-36933DFE5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25166-E80E-4444-8D72-C9797DB48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06ABDB-02A0-4C57-AB9A-D9DC48AB9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2CAE7-0E73-4A49-A532-A6484429D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B7C84-4F06-4426-8D49-4B7C6B5B5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94BED7-11E0-4F9A-BA13-005DD458E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A528A0-38BF-4800-A75D-E50B0437E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BAE2F6-B831-4D63-9E37-A429440F0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E2A6E-DB42-429A-A887-7EFF79D9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9205-8371-4A2D-861E-CFFB674E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1CE70-521E-48D9-9B51-55FD4836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18741-7DE7-4CB3-A3AF-D5DB0BF3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E55B8-3CE5-4884-AEBE-19BD3B2AE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690AAB-0DF1-4F5F-8655-50087006D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DF914-F562-460B-91C8-7A2602963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6DD7A-685D-4359-B4E3-28C503BED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38181D-885F-43DD-9ED5-63F991F71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2B8266-B172-436D-B6DB-AF76DC08C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50450-141A-4AAD-A98E-7451ECB0F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A03191-EF6E-4509-903C-9BF1BA0CA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233F-6365-4FCF-B489-66A1CA2B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BC7583-9F2B-4CE0-B7AC-3D3220EBD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237466-0C43-47CF-81E6-FDAEEC06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E9FC25-1B59-4025-99AA-5E729C7E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13FED-5803-491C-AA3C-F614D3A6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F343EC-7386-484C-9D28-8BAF73473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A726E-CBFC-4286-92BE-20330DCAA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6E0AC8-C8CA-4C98-AA10-FB349472B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972EA5-ADA6-48A3-AE84-98AE2BAB1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51E45A-E622-47FD-8AB9-33108CC8F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912E47-0709-4A1F-A069-1AB5D116A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EA771-3691-47FC-AF44-50B7975E3D12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8634D-44F5-49DF-A0E0-31B8A38AC7F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76A83-43C5-45D6-8043-BBE5F3245CD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9EA23-F224-426C-BA04-B03CF7350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E34C2-C77E-4547-9334-DFA9F31ECE00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02A0D-D0C1-451F-BCA5-46B223AA18D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480B4-1D30-46D9-955A-E89DD84E4BC1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BD23C-62FD-4B0F-A0EA-C2F1E7D6E0D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2B483-9083-4AD0-899C-8EF7692E3484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8C7DF-9B8C-4DAC-B2A5-3F250FF5318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66441-F2D8-4895-9994-2B801673D65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B738F-854F-419B-A297-EB0D3B3773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6801B-7C1F-4910-B708-4398852E7DB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C805A-63A9-4E30-B7F6-083F8E0761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33CAC-BF85-413F-9F7A-8132E60A58F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52E4E-4B25-4D60-9700-FCE21429C69B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FA420-429C-449D-AAB5-476B966BB122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958D0-35C8-4DAF-B0D0-7D7A57C4015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92302-3FAD-4C52-A22A-E1C447926BAF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CD20D-96E8-4DFD-8ED0-FFEECC77B42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D6031-688E-4597-9631-D65BEBBF28C2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1D910-D1BD-44E2-A2F9-D32892EB2F9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A4BE6-5AA1-468D-B76E-B581C741C49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4EF06-E042-4091-A5AF-40F4E5757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604C-3286-4939-9C7D-2F7CD35A781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C2435B-C703-40B7-8DD9-BAB64A08D525}" type="datetime1">
              <a:rPr lang="en-US"/>
              <a:t>07/28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41C8D-03CF-4B78-BEBB-927E773A3FD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B65F01DB-1EBB-4549-AA85-A16B83691F52}" type="datetime1">
              <a:rPr lang="en-US"/>
              <a:t>07/28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diamond(out)" transition="out">
                                      <p:cBhvr additive="repl">
                                        <p:cTn id="132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0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0049A-424D-484D-A600-72C876135602}" type="slidenum">
              <a:t>3</a:t>
            </a:fld>
          </a:p>
        </p:txBody>
      </p:sp>
    </p:spTree>
  </p:cSld>
  <p:transition>
    <p:comb dir="horz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733571-E482-4BA8-96DB-26061408BFA4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BDE56F47-14CB-46F0-A29D-E015EEF9374A}" type="datetime1">
              <a:rPr lang="en-US"/>
              <a:t>07/28/26</a:t>
            </a:fld>
          </a:p>
        </p:txBody>
      </p:sp>
    </p:spTree>
  </p:cSld>
  <p:transition>
    <p:wedg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6000"/>
                            </p:stCondLst>
                            <p:childTnLst>
                              <p:par>
                                <p:cTn id="2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8000"/>
                            </p:stCondLst>
                            <p:childTnLst>
                              <p:par>
                                <p:cTn id="2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6A9DDA-80E5-43E9-8374-4C3DC290ECC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2944065D-74C5-47BA-971B-E9F5CB4CF1C1}" type="datetime1">
              <a:rPr lang="en-US"/>
              <a:t>07/28/26</a:t>
            </a:fld>
          </a:p>
        </p:txBody>
      </p:sp>
    </p:spTree>
  </p:cSld>
  <p:transition>
    <p:wipe dir="d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4000"/>
                            </p:stCondLst>
                            <p:childTnLst>
                              <p:par>
                                <p:cTn id="2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0"/>
                            </p:stCondLst>
                            <p:childTnLst>
                              <p:par>
                                <p:cTn id="29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7000"/>
                            </p:stCondLst>
                            <p:childTnLst>
                              <p:par>
                                <p:cTn id="3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9000"/>
                            </p:stCondLst>
                            <p:childTnLst>
                              <p:par>
                                <p:cTn id="3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0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5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60A428-84BD-4344-8378-09ADEE74BEF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5BDB83AB-8E03-48EB-A6E0-77A906C2E6AE}" type="datetime1">
              <a:rPr lang="en-US"/>
              <a:t>07/28/26</a:t>
            </a:fld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5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6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4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5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