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3F40-0A1F-4B82-BEE7-BC3C2F560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2FF4-E49D-439E-9D3B-6E360102C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9478-B548-4AA7-ADC0-898AE350D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725B-544C-4A10-AAB6-86B8BC9EC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B389-C737-43A5-8122-79B700647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A843-523E-4B4D-9F0F-4948A1040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5229-7CDE-46FC-87D9-F03A2587C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66F5-77ED-4A50-BEFF-87F2E7FFD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7014-ACBB-4A03-931C-3FB21CD3D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30FB-A45A-44A0-8BFC-9EDC90D80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4919-2A38-4C7B-81D6-7B747E86B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2C73-1CC2-454D-A9F9-19B73A0C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3EDD8-8B5B-4BAA-9C18-053E4656E6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jen Mar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ew examples of Plotchart 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s DeCoster’s xy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al: SCADA disp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to use: just a few commands for a 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de range of plot and chart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d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s predecessor: emu_graph by Ste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si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dec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whole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form of cli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nage the data (duplic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ing the appearance takes effect for new data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the plot of the chosen type – new com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l in the data via subcomm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ails differ per plot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de – linking method names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title)             Draw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xtext)             DrawX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plot)              Draw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dot)               DrawD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dotconfig)         DotConfig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interval)          DrawInter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trend)             DrawTrend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piechart,plot)            DrawP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piechart,saveplot)        SavePl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::Plotchart::createPiechart { w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iable data_se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s [array names data_series "$w,*"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nset data_series($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newchart "piechart_$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rp alias {} $newchart {} ::Plotchart::PlotHandler piechart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pyConfig piechart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{pxmin pymin pxmax pymax} [MarginsCircle $w] {break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iewPort $w $pxmin $pymin $pxmax $py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w create oval $pxmin $pymin $pxmax $py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Colours $w blue lightblue green yellow orange red magenta brow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faultLegend 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faultBalloon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$newch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– par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::Plotchart::PlotHandler { type w command args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iable methodPro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{ [info exists methodProc($type,$command)]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val $methodProc($type,$command) $w $ar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-code error "No such method - $command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: contrib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people have contributed with code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 Stucky, Stefan Finzel, Pa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gel, Dave Hanks, Michael Baud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ve Blinkhorn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s DeCoster has developed xyplot on 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Plot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ly supported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Y-plots (also logarithmic ax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our plots (2D and 3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grams and pie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charts and Gantt 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al cha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ous types of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ing plots in one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4T04:30:44Z</dcterms:created>
  <dc:creator>Computer Services</dc:creator>
  <dc:description/>
  <dc:language>en-US</dc:language>
  <cp:lastModifiedBy>Computer Services</cp:lastModifiedBy>
  <dcterms:modified xsi:type="dcterms:W3CDTF">2010-06-04T04:48:12Z</dcterms:modified>
  <cp:revision>4</cp:revision>
  <dc:subject/>
  <dc:title>Plotchart</dc:title>
</cp:coreProperties>
</file>