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7.wmf" ContentType="image/x-wmf"/>
  <Override PartName="/ppt/media/image8.wmf" ContentType="image/x-wmf"/>
  <Override PartName="/ppt/media/image13.png" ContentType="image/png"/>
  <Override PartName="/ppt/media/image11.jpeg" ContentType="image/jpeg"/>
  <Override PartName="/ppt/media/image18.png" ContentType="image/png"/>
  <Override PartName="/ppt/media/image17.png" ContentType="image/png"/>
  <Override PartName="/ppt/media/image1.png" ContentType="image/png"/>
  <Override PartName="/ppt/media/image19.png" ContentType="image/png"/>
  <Override PartName="/ppt/media/image16.gif" ContentType="image/gif"/>
  <Override PartName="/ppt/media/image10.wmf" ContentType="image/x-wmf"/>
  <Override PartName="/ppt/media/image4.jpeg" ContentType="image/jpeg"/>
  <Override PartName="/ppt/media/image2.png" ContentType="image/png"/>
  <Override PartName="/ppt/media/image15.png" ContentType="image/png"/>
  <Override PartName="/ppt/media/image5.jpeg" ContentType="image/jpeg"/>
  <Override PartName="/ppt/media/image3.png" ContentType="image/png"/>
  <Override PartName="/ppt/media/image9.wmf" ContentType="image/x-wmf"/>
  <Override PartName="/ppt/media/image1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310760" y="1026720"/>
            <a:ext cx="493236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1170000" y="5086440"/>
            <a:ext cx="52214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msgothic"/>
              </a:rPr>
              <a:t>Accessibilité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msgothic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msgothic"/>
              </a:rPr>
              <a:t>Lou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msgothic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msgothic"/>
              </a:rPr>
              <a:t>Bureau virtuel (config Xorg à confirmer par Anne)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msgothic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msgothic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msgothic"/>
              </a:rPr>
              <a:t>Claviers Braille à confirmer par An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39440" y="612720"/>
            <a:ext cx="8605800" cy="45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1120" y="1270080"/>
            <a:ext cx="8773920" cy="263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21449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1120" y="4157280"/>
            <a:ext cx="8773920" cy="263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21449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39440" y="612720"/>
            <a:ext cx="8605800" cy="45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1120" y="1270080"/>
            <a:ext cx="4281480" cy="263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21449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77160" y="1270080"/>
            <a:ext cx="4281480" cy="263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21449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1120" y="4157280"/>
            <a:ext cx="4281480" cy="263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21449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77160" y="4157280"/>
            <a:ext cx="4281480" cy="263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21449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39440" y="612720"/>
            <a:ext cx="8605800" cy="45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1120" y="1270080"/>
            <a:ext cx="2824920" cy="263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21449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7520" y="1270080"/>
            <a:ext cx="2824920" cy="263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21449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14280" y="1270080"/>
            <a:ext cx="2824920" cy="263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21449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1120" y="4157280"/>
            <a:ext cx="2824920" cy="263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21449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7520" y="4157280"/>
            <a:ext cx="2824920" cy="263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21449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14280" y="4157280"/>
            <a:ext cx="2824920" cy="263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21449c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39440" y="612720"/>
            <a:ext cx="8605800" cy="45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1120" y="1270080"/>
            <a:ext cx="8773920" cy="55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39440" y="612720"/>
            <a:ext cx="8605800" cy="45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1120" y="1270080"/>
            <a:ext cx="8773920" cy="55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21449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39440" y="612720"/>
            <a:ext cx="8605800" cy="45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1120" y="1270080"/>
            <a:ext cx="4281480" cy="55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21449c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177160" y="1270080"/>
            <a:ext cx="4281480" cy="55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21449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39440" y="612720"/>
            <a:ext cx="8605800" cy="45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739440" y="647280"/>
            <a:ext cx="8605800" cy="178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39440" y="612720"/>
            <a:ext cx="8605800" cy="45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1120" y="1270080"/>
            <a:ext cx="4281480" cy="263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21449c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77160" y="1270080"/>
            <a:ext cx="4281480" cy="55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21449c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1120" y="4157280"/>
            <a:ext cx="4281480" cy="263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21449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39440" y="612720"/>
            <a:ext cx="8605800" cy="45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1120" y="1270080"/>
            <a:ext cx="8773920" cy="55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39440" y="612720"/>
            <a:ext cx="8605800" cy="45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1120" y="1270080"/>
            <a:ext cx="4281480" cy="55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21449c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77160" y="1270080"/>
            <a:ext cx="4281480" cy="263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21449c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177160" y="4157280"/>
            <a:ext cx="4281480" cy="263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21449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39440" y="612720"/>
            <a:ext cx="8605800" cy="45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1120" y="1270080"/>
            <a:ext cx="4281480" cy="263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21449c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77160" y="1270080"/>
            <a:ext cx="4281480" cy="263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21449c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1120" y="4157280"/>
            <a:ext cx="8773920" cy="263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21449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39440" y="612720"/>
            <a:ext cx="8605800" cy="45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1120" y="1270080"/>
            <a:ext cx="8773920" cy="263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21449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1120" y="4157280"/>
            <a:ext cx="8773920" cy="263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21449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39440" y="612720"/>
            <a:ext cx="8605800" cy="45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1120" y="1270080"/>
            <a:ext cx="4281480" cy="263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21449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77160" y="1270080"/>
            <a:ext cx="4281480" cy="263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21449c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1120" y="4157280"/>
            <a:ext cx="4281480" cy="263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21449c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5177160" y="4157280"/>
            <a:ext cx="4281480" cy="263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21449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39440" y="612720"/>
            <a:ext cx="8605800" cy="45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1120" y="1270080"/>
            <a:ext cx="2824920" cy="263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21449c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647520" y="1270080"/>
            <a:ext cx="2824920" cy="263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21449c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614280" y="1270080"/>
            <a:ext cx="2824920" cy="263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21449c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1120" y="4157280"/>
            <a:ext cx="2824920" cy="263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21449c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647520" y="4157280"/>
            <a:ext cx="2824920" cy="263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21449c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614280" y="4157280"/>
            <a:ext cx="2824920" cy="263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21449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39440" y="612720"/>
            <a:ext cx="8605800" cy="45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1120" y="1270080"/>
            <a:ext cx="8773920" cy="55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21449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39440" y="612720"/>
            <a:ext cx="8605800" cy="45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1120" y="1270080"/>
            <a:ext cx="4281480" cy="55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21449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77160" y="1270080"/>
            <a:ext cx="4281480" cy="55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21449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39440" y="612720"/>
            <a:ext cx="8605800" cy="45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39440" y="647280"/>
            <a:ext cx="8605800" cy="178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39440" y="612720"/>
            <a:ext cx="8605800" cy="45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1120" y="1270080"/>
            <a:ext cx="4281480" cy="263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21449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77160" y="1270080"/>
            <a:ext cx="4281480" cy="55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21449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1120" y="4157280"/>
            <a:ext cx="4281480" cy="263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21449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39440" y="612720"/>
            <a:ext cx="8605800" cy="45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1120" y="1270080"/>
            <a:ext cx="4281480" cy="55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21449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77160" y="1270080"/>
            <a:ext cx="4281480" cy="263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21449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77160" y="4157280"/>
            <a:ext cx="4281480" cy="263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21449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39440" y="612720"/>
            <a:ext cx="8605800" cy="45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1120" y="1270080"/>
            <a:ext cx="4281480" cy="263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21449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77160" y="1270080"/>
            <a:ext cx="4281480" cy="263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21449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1120" y="4157280"/>
            <a:ext cx="8773920" cy="263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21449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078920" cy="75596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39440" y="647280"/>
            <a:ext cx="860580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1120" y="1270080"/>
            <a:ext cx="8773920" cy="55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2680" indent="-319320">
              <a:lnSpc>
                <a:spcPct val="93000"/>
              </a:lnSpc>
              <a:buClr>
                <a:srgbClr val="21449c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21449c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1449c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buClr>
                <a:srgbClr val="4c62ab"/>
              </a:buClr>
              <a:buFont typeface="Symbol" charset="2"/>
              <a:buChar char="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21449c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1449c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buClr>
                <a:srgbClr val="999999"/>
              </a:buClr>
              <a:buSzPct val="4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21449c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1449c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buClr>
                <a:srgbClr val="21449c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21449c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1449c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buClr>
                <a:srgbClr val="21449c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21449c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1449c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21449c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1449c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21449c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1449c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208080" y="55440"/>
            <a:ext cx="523800" cy="511200"/>
          </a:xfrm>
          <a:prstGeom prst="rect">
            <a:avLst/>
          </a:prstGeom>
          <a:ln w="0">
            <a:noFill/>
          </a:ln>
        </p:spPr>
      </p:pic>
      <p:pic>
        <p:nvPicPr>
          <p:cNvPr id="4" name="" descr=""/>
          <p:cNvPicPr/>
          <p:nvPr/>
        </p:nvPicPr>
        <p:blipFill>
          <a:blip r:embed="rId4"/>
          <a:stretch/>
        </p:blipFill>
        <p:spPr>
          <a:xfrm>
            <a:off x="9399600" y="60480"/>
            <a:ext cx="601560" cy="765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078920" cy="75596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39440" y="647280"/>
            <a:ext cx="860580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1120" y="1270080"/>
            <a:ext cx="8773920" cy="55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2680" indent="-319320">
              <a:lnSpc>
                <a:spcPct val="93000"/>
              </a:lnSpc>
              <a:buClr>
                <a:srgbClr val="21449c"/>
              </a:buClr>
              <a:buSzPct val="45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21449c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1449c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buClr>
                <a:srgbClr val="4c62ab"/>
              </a:buClr>
              <a:buSzPct val="45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21449c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1449c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buClr>
                <a:srgbClr val="999999"/>
              </a:buClr>
              <a:buSzPct val="45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21449c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1449c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buClr>
                <a:srgbClr val="80808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21449c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1449c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buClr>
                <a:srgbClr val="21449c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21449c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1449c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21449c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1449c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21449c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1449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0.wmf"/><Relationship Id="rId7" Type="http://schemas.openxmlformats.org/officeDocument/2006/relationships/image" Target="../media/image11.jpeg"/><Relationship Id="rId8" Type="http://schemas.openxmlformats.org/officeDocument/2006/relationships/image" Target="../media/image9.wmf"/><Relationship Id="rId9" Type="http://schemas.openxmlformats.org/officeDocument/2006/relationships/image" Target="../media/image9.wmf"/><Relationship Id="rId10" Type="http://schemas.openxmlformats.org/officeDocument/2006/relationships/image" Target="../media/image9.wmf"/><Relationship Id="rId11" Type="http://schemas.openxmlformats.org/officeDocument/2006/relationships/image" Target="../media/image9.wmf"/><Relationship Id="rId12" Type="http://schemas.openxmlformats.org/officeDocument/2006/relationships/image" Target="../media/image5.jpeg"/><Relationship Id="rId13" Type="http://schemas.openxmlformats.org/officeDocument/2006/relationships/image" Target="../media/image6.png"/><Relationship Id="rId14" Type="http://schemas.openxmlformats.org/officeDocument/2006/relationships/image" Target="../media/image6.png"/><Relationship Id="rId15" Type="http://schemas.openxmlformats.org/officeDocument/2006/relationships/image" Target="../media/image12.png"/><Relationship Id="rId16" Type="http://schemas.openxmlformats.org/officeDocument/2006/relationships/image" Target="../media/image13.png"/><Relationship Id="rId17" Type="http://schemas.openxmlformats.org/officeDocument/2006/relationships/image" Target="../media/image14.png"/><Relationship Id="rId18" Type="http://schemas.openxmlformats.org/officeDocument/2006/relationships/image" Target="../media/image15.png"/><Relationship Id="rId19" Type="http://schemas.openxmlformats.org/officeDocument/2006/relationships/image" Target="../media/image16.gif"/><Relationship Id="rId20" Type="http://schemas.openxmlformats.org/officeDocument/2006/relationships/image" Target="../media/image17.png"/><Relationship Id="rId2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39440" y="612720"/>
            <a:ext cx="86072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0760" y="1209600"/>
            <a:ext cx="8775720" cy="1018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26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600" spc="-1" strike="noStrike">
              <a:solidFill>
                <a:srgbClr val="21449c"/>
              </a:solidFill>
              <a:latin typeface="Arial"/>
            </a:endParaRPr>
          </a:p>
          <a:p>
            <a:pPr marL="3826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000" spc="-1" strike="noStrike">
                <a:solidFill>
                  <a:srgbClr val="21449c"/>
                </a:solidFill>
                <a:latin typeface="Arial"/>
              </a:rPr>
              <a:t>UCOME</a:t>
            </a:r>
            <a:endParaRPr b="1" lang="en-US" sz="4000" spc="-1" strike="noStrike">
              <a:solidFill>
                <a:srgbClr val="21449c"/>
              </a:solidFill>
              <a:latin typeface="Arial"/>
            </a:endParaRPr>
          </a:p>
          <a:p>
            <a:pPr marL="3826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000" spc="-1" strike="noStrike">
                <a:solidFill>
                  <a:srgbClr val="21449c"/>
                </a:solidFill>
                <a:latin typeface="Arial"/>
              </a:rPr>
              <a:t>Your Content Management ...</a:t>
            </a:r>
            <a:endParaRPr b="1" lang="en-US" sz="4000" spc="-1" strike="noStrike">
              <a:solidFill>
                <a:srgbClr val="21449c"/>
              </a:solidFill>
              <a:latin typeface="Arial"/>
            </a:endParaRPr>
          </a:p>
          <a:p>
            <a:pPr marL="3826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000" spc="-1" strike="noStrike">
                <a:solidFill>
                  <a:srgbClr val="21449c"/>
                </a:solidFill>
                <a:latin typeface="Arial"/>
              </a:rPr>
              <a:t>in Tcl</a:t>
            </a:r>
            <a:endParaRPr b="1" lang="en-US" sz="4000" spc="-1" strike="noStrike">
              <a:solidFill>
                <a:srgbClr val="21449c"/>
              </a:solidFill>
              <a:latin typeface="Arial"/>
            </a:endParaRPr>
          </a:p>
          <a:p>
            <a:pPr marL="3826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600" spc="-1" strike="noStrike">
              <a:solidFill>
                <a:srgbClr val="21449c"/>
              </a:solidFill>
              <a:latin typeface="Arial"/>
            </a:endParaRPr>
          </a:p>
          <a:p>
            <a:pPr marL="3826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600" spc="-1" strike="noStrike">
              <a:solidFill>
                <a:srgbClr val="21449c"/>
              </a:solidFill>
              <a:latin typeface="Arial"/>
            </a:endParaRPr>
          </a:p>
          <a:p>
            <a:pPr marL="3826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600" spc="-1" strike="noStrike">
              <a:solidFill>
                <a:srgbClr val="21449c"/>
              </a:solidFill>
              <a:latin typeface="Arial"/>
            </a:endParaRPr>
          </a:p>
          <a:p>
            <a:pPr marL="3826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600" spc="-1" strike="noStrike">
              <a:solidFill>
                <a:srgbClr val="21449c"/>
              </a:solidFill>
              <a:latin typeface="Arial"/>
            </a:endParaRPr>
          </a:p>
          <a:p>
            <a:pPr marL="3826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600" spc="-1" strike="noStrike">
              <a:solidFill>
                <a:srgbClr val="21449c"/>
              </a:solidFill>
              <a:latin typeface="Arial"/>
            </a:endParaRPr>
          </a:p>
          <a:p>
            <a:pPr marL="3826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600" spc="-1" strike="noStrike">
              <a:solidFill>
                <a:srgbClr val="21449c"/>
              </a:solidFill>
              <a:latin typeface="Arial"/>
            </a:endParaRPr>
          </a:p>
          <a:p>
            <a:pPr marL="3826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600" spc="-1" strike="noStrike">
                <a:solidFill>
                  <a:srgbClr val="21449c"/>
                </a:solidFill>
                <a:latin typeface="Arial"/>
              </a:rPr>
              <a:t>Mandriva - Ouvert, simple et innovant</a:t>
            </a:r>
            <a:endParaRPr b="1" lang="en-US" sz="2600" spc="-1" strike="noStrike">
              <a:solidFill>
                <a:srgbClr val="21449c"/>
              </a:solidFill>
              <a:latin typeface="Arial"/>
            </a:endParaRPr>
          </a:p>
          <a:p>
            <a:pPr marL="3826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600" spc="-1" strike="noStrike">
                <a:solidFill>
                  <a:srgbClr val="21449c"/>
                </a:solidFill>
                <a:latin typeface="Arial"/>
              </a:rPr>
              <a:t>Arnaud Laprévote – directeur des projets de recherche</a:t>
            </a:r>
            <a:endParaRPr b="1" lang="en-US" sz="2600" spc="-1" strike="noStrike">
              <a:solidFill>
                <a:srgbClr val="21449c"/>
              </a:solidFill>
              <a:latin typeface="Arial"/>
            </a:endParaRPr>
          </a:p>
          <a:p>
            <a:pPr marL="3826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600" spc="-1" strike="noStrike">
                <a:solidFill>
                  <a:srgbClr val="21449c"/>
                </a:solidFill>
                <a:latin typeface="Arial"/>
              </a:rPr>
              <a:t>arnaud.laprevote@mandriva.com</a:t>
            </a:r>
            <a:endParaRPr b="1" lang="en-US" sz="2600" spc="-1" strike="noStrike">
              <a:solidFill>
                <a:srgbClr val="21449c"/>
              </a:solidFill>
              <a:latin typeface="Arial"/>
            </a:endParaRPr>
          </a:p>
          <a:p>
            <a:pPr marL="3826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600" spc="-1" strike="noStrike">
              <a:solidFill>
                <a:srgbClr val="21449c"/>
              </a:solidFill>
              <a:latin typeface="Arial"/>
            </a:endParaRPr>
          </a:p>
          <a:p>
            <a:pPr marL="3826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600" spc="-1" strike="noStrike">
              <a:solidFill>
                <a:srgbClr val="21449c"/>
              </a:solidFill>
              <a:latin typeface="Arial"/>
            </a:endParaRPr>
          </a:p>
          <a:p>
            <a:pPr marL="3826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600" spc="-1" strike="noStrike">
              <a:solidFill>
                <a:srgbClr val="21449c"/>
              </a:solidFill>
              <a:latin typeface="Arial"/>
            </a:endParaRPr>
          </a:p>
          <a:p>
            <a:pPr marL="3826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21449c"/>
              </a:solidFill>
              <a:latin typeface="Arial"/>
            </a:endParaRPr>
          </a:p>
          <a:p>
            <a:pPr marL="3826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21449c"/>
              </a:solidFill>
              <a:latin typeface="Arial"/>
            </a:endParaRPr>
          </a:p>
          <a:p>
            <a:pPr marL="3826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21449c"/>
              </a:solidFill>
              <a:latin typeface="Arial"/>
            </a:endParaRPr>
          </a:p>
          <a:p>
            <a:pPr marL="3826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21449c"/>
              </a:solidFill>
              <a:latin typeface="Arial"/>
            </a:endParaRPr>
          </a:p>
          <a:p>
            <a:pPr marL="3826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21449c"/>
              </a:solidFill>
              <a:latin typeface="Arial"/>
            </a:endParaRPr>
          </a:p>
          <a:p>
            <a:pPr marL="3826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400" spc="-1" strike="noStrike">
              <a:solidFill>
                <a:srgbClr val="21449c"/>
              </a:solidFill>
              <a:latin typeface="Arial"/>
            </a:endParaRPr>
          </a:p>
          <a:p>
            <a:pPr marL="3826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4000" spc="-1" strike="noStrike">
              <a:solidFill>
                <a:srgbClr val="21449c"/>
              </a:solidFill>
              <a:latin typeface="Arial"/>
            </a:endParaRPr>
          </a:p>
          <a:p>
            <a:pPr marL="3826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21449c"/>
              </a:solidFill>
              <a:latin typeface="Arial"/>
            </a:endParaRPr>
          </a:p>
          <a:p>
            <a:pPr marL="3826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21449c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3895560" y="3460680"/>
            <a:ext cx="2438640" cy="161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39440" y="612720"/>
            <a:ext cx="86072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onstraints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 &amp; properti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0760" y="1270080"/>
            <a:ext cx="8775720" cy="59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2680" indent="-319320">
              <a:lnSpc>
                <a:spcPct val="93000"/>
              </a:lnSpc>
              <a:buClr>
                <a:srgbClr val="21449c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21449c"/>
                </a:solidFill>
                <a:latin typeface="Arial"/>
              </a:rPr>
              <a:t>Fully file based</a:t>
            </a:r>
            <a:endParaRPr b="1" lang="en-US" sz="2600" spc="-1" strike="noStrike">
              <a:solidFill>
                <a:srgbClr val="21449c"/>
              </a:solidFill>
              <a:latin typeface="Arial"/>
            </a:endParaRPr>
          </a:p>
          <a:p>
            <a:pPr marL="382680" indent="-319320">
              <a:lnSpc>
                <a:spcPct val="93000"/>
              </a:lnSpc>
              <a:buClr>
                <a:srgbClr val="21449c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21449c"/>
                </a:solidFill>
                <a:latin typeface="Arial"/>
              </a:rPr>
              <a:t>Possibility to easily change and adapt the look</a:t>
            </a:r>
            <a:endParaRPr b="1" lang="en-US" sz="2600" spc="-1" strike="noStrike">
              <a:solidFill>
                <a:srgbClr val="21449c"/>
              </a:solidFill>
              <a:latin typeface="Arial"/>
            </a:endParaRPr>
          </a:p>
          <a:p>
            <a:pPr marL="382680" indent="-319320">
              <a:lnSpc>
                <a:spcPct val="93000"/>
              </a:lnSpc>
              <a:buClr>
                <a:srgbClr val="21449c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21449c"/>
                </a:solidFill>
                <a:latin typeface="Arial"/>
              </a:rPr>
              <a:t>Management of rights and “properties”</a:t>
            </a:r>
            <a:endParaRPr b="1" lang="en-US" sz="2600" spc="-1" strike="noStrike">
              <a:solidFill>
                <a:srgbClr val="21449c"/>
              </a:solidFill>
              <a:latin typeface="Arial"/>
            </a:endParaRPr>
          </a:p>
          <a:p>
            <a:pPr marL="382680" indent="-319320">
              <a:lnSpc>
                <a:spcPct val="93000"/>
              </a:lnSpc>
              <a:buClr>
                <a:srgbClr val="21449c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21449c"/>
                </a:solidFill>
                <a:latin typeface="Arial"/>
              </a:rPr>
              <a:t>Possibility to create an automatic rolling display</a:t>
            </a:r>
            <a:endParaRPr b="1" lang="en-US" sz="2600" spc="-1" strike="noStrike">
              <a:solidFill>
                <a:srgbClr val="21449c"/>
              </a:solidFill>
              <a:latin typeface="Arial"/>
            </a:endParaRPr>
          </a:p>
          <a:p>
            <a:pPr marL="382680" indent="-319320">
              <a:lnSpc>
                <a:spcPct val="93000"/>
              </a:lnSpc>
              <a:buClr>
                <a:srgbClr val="21449c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21449c"/>
                </a:solidFill>
                <a:latin typeface="Arial"/>
              </a:rPr>
              <a:t>Multi-language</a:t>
            </a:r>
            <a:endParaRPr b="1" lang="en-US" sz="2600" spc="-1" strike="noStrike">
              <a:solidFill>
                <a:srgbClr val="21449c"/>
              </a:solidFill>
              <a:latin typeface="Arial"/>
            </a:endParaRPr>
          </a:p>
          <a:p>
            <a:pPr marL="3826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600" spc="-1" strike="noStrike">
              <a:solidFill>
                <a:srgbClr val="21449c"/>
              </a:solidFill>
              <a:latin typeface="Arial"/>
            </a:endParaRPr>
          </a:p>
          <a:p>
            <a:pPr marL="382680" indent="-319320">
              <a:lnSpc>
                <a:spcPct val="93000"/>
              </a:lnSpc>
              <a:buClr>
                <a:srgbClr val="21449c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21449c"/>
                </a:solidFill>
                <a:latin typeface="Arial"/>
              </a:rPr>
              <a:t>Integrated debugging and logging solution</a:t>
            </a:r>
            <a:endParaRPr b="1" lang="en-US" sz="2600" spc="-1" strike="noStrike">
              <a:solidFill>
                <a:srgbClr val="21449c"/>
              </a:solidFill>
              <a:latin typeface="Arial"/>
            </a:endParaRPr>
          </a:p>
          <a:p>
            <a:pPr marL="382680" indent="-319320">
              <a:lnSpc>
                <a:spcPct val="93000"/>
              </a:lnSpc>
              <a:buClr>
                <a:srgbClr val="21449c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21449c"/>
                </a:solidFill>
                <a:latin typeface="Arial"/>
              </a:rPr>
              <a:t>independent of server and technology (cgi, tclhttpd, apache rivet, websh, ...)</a:t>
            </a:r>
            <a:r>
              <a:rPr b="1" lang="en-GB" sz="2600" spc="-1" strike="noStrike">
                <a:solidFill>
                  <a:srgbClr val="21449c"/>
                </a:solidFill>
                <a:latin typeface="Arial"/>
              </a:rPr>
              <a:t>‏</a:t>
            </a:r>
            <a:endParaRPr b="1" lang="en-US" sz="2600" spc="-1" strike="noStrike">
              <a:solidFill>
                <a:srgbClr val="21449c"/>
              </a:solidFill>
              <a:latin typeface="Arial"/>
            </a:endParaRPr>
          </a:p>
          <a:p>
            <a:pPr marL="382680" indent="-319320">
              <a:lnSpc>
                <a:spcPct val="93000"/>
              </a:lnSpc>
              <a:buClr>
                <a:srgbClr val="21449c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21449c"/>
                </a:solidFill>
                <a:latin typeface="Arial"/>
              </a:rPr>
              <a:t>Management of menu by using directory structure and properties</a:t>
            </a:r>
            <a:endParaRPr b="1" lang="en-US" sz="2600" spc="-1" strike="noStrike">
              <a:solidFill>
                <a:srgbClr val="21449c"/>
              </a:solidFill>
              <a:latin typeface="Arial"/>
            </a:endParaRPr>
          </a:p>
          <a:p>
            <a:pPr marL="382680" indent="-319320">
              <a:lnSpc>
                <a:spcPct val="93000"/>
              </a:lnSpc>
              <a:buClr>
                <a:srgbClr val="21449c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21449c"/>
                </a:solidFill>
                <a:latin typeface="Arial"/>
              </a:rPr>
              <a:t>Wiki like but with structured presentation of informations (except no history management)</a:t>
            </a:r>
            <a:r>
              <a:rPr b="1" lang="en-GB" sz="2600" spc="-1" strike="noStrike">
                <a:solidFill>
                  <a:srgbClr val="21449c"/>
                </a:solidFill>
                <a:latin typeface="Arial"/>
              </a:rPr>
              <a:t>‏</a:t>
            </a:r>
            <a:endParaRPr b="1" lang="en-US" sz="2600" spc="-1" strike="noStrike">
              <a:solidFill>
                <a:srgbClr val="21449c"/>
              </a:solidFill>
              <a:latin typeface="Arial"/>
            </a:endParaRPr>
          </a:p>
          <a:p>
            <a:pPr marL="382680" indent="-319320">
              <a:lnSpc>
                <a:spcPct val="93000"/>
              </a:lnSpc>
              <a:buClr>
                <a:srgbClr val="21449c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21449c"/>
                </a:solidFill>
                <a:latin typeface="Arial"/>
              </a:rPr>
              <a:t>Experimental tcl only connected ftpd server for direct file management (taking into account the rights)</a:t>
            </a:r>
            <a:r>
              <a:rPr b="1" lang="en-GB" sz="2600" spc="-1" strike="noStrike">
                <a:solidFill>
                  <a:srgbClr val="21449c"/>
                </a:solidFill>
                <a:latin typeface="Arial"/>
              </a:rPr>
              <a:t>‏</a:t>
            </a:r>
            <a:endParaRPr b="1" lang="en-US" sz="2600" spc="-1" strike="noStrike">
              <a:solidFill>
                <a:srgbClr val="21449c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739440" y="612720"/>
            <a:ext cx="86072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File organisation of a sit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0760" y="1269720"/>
            <a:ext cx="8775720" cy="552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2680" indent="-319320">
              <a:lnSpc>
                <a:spcPct val="93000"/>
              </a:lnSpc>
              <a:buClr>
                <a:srgbClr val="21449c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21449c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21449c"/>
                </a:solidFill>
                <a:latin typeface="Arial"/>
              </a:rPr>
              <a:t>/any </a:t>
            </a:r>
            <a:r>
              <a:rPr b="1" lang="en-GB" sz="2600" spc="-1" strike="noStrike">
                <a:solidFill>
                  <a:srgbClr val="21449c"/>
                </a:solidFill>
                <a:latin typeface="Arial"/>
              </a:rPr>
              <a:t>	</a:t>
            </a:r>
            <a:r>
              <a:rPr b="1" lang="en-GB" sz="2600" spc="-1" strike="noStrike">
                <a:solidFill>
                  <a:srgbClr val="21449c"/>
                </a:solidFill>
                <a:latin typeface="Arial"/>
              </a:rPr>
              <a:t>  : directory of web site files</a:t>
            </a:r>
            <a:endParaRPr b="1" lang="en-US" sz="2600" spc="-1" strike="noStrike">
              <a:solidFill>
                <a:srgbClr val="21449c"/>
              </a:solidFill>
              <a:latin typeface="Arial"/>
            </a:endParaRPr>
          </a:p>
          <a:p>
            <a:pPr marL="382680" indent="-319320">
              <a:lnSpc>
                <a:spcPct val="93000"/>
              </a:lnSpc>
              <a:buClr>
                <a:srgbClr val="21449c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21449c"/>
                </a:solidFill>
                <a:latin typeface="Arial"/>
              </a:rPr>
              <a:t>/any/.mana/.val : properties of /any </a:t>
            </a:r>
            <a:endParaRPr b="1" lang="en-US" sz="2600" spc="-1" strike="noStrike">
              <a:solidFill>
                <a:srgbClr val="21449c"/>
              </a:solidFill>
              <a:latin typeface="Arial"/>
            </a:endParaRPr>
          </a:p>
          <a:p>
            <a:pPr marL="382680" indent="-319320">
              <a:lnSpc>
                <a:spcPct val="93000"/>
              </a:lnSpc>
              <a:buClr>
                <a:srgbClr val="21449c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21449c"/>
                </a:solidFill>
                <a:latin typeface="Arial"/>
              </a:rPr>
              <a:t>/any/toto.txt :</a:t>
            </a:r>
            <a:r>
              <a:rPr b="1" lang="en-GB" sz="2600" spc="-1" strike="noStrike">
                <a:solidFill>
                  <a:srgbClr val="21449c"/>
                </a:solidFill>
                <a:latin typeface="Arial"/>
              </a:rPr>
              <a:t>	</a:t>
            </a:r>
            <a:r>
              <a:rPr b="1" lang="en-GB" sz="2600" spc="-1" strike="noStrike">
                <a:solidFill>
                  <a:srgbClr val="21449c"/>
                </a:solidFill>
                <a:latin typeface="Arial"/>
              </a:rPr>
              <a:t>a file that will be displayed</a:t>
            </a:r>
            <a:endParaRPr b="1" lang="en-US" sz="2600" spc="-1" strike="noStrike">
              <a:solidFill>
                <a:srgbClr val="21449c"/>
              </a:solidFill>
              <a:latin typeface="Arial"/>
            </a:endParaRPr>
          </a:p>
          <a:p>
            <a:pPr marL="382680" indent="-319320">
              <a:lnSpc>
                <a:spcPct val="93000"/>
              </a:lnSpc>
              <a:buClr>
                <a:srgbClr val="21449c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21449c"/>
                </a:solidFill>
                <a:latin typeface="Arial"/>
              </a:rPr>
              <a:t>/any/.mana/toto.txt :</a:t>
            </a:r>
            <a:r>
              <a:rPr b="1" lang="en-GB" sz="2600" spc="-1" strike="noStrike">
                <a:solidFill>
                  <a:srgbClr val="21449c"/>
                </a:solidFill>
                <a:latin typeface="Arial"/>
              </a:rPr>
              <a:t>	</a:t>
            </a:r>
            <a:r>
              <a:rPr b="1" lang="en-GB" sz="2600" spc="-1" strike="noStrike">
                <a:solidFill>
                  <a:srgbClr val="21449c"/>
                </a:solidFill>
                <a:latin typeface="Arial"/>
              </a:rPr>
              <a:t>properties of /any/toto.txt</a:t>
            </a:r>
            <a:endParaRPr b="1" lang="en-US" sz="2600" spc="-1" strike="noStrike">
              <a:solidFill>
                <a:srgbClr val="21449c"/>
              </a:solidFill>
              <a:latin typeface="Arial"/>
            </a:endParaRPr>
          </a:p>
          <a:p>
            <a:pPr marL="382680" indent="-319320">
              <a:lnSpc>
                <a:spcPct val="93000"/>
              </a:lnSpc>
              <a:buClr>
                <a:srgbClr val="21449c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21449c"/>
                </a:solidFill>
                <a:latin typeface="Arial"/>
              </a:rPr>
              <a:t>/cache : cache of all files created</a:t>
            </a:r>
            <a:r>
              <a:rPr b="1" lang="en-GB" sz="2600" spc="-1" strike="noStrike">
                <a:solidFill>
                  <a:srgbClr val="21449c"/>
                </a:solidFill>
                <a:latin typeface="Arial"/>
              </a:rPr>
              <a:t>	</a:t>
            </a:r>
            <a:endParaRPr b="1" lang="en-US" sz="2600" spc="-1" strike="noStrike">
              <a:solidFill>
                <a:srgbClr val="21449c"/>
              </a:solidFill>
              <a:latin typeface="Arial"/>
            </a:endParaRPr>
          </a:p>
          <a:p>
            <a:pPr marL="382680" indent="-319320">
              <a:lnSpc>
                <a:spcPct val="93000"/>
              </a:lnSpc>
              <a:buClr>
                <a:srgbClr val="21449c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21449c"/>
                </a:solidFill>
                <a:latin typeface="Arial"/>
              </a:rPr>
              <a:t>/cache/comp/any/toto.txt&amp;&amp;&amp; : html file obtained from /any/toto.txt. The &amp;&amp;&amp; means here that no values where exported with the file, and no cooky are set or used.</a:t>
            </a:r>
            <a:endParaRPr b="1" lang="en-US" sz="2600" spc="-1" strike="noStrike">
              <a:solidFill>
                <a:srgbClr val="21449c"/>
              </a:solidFill>
              <a:latin typeface="Arial"/>
            </a:endParaRPr>
          </a:p>
          <a:p>
            <a:pPr marL="382680" indent="-319320">
              <a:lnSpc>
                <a:spcPct val="93000"/>
              </a:lnSpc>
              <a:buClr>
                <a:srgbClr val="21449c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21449c"/>
                </a:solidFill>
                <a:latin typeface="Arial"/>
              </a:rPr>
              <a:t>/session : session files</a:t>
            </a:r>
            <a:endParaRPr b="1" lang="en-US" sz="2600" spc="-1" strike="noStrike">
              <a:solidFill>
                <a:srgbClr val="21449c"/>
              </a:solidFill>
              <a:latin typeface="Arial"/>
            </a:endParaRPr>
          </a:p>
          <a:p>
            <a:pPr marL="382680" indent="-319320">
              <a:lnSpc>
                <a:spcPct val="93000"/>
              </a:lnSpc>
              <a:buClr>
                <a:srgbClr val="21449c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21449c"/>
                </a:solidFill>
                <a:latin typeface="Arial"/>
              </a:rPr>
              <a:t>/template : directory in which all templates are stored.</a:t>
            </a:r>
            <a:endParaRPr b="1" lang="en-US" sz="2600" spc="-1" strike="noStrike">
              <a:solidFill>
                <a:srgbClr val="21449c"/>
              </a:solidFill>
              <a:latin typeface="Arial"/>
            </a:endParaRPr>
          </a:p>
          <a:p>
            <a:pPr marL="382680" indent="-319320">
              <a:lnSpc>
                <a:spcPct val="93000"/>
              </a:lnSpc>
              <a:buClr>
                <a:srgbClr val="21449c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21449c"/>
                </a:solidFill>
                <a:latin typeface="Arial"/>
              </a:rPr>
              <a:t>/comp :</a:t>
            </a:r>
            <a:r>
              <a:rPr b="1" lang="en-GB" sz="2600" spc="-1" strike="noStrike">
                <a:solidFill>
                  <a:srgbClr val="21449c"/>
                </a:solidFill>
                <a:latin typeface="Arial"/>
              </a:rPr>
              <a:t>	</a:t>
            </a:r>
            <a:r>
              <a:rPr b="1" lang="en-GB" sz="2600" spc="-1" strike="noStrike">
                <a:solidFill>
                  <a:srgbClr val="21449c"/>
                </a:solidFill>
                <a:latin typeface="Arial"/>
              </a:rPr>
              <a:t>directory in which file storing the action for each parts of a file are stored</a:t>
            </a:r>
            <a:endParaRPr b="1" lang="en-US" sz="2600" spc="-1" strike="noStrike">
              <a:solidFill>
                <a:srgbClr val="21449c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739440" y="612720"/>
            <a:ext cx="86072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How it work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0760" y="1269720"/>
            <a:ext cx="8775720" cy="552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2680" indent="-319320">
              <a:lnSpc>
                <a:spcPct val="93000"/>
              </a:lnSpc>
              <a:buClr>
                <a:srgbClr val="21449c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21449c"/>
                </a:solidFill>
                <a:latin typeface="Arial"/>
              </a:rPr>
              <a:t>Ucome is a transformation engine</a:t>
            </a:r>
            <a:endParaRPr b="1" lang="en-US" sz="2600" spc="-1" strike="noStrike">
              <a:solidFill>
                <a:srgbClr val="21449c"/>
              </a:solidFill>
              <a:latin typeface="Arial"/>
            </a:endParaRPr>
          </a:p>
          <a:p>
            <a:pPr marL="382680" indent="-319320">
              <a:lnSpc>
                <a:spcPct val="93000"/>
              </a:lnSpc>
              <a:buClr>
                <a:srgbClr val="21449c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21449c"/>
                </a:solidFill>
                <a:latin typeface="Arial"/>
              </a:rPr>
              <a:t>You have :</a:t>
            </a:r>
            <a:endParaRPr b="1" lang="en-US" sz="2600" spc="-1" strike="noStrike">
              <a:solidFill>
                <a:srgbClr val="21449c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buClr>
                <a:srgbClr val="4c62ab"/>
              </a:buClr>
              <a:buFont typeface="Symbol" charset="2"/>
              <a:buChar char="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62ab"/>
                </a:solidFill>
                <a:latin typeface="Arial"/>
              </a:rPr>
              <a:t>an original file (in its original format)</a:t>
            </a:r>
            <a:r>
              <a:rPr b="1" lang="en-GB" sz="2400" spc="-1" strike="noStrike">
                <a:solidFill>
                  <a:srgbClr val="4c62ab"/>
                </a:solidFill>
                <a:latin typeface="Arial"/>
              </a:rPr>
              <a:t>‏</a:t>
            </a:r>
            <a:endParaRPr b="1" lang="en-US" sz="2400" spc="-1" strike="noStrike">
              <a:solidFill>
                <a:srgbClr val="4c62ab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buClr>
                <a:srgbClr val="4c62ab"/>
              </a:buClr>
              <a:buFont typeface="Symbol" charset="2"/>
              <a:buChar char="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62ab"/>
                </a:solidFill>
                <a:latin typeface="Arial"/>
              </a:rPr>
              <a:t>an action</a:t>
            </a:r>
            <a:endParaRPr b="1" lang="en-US" sz="2400" spc="-1" strike="noStrike">
              <a:solidFill>
                <a:srgbClr val="4c62ab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buClr>
                <a:srgbClr val="4c62ab"/>
              </a:buClr>
              <a:buFont typeface="Symbol" charset="2"/>
              <a:buChar char="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62ab"/>
                </a:solidFill>
                <a:latin typeface="Arial"/>
              </a:rPr>
              <a:t>a target format (displayable, pdf, original, ...)</a:t>
            </a:r>
            <a:r>
              <a:rPr b="1" lang="en-GB" sz="2400" spc="-1" strike="noStrike">
                <a:solidFill>
                  <a:srgbClr val="4c62ab"/>
                </a:solidFill>
                <a:latin typeface="Arial"/>
              </a:rPr>
              <a:t>‏</a:t>
            </a:r>
            <a:endParaRPr b="1" lang="en-US" sz="2400" spc="-1" strike="noStrike">
              <a:solidFill>
                <a:srgbClr val="4c62ab"/>
              </a:solidFill>
              <a:latin typeface="Arial"/>
            </a:endParaRPr>
          </a:p>
          <a:p>
            <a:pPr marL="382680" indent="-319320">
              <a:lnSpc>
                <a:spcPct val="93000"/>
              </a:lnSpc>
              <a:buClr>
                <a:srgbClr val="21449c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21449c"/>
                </a:solidFill>
                <a:latin typeface="Arial"/>
              </a:rPr>
              <a:t>Transformations are done till getting something</a:t>
            </a:r>
            <a:endParaRPr b="1" lang="en-US" sz="2600" spc="-1" strike="noStrike">
              <a:solidFill>
                <a:srgbClr val="21449c"/>
              </a:solidFill>
              <a:latin typeface="Arial"/>
            </a:endParaRPr>
          </a:p>
          <a:p>
            <a:pPr marL="382680" indent="-319320">
              <a:lnSpc>
                <a:spcPct val="93000"/>
              </a:lnSpc>
              <a:buClr>
                <a:srgbClr val="21449c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21449c"/>
                </a:solidFill>
                <a:latin typeface="Arial"/>
              </a:rPr>
              <a:t>Every operation is cached</a:t>
            </a:r>
            <a:endParaRPr b="1" lang="en-US" sz="2600" spc="-1" strike="noStrike">
              <a:solidFill>
                <a:srgbClr val="21449c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739440" y="156960"/>
            <a:ext cx="8607240" cy="136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Example – viewing directory /any/programmer</a:t>
            </a:r>
            <a:br>
              <a:rPr sz="3200"/>
            </a:b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50520" y="1269720"/>
            <a:ext cx="8775720" cy="552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2680" indent="-319320">
              <a:lnSpc>
                <a:spcPct val="93000"/>
              </a:lnSpc>
              <a:buClr>
                <a:srgbClr val="21449c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21449c"/>
                </a:solidFill>
                <a:latin typeface="Arial"/>
              </a:rPr>
              <a:t>directory “${ROOT}/any/Programmer”</a:t>
            </a:r>
            <a:endParaRPr b="1" lang="en-US" sz="2600" spc="-1" strike="noStrike">
              <a:solidFill>
                <a:srgbClr val="21449c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buClr>
                <a:srgbClr val="4c62ab"/>
              </a:buClr>
              <a:buFont typeface="Symbol" charset="2"/>
              <a:buChar char="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62ab"/>
                </a:solidFill>
                <a:latin typeface="Arial"/>
              </a:rPr>
              <a:t>determination that it is a dir</a:t>
            </a:r>
            <a:endParaRPr b="1" lang="en-US" sz="2400" spc="-1" strike="noStrike">
              <a:solidFill>
                <a:srgbClr val="4c62ab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buClr>
                <a:srgbClr val="4c62ab"/>
              </a:buClr>
              <a:buFont typeface="Symbol" charset="2"/>
              <a:buChar char="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62ab"/>
                </a:solidFill>
                <a:latin typeface="Arial"/>
              </a:rPr>
              <a:t>calling dir::new_type</a:t>
            </a:r>
            <a:endParaRPr b="1" lang="en-US" sz="2400" spc="-1" strike="noStrike">
              <a:solidFill>
                <a:srgbClr val="4c62ab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850"/>
              </a:spcAft>
              <a:buClr>
                <a:srgbClr val="999999"/>
              </a:buClr>
              <a:buSzPct val="40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666666"/>
                </a:solidFill>
                <a:latin typeface="Arial"/>
              </a:rPr>
              <a:t>answer is txt (it looks if there is an index.xxx in the directory, here it finds index.txt,</a:t>
            </a:r>
            <a:endParaRPr b="1" lang="en-US" sz="2200" spc="-1" strike="noStrike">
              <a:solidFill>
                <a:srgbClr val="666666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buClr>
                <a:srgbClr val="4c62ab"/>
              </a:buClr>
              <a:buFont typeface="Symbol" charset="2"/>
              <a:buChar char="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62ab"/>
                </a:solidFill>
                <a:latin typeface="Arial"/>
              </a:rPr>
              <a:t>calling dir::2txt</a:t>
            </a:r>
            <a:endParaRPr b="1" lang="en-US" sz="2400" spc="-1" strike="noStrike">
              <a:solidFill>
                <a:srgbClr val="4c62ab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850"/>
              </a:spcAft>
              <a:buClr>
                <a:srgbClr val="999999"/>
              </a:buClr>
              <a:buSzPct val="40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666666"/>
                </a:solidFill>
                <a:latin typeface="Arial"/>
              </a:rPr>
              <a:t> </a:t>
            </a:r>
            <a:r>
              <a:rPr b="1" lang="en-GB" sz="2200" spc="-1" strike="noStrike">
                <a:solidFill>
                  <a:srgbClr val="666666"/>
                </a:solidFill>
                <a:latin typeface="Arial"/>
              </a:rPr>
              <a:t>the file index.txt is loaded and cached</a:t>
            </a:r>
            <a:endParaRPr b="1" lang="en-US" sz="2200" spc="-1" strike="noStrike">
              <a:solidFill>
                <a:srgbClr val="666666"/>
              </a:solidFill>
              <a:latin typeface="Arial"/>
            </a:endParaRPr>
          </a:p>
          <a:p>
            <a:pPr marL="382680" indent="-319320">
              <a:lnSpc>
                <a:spcPct val="93000"/>
              </a:lnSpc>
              <a:buClr>
                <a:srgbClr val="21449c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21449c"/>
                </a:solidFill>
                <a:latin typeface="Arial"/>
              </a:rPr>
              <a:t>text file</a:t>
            </a:r>
            <a:endParaRPr b="1" lang="en-US" sz="2600" spc="-1" strike="noStrike">
              <a:solidFill>
                <a:srgbClr val="21449c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buClr>
                <a:srgbClr val="4c62ab"/>
              </a:buClr>
              <a:buFont typeface="Symbol" charset="2"/>
              <a:buChar char="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62ab"/>
                </a:solidFill>
                <a:latin typeface="Arial"/>
              </a:rPr>
              <a:t>calling txt::new_type</a:t>
            </a:r>
            <a:endParaRPr b="1" lang="en-US" sz="2400" spc="-1" strike="noStrike">
              <a:solidFill>
                <a:srgbClr val="4c62ab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850"/>
              </a:spcAft>
              <a:buClr>
                <a:srgbClr val="999999"/>
              </a:buClr>
              <a:buSzPct val="40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666666"/>
                </a:solidFill>
                <a:latin typeface="Arial"/>
              </a:rPr>
              <a:t>answer is comp (composite file)</a:t>
            </a:r>
            <a:r>
              <a:rPr b="1" lang="en-GB" sz="2200" spc="-1" strike="noStrike">
                <a:solidFill>
                  <a:srgbClr val="666666"/>
                </a:solidFill>
                <a:latin typeface="Arial"/>
              </a:rPr>
              <a:t>‏</a:t>
            </a:r>
            <a:endParaRPr b="1" lang="en-US" sz="2200" spc="-1" strike="noStrike">
              <a:solidFill>
                <a:srgbClr val="666666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buClr>
                <a:srgbClr val="4c62ab"/>
              </a:buClr>
              <a:buFont typeface="Symbol" charset="2"/>
              <a:buChar char="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62ab"/>
                </a:solidFill>
                <a:latin typeface="Arial"/>
              </a:rPr>
              <a:t>txt::2comp</a:t>
            </a:r>
            <a:endParaRPr b="1" lang="en-US" sz="2400" spc="-1" strike="noStrike">
              <a:solidFill>
                <a:srgbClr val="4c62ab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850"/>
              </a:spcAft>
              <a:buClr>
                <a:srgbClr val="999999"/>
              </a:buClr>
              <a:buSzPct val="40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666666"/>
                </a:solidFill>
                <a:latin typeface="Arial"/>
              </a:rPr>
              <a:t>the text file is transformed in html (à la wiki)</a:t>
            </a:r>
            <a:r>
              <a:rPr b="1" lang="en-GB" sz="2200" spc="-1" strike="noStrike">
                <a:solidFill>
                  <a:srgbClr val="666666"/>
                </a:solidFill>
                <a:latin typeface="Arial"/>
              </a:rPr>
              <a:t>‏</a:t>
            </a:r>
            <a:endParaRPr b="1" lang="en-US" sz="2200" spc="-1" strike="noStrike">
              <a:solidFill>
                <a:srgbClr val="666666"/>
              </a:solidFill>
              <a:latin typeface="Arial"/>
            </a:endParaRPr>
          </a:p>
          <a:p>
            <a:pPr marL="382680" indent="-319320">
              <a:lnSpc>
                <a:spcPct val="93000"/>
              </a:lnSpc>
              <a:buClr>
                <a:srgbClr val="21449c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21449c"/>
                </a:solidFill>
                <a:latin typeface="Arial"/>
              </a:rPr>
              <a:t>comp</a:t>
            </a:r>
            <a:endParaRPr b="1" lang="en-US" sz="2600" spc="-1" strike="noStrike">
              <a:solidFill>
                <a:srgbClr val="21449c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buClr>
                <a:srgbClr val="4c62ab"/>
              </a:buClr>
              <a:buFont typeface="Symbol" charset="2"/>
              <a:buChar char="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62ab"/>
                </a:solidFill>
                <a:latin typeface="Arial"/>
              </a:rPr>
              <a:t>calling comp::2newtype</a:t>
            </a:r>
            <a:endParaRPr b="1" lang="en-US" sz="2400" spc="-1" strike="noStrike">
              <a:solidFill>
                <a:srgbClr val="4c62ab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850"/>
              </a:spcAft>
              <a:buClr>
                <a:srgbClr val="999999"/>
              </a:buClr>
              <a:buSzPct val="40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666666"/>
                </a:solidFill>
                <a:latin typeface="Arial"/>
              </a:rPr>
              <a:t>answer is fashtml </a:t>
            </a:r>
            <a:endParaRPr b="1" lang="en-US" sz="2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739440" y="149040"/>
            <a:ext cx="8607240" cy="91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Example – viewing directory /any/programmer (2)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‏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0760" y="1269720"/>
            <a:ext cx="8775720" cy="552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863640" indent="-287280">
              <a:lnSpc>
                <a:spcPct val="93000"/>
              </a:lnSpc>
              <a:buClr>
                <a:srgbClr val="4c62ab"/>
              </a:buClr>
              <a:buFont typeface="Symbol" charset="2"/>
              <a:buChar char="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62ab"/>
                </a:solidFill>
                <a:latin typeface="Arial"/>
              </a:rPr>
              <a:t>calling comp::2fashtml</a:t>
            </a:r>
            <a:endParaRPr b="1" lang="en-US" sz="2400" spc="-1" strike="noStrike">
              <a:solidFill>
                <a:srgbClr val="4c62ab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850"/>
              </a:spcAft>
              <a:buClr>
                <a:srgbClr val="999999"/>
              </a:buClr>
              <a:buSzPct val="40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666666"/>
                </a:solidFill>
                <a:latin typeface="Arial"/>
              </a:rPr>
              <a:t>I will come back on this function after</a:t>
            </a:r>
            <a:endParaRPr b="1" lang="en-US" sz="2200" spc="-1" strike="noStrike">
              <a:solidFill>
                <a:srgbClr val="666666"/>
              </a:solidFill>
              <a:latin typeface="Arial"/>
            </a:endParaRPr>
          </a:p>
          <a:p>
            <a:pPr marL="382680" indent="-319320">
              <a:lnSpc>
                <a:spcPct val="93000"/>
              </a:lnSpc>
              <a:buClr>
                <a:srgbClr val="21449c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21449c"/>
                </a:solidFill>
                <a:latin typeface="Arial"/>
              </a:rPr>
              <a:t>fashtml </a:t>
            </a:r>
            <a:endParaRPr b="1" lang="en-US" sz="2600" spc="-1" strike="noStrike">
              <a:solidFill>
                <a:srgbClr val="21449c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buClr>
                <a:srgbClr val="4c62ab"/>
              </a:buClr>
              <a:buFont typeface="Symbol" charset="2"/>
              <a:buChar char="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62ab"/>
                </a:solidFill>
                <a:latin typeface="Arial"/>
              </a:rPr>
              <a:t>calling fashtml::new_type</a:t>
            </a:r>
            <a:endParaRPr b="1" lang="en-US" sz="2400" spc="-1" strike="noStrike">
              <a:solidFill>
                <a:srgbClr val="4c62ab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850"/>
              </a:spcAft>
              <a:buClr>
                <a:srgbClr val="999999"/>
              </a:buClr>
              <a:buSzPct val="40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666666"/>
                </a:solidFill>
                <a:latin typeface="Arial"/>
              </a:rPr>
              <a:t>answer is htmf</a:t>
            </a:r>
            <a:endParaRPr b="1" lang="en-US" sz="2200" spc="-1" strike="noStrike">
              <a:solidFill>
                <a:srgbClr val="666666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buClr>
                <a:srgbClr val="4c62ab"/>
              </a:buClr>
              <a:buFont typeface="Symbol" charset="2"/>
              <a:buChar char="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62ab"/>
                </a:solidFill>
                <a:latin typeface="Arial"/>
              </a:rPr>
              <a:t>calling fashtml::2htmf</a:t>
            </a:r>
            <a:endParaRPr b="1" lang="en-US" sz="2400" spc="-1" strike="noStrike">
              <a:solidFill>
                <a:srgbClr val="4c62ab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850"/>
              </a:spcAft>
              <a:buClr>
                <a:srgbClr val="999999"/>
              </a:buClr>
              <a:buSzPct val="40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666666"/>
                </a:solidFill>
                <a:latin typeface="Arial"/>
              </a:rPr>
              <a:t>all url are transformed depending if they are relative, absolute, some keywords (such as fas: are changed into what it should be depending on the url)</a:t>
            </a:r>
            <a:r>
              <a:rPr b="1" lang="en-GB" sz="2200" spc="-1" strike="noStrike">
                <a:solidFill>
                  <a:srgbClr val="666666"/>
                </a:solidFill>
                <a:latin typeface="Arial"/>
              </a:rPr>
              <a:t>‏</a:t>
            </a:r>
            <a:endParaRPr b="1" lang="en-US" sz="2200" spc="-1" strike="noStrike">
              <a:solidFill>
                <a:srgbClr val="666666"/>
              </a:solidFill>
              <a:latin typeface="Arial"/>
            </a:endParaRPr>
          </a:p>
          <a:p>
            <a:pPr marL="382680" indent="-319320">
              <a:lnSpc>
                <a:spcPct val="93000"/>
              </a:lnSpc>
              <a:buClr>
                <a:srgbClr val="21449c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21449c"/>
                </a:solidFill>
                <a:latin typeface="Arial"/>
              </a:rPr>
              <a:t>htmf</a:t>
            </a:r>
            <a:endParaRPr b="1" lang="en-US" sz="2600" spc="-1" strike="noStrike">
              <a:solidFill>
                <a:srgbClr val="21449c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buClr>
                <a:srgbClr val="4c62ab"/>
              </a:buClr>
              <a:buFont typeface="Symbol" charset="2"/>
              <a:buChar char="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62ab"/>
                </a:solidFill>
                <a:latin typeface="Arial"/>
              </a:rPr>
              <a:t>calling htmf::new_type</a:t>
            </a:r>
            <a:endParaRPr b="1" lang="en-US" sz="2400" spc="-1" strike="noStrike">
              <a:solidFill>
                <a:srgbClr val="4c62ab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850"/>
              </a:spcAft>
              <a:buClr>
                <a:srgbClr val="999999"/>
              </a:buClr>
              <a:buSzPct val="40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666666"/>
                </a:solidFill>
                <a:latin typeface="Arial"/>
              </a:rPr>
              <a:t>answer is “” : it is a “final” filetype</a:t>
            </a:r>
            <a:endParaRPr b="1" lang="en-US" sz="2200" spc="-1" strike="noStrike">
              <a:solidFill>
                <a:srgbClr val="666666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buClr>
                <a:srgbClr val="4c62ab"/>
              </a:buClr>
              <a:buFont typeface="Symbol" charset="2"/>
              <a:buChar char="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62ab"/>
                </a:solidFill>
                <a:latin typeface="Arial"/>
              </a:rPr>
              <a:t>calling htmf::display</a:t>
            </a:r>
            <a:endParaRPr b="1" lang="en-US" sz="2400" spc="-1" strike="noStrike">
              <a:solidFill>
                <a:srgbClr val="4c62ab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850"/>
              </a:spcAft>
              <a:buClr>
                <a:srgbClr val="999999"/>
              </a:buClr>
              <a:buSzPct val="40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666666"/>
                </a:solidFill>
                <a:latin typeface="Arial"/>
              </a:rPr>
              <a:t>using the function to send back the content depending on the “engine” used (cgi, tclhttpd, rivet, websh)</a:t>
            </a:r>
            <a:r>
              <a:rPr b="1" lang="en-GB" sz="2200" spc="-1" strike="noStrike">
                <a:solidFill>
                  <a:srgbClr val="666666"/>
                </a:solidFill>
                <a:latin typeface="Arial"/>
              </a:rPr>
              <a:t>‏</a:t>
            </a:r>
            <a:endParaRPr b="1" lang="en-US" sz="2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739440" y="612720"/>
            <a:ext cx="86072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What about actions 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0760" y="1270080"/>
            <a:ext cx="8775720" cy="56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2680" indent="-319320">
              <a:lnSpc>
                <a:spcPct val="93000"/>
              </a:lnSpc>
              <a:buClr>
                <a:srgbClr val="21449c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21449c"/>
                </a:solidFill>
                <a:latin typeface="Arial"/>
              </a:rPr>
              <a:t>file=/any/index.txt action=copy</a:t>
            </a:r>
            <a:endParaRPr b="1" lang="en-US" sz="2600" spc="-1" strike="noStrike">
              <a:solidFill>
                <a:srgbClr val="21449c"/>
              </a:solidFill>
              <a:latin typeface="Arial"/>
            </a:endParaRPr>
          </a:p>
          <a:p>
            <a:pPr marL="382680" indent="-319320">
              <a:lnSpc>
                <a:spcPct val="93000"/>
              </a:lnSpc>
              <a:buClr>
                <a:srgbClr val="21449c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21449c"/>
                </a:solidFill>
                <a:latin typeface="Arial"/>
              </a:rPr>
              <a:t>directory “${ROOT}/any/index.txt”</a:t>
            </a:r>
            <a:endParaRPr b="1" lang="en-US" sz="2600" spc="-1" strike="noStrike">
              <a:solidFill>
                <a:srgbClr val="21449c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buClr>
                <a:srgbClr val="4c62ab"/>
              </a:buClr>
              <a:buFont typeface="Symbol" charset="2"/>
              <a:buChar char="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62ab"/>
                </a:solidFill>
                <a:latin typeface="Arial"/>
              </a:rPr>
              <a:t>determination that it is a txt</a:t>
            </a:r>
            <a:endParaRPr b="1" lang="en-US" sz="2400" spc="-1" strike="noStrike">
              <a:solidFill>
                <a:srgbClr val="4c62ab"/>
              </a:solidFill>
              <a:latin typeface="Arial"/>
            </a:endParaRPr>
          </a:p>
          <a:p>
            <a:pPr marL="382680" indent="-319320">
              <a:lnSpc>
                <a:spcPct val="93000"/>
              </a:lnSpc>
              <a:buClr>
                <a:srgbClr val="21449c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21449c"/>
                </a:solidFill>
                <a:latin typeface="Arial"/>
              </a:rPr>
              <a:t>text file</a:t>
            </a:r>
            <a:endParaRPr b="1" lang="en-US" sz="2600" spc="-1" strike="noStrike">
              <a:solidFill>
                <a:srgbClr val="21449c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buClr>
                <a:srgbClr val="4c62ab"/>
              </a:buClr>
              <a:buFont typeface="Symbol" charset="2"/>
              <a:buChar char="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62ab"/>
                </a:solidFill>
                <a:latin typeface="Arial"/>
              </a:rPr>
              <a:t>calling txt::new_type</a:t>
            </a:r>
            <a:endParaRPr b="1" lang="en-US" sz="2400" spc="-1" strike="noStrike">
              <a:solidFill>
                <a:srgbClr val="4c62ab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850"/>
              </a:spcAft>
              <a:buClr>
                <a:srgbClr val="999999"/>
              </a:buClr>
              <a:buSzPct val="40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666666"/>
                </a:solidFill>
                <a:latin typeface="Arial"/>
              </a:rPr>
              <a:t>answer is ... copy</a:t>
            </a:r>
            <a:endParaRPr b="1" lang="en-US" sz="2200" spc="-1" strike="noStrike">
              <a:solidFill>
                <a:srgbClr val="666666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buClr>
                <a:srgbClr val="4c62ab"/>
              </a:buClr>
              <a:buFont typeface="Symbol" charset="2"/>
              <a:buChar char="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62ab"/>
                </a:solidFill>
                <a:latin typeface="Arial"/>
              </a:rPr>
              <a:t>txt::2copy</a:t>
            </a:r>
            <a:endParaRPr b="1" lang="en-US" sz="2400" spc="-1" strike="noStrike">
              <a:solidFill>
                <a:srgbClr val="4c62ab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850"/>
              </a:spcAft>
              <a:buClr>
                <a:srgbClr val="999999"/>
              </a:buClr>
              <a:buSzPct val="40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666666"/>
                </a:solidFill>
                <a:latin typeface="Arial"/>
              </a:rPr>
              <a:t>function defined for everybody in tcl/fas_basic_proc.tcl</a:t>
            </a:r>
            <a:endParaRPr b="1" lang="en-US" sz="2200" spc="-1" strike="noStrike">
              <a:solidFill>
                <a:srgbClr val="666666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850"/>
              </a:spcAft>
              <a:buClr>
                <a:srgbClr val="999999"/>
              </a:buClr>
              <a:buSzPct val="40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666666"/>
                </a:solidFill>
                <a:latin typeface="Arial"/>
              </a:rPr>
              <a:t>in variable  ::STANDARD_PROCEDURES</a:t>
            </a:r>
            <a:endParaRPr b="1" lang="en-US" sz="2200" spc="-1" strike="noStrike">
              <a:solidFill>
                <a:srgbClr val="666666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850"/>
              </a:spcAft>
              <a:buClr>
                <a:srgbClr val="999999"/>
              </a:buClr>
              <a:buSzPct val="40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666666"/>
                </a:solidFill>
                <a:latin typeface="Arial"/>
              </a:rPr>
              <a:t>return “”</a:t>
            </a:r>
            <a:endParaRPr b="1" lang="en-US" sz="2200" spc="-1" strike="noStrike">
              <a:solidFill>
                <a:srgbClr val="666666"/>
              </a:solidFill>
              <a:latin typeface="Arial"/>
            </a:endParaRPr>
          </a:p>
          <a:p>
            <a:pPr marL="382680" indent="-319320">
              <a:lnSpc>
                <a:spcPct val="93000"/>
              </a:lnSpc>
              <a:buClr>
                <a:srgbClr val="21449c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21449c"/>
                </a:solidFill>
                <a:latin typeface="Arial"/>
              </a:rPr>
              <a:t>copy</a:t>
            </a:r>
            <a:endParaRPr b="1" lang="en-US" sz="2600" spc="-1" strike="noStrike">
              <a:solidFill>
                <a:srgbClr val="21449c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buClr>
                <a:srgbClr val="4c62ab"/>
              </a:buClr>
              <a:buFont typeface="Symbol" charset="2"/>
              <a:buChar char="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62ab"/>
                </a:solidFill>
                <a:latin typeface="Arial"/>
              </a:rPr>
              <a:t>copy::2new_type</a:t>
            </a:r>
            <a:endParaRPr b="1" lang="en-US" sz="2400" spc="-1" strike="noStrike">
              <a:solidFill>
                <a:srgbClr val="4c62ab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850"/>
              </a:spcAft>
              <a:buClr>
                <a:srgbClr val="999999"/>
              </a:buClr>
              <a:buSzPct val="40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666666"/>
                </a:solidFill>
                <a:latin typeface="Arial"/>
              </a:rPr>
              <a:t>return “final” + variable done=1 (action done)</a:t>
            </a:r>
            <a:r>
              <a:rPr b="1" lang="en-GB" sz="2200" spc="-1" strike="noStrike">
                <a:solidFill>
                  <a:srgbClr val="666666"/>
                </a:solidFill>
                <a:latin typeface="Arial"/>
              </a:rPr>
              <a:t>‏</a:t>
            </a:r>
            <a:endParaRPr b="1" lang="en-US" sz="2200" spc="-1" strike="noStrike">
              <a:solidFill>
                <a:srgbClr val="666666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buClr>
                <a:srgbClr val="4c62ab"/>
              </a:buClr>
              <a:buFont typeface="Symbol" charset="2"/>
              <a:buChar char="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62ab"/>
                </a:solidFill>
                <a:latin typeface="Arial"/>
              </a:rPr>
              <a:t>copy::2final : the copy is done and a message is created (copy done or not)</a:t>
            </a:r>
            <a:r>
              <a:rPr b="1" lang="en-GB" sz="2400" spc="-1" strike="noStrike">
                <a:solidFill>
                  <a:srgbClr val="4c62ab"/>
                </a:solidFill>
                <a:latin typeface="Arial"/>
              </a:rPr>
              <a:t>‏</a:t>
            </a:r>
            <a:endParaRPr b="1" lang="en-US" sz="2400" spc="-1" strike="noStrike">
              <a:solidFill>
                <a:srgbClr val="4c62ab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739440" y="612720"/>
            <a:ext cx="86072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ction (take 2)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‏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0760" y="1269720"/>
            <a:ext cx="8775720" cy="552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863640" indent="-287280">
              <a:lnSpc>
                <a:spcPct val="93000"/>
              </a:lnSpc>
              <a:buClr>
                <a:srgbClr val="4c62ab"/>
              </a:buClr>
              <a:buFont typeface="Symbol" charset="2"/>
              <a:buChar char="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62ab"/>
                </a:solidFill>
                <a:latin typeface="Arial"/>
              </a:rPr>
              <a:t>once the copy done ... restart a full display with file=/any  message=”xxxx” action=view   (call display_file)</a:t>
            </a:r>
            <a:r>
              <a:rPr b="1" lang="en-GB" sz="2400" spc="-1" strike="noStrike">
                <a:solidFill>
                  <a:srgbClr val="4c62ab"/>
                </a:solidFill>
                <a:latin typeface="Arial"/>
              </a:rPr>
              <a:t>‏</a:t>
            </a:r>
            <a:endParaRPr b="1" lang="en-US" sz="2400" spc="-1" strike="noStrike">
              <a:solidFill>
                <a:srgbClr val="4c62ab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39440" y="612720"/>
            <a:ext cx="86072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omp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0760" y="1269720"/>
            <a:ext cx="8775720" cy="552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2680" indent="-319320">
              <a:lnSpc>
                <a:spcPct val="93000"/>
              </a:lnSpc>
              <a:buClr>
                <a:srgbClr val="21449c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21449c"/>
                </a:solidFill>
                <a:latin typeface="Arial"/>
              </a:rPr>
              <a:t>Just using a pipe is not flexible enough</a:t>
            </a:r>
            <a:endParaRPr b="1" lang="en-US" sz="2600" spc="-1" strike="noStrike">
              <a:solidFill>
                <a:srgbClr val="21449c"/>
              </a:solidFill>
              <a:latin typeface="Arial"/>
            </a:endParaRPr>
          </a:p>
          <a:p>
            <a:pPr marL="382680" indent="-319320">
              <a:lnSpc>
                <a:spcPct val="93000"/>
              </a:lnSpc>
              <a:buClr>
                <a:srgbClr val="21449c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21449c"/>
                </a:solidFill>
                <a:latin typeface="Arial"/>
              </a:rPr>
              <a:t>Each element of a page may be considered as an element coming from a transformation</a:t>
            </a:r>
            <a:endParaRPr b="1" lang="en-US" sz="2600" spc="-1" strike="noStrike">
              <a:solidFill>
                <a:srgbClr val="21449c"/>
              </a:solidFill>
              <a:latin typeface="Arial"/>
            </a:endParaRPr>
          </a:p>
          <a:p>
            <a:pPr marL="382680" indent="-319320">
              <a:lnSpc>
                <a:spcPct val="93000"/>
              </a:lnSpc>
              <a:buClr>
                <a:srgbClr val="21449c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21449c"/>
                </a:solidFill>
                <a:latin typeface="Arial"/>
              </a:rPr>
              <a:t>For example the menu :</a:t>
            </a:r>
            <a:endParaRPr b="1" lang="en-US" sz="2600" spc="-1" strike="noStrike">
              <a:solidFill>
                <a:srgbClr val="21449c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buClr>
                <a:srgbClr val="4c62ab"/>
              </a:buClr>
              <a:buFont typeface="Symbol" charset="2"/>
              <a:buChar char="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62ab"/>
                </a:solidFill>
                <a:latin typeface="Arial"/>
              </a:rPr>
              <a:t>file : /any/programmer</a:t>
            </a:r>
            <a:endParaRPr b="1" lang="en-US" sz="2400" spc="-1" strike="noStrike">
              <a:solidFill>
                <a:srgbClr val="4c62ab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buClr>
                <a:srgbClr val="4c62ab"/>
              </a:buClr>
              <a:buFont typeface="Symbol" charset="2"/>
              <a:buChar char="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62ab"/>
                </a:solidFill>
                <a:latin typeface="Arial"/>
              </a:rPr>
              <a:t>action: menu</a:t>
            </a:r>
            <a:endParaRPr b="1" lang="en-US" sz="2400" spc="-1" strike="noStrike">
              <a:solidFill>
                <a:srgbClr val="4c62ab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buClr>
                <a:srgbClr val="4c62ab"/>
              </a:buClr>
              <a:buFont typeface="Symbol" charset="2"/>
              <a:buChar char="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62ab"/>
                </a:solidFill>
                <a:latin typeface="Arial"/>
              </a:rPr>
              <a:t>target: nocomp</a:t>
            </a:r>
            <a:endParaRPr b="1" lang="en-US" sz="2400" spc="-1" strike="noStrike">
              <a:solidFill>
                <a:srgbClr val="4c62ab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216000" y="3795840"/>
            <a:ext cx="10644120" cy="330336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2"/>
          <a:stretch/>
        </p:blipFill>
        <p:spPr>
          <a:xfrm>
            <a:off x="2897280" y="3903840"/>
            <a:ext cx="7073640" cy="390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739440" y="612720"/>
            <a:ext cx="86072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omp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0760" y="1270080"/>
            <a:ext cx="8775720" cy="196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2680" indent="-319320">
              <a:lnSpc>
                <a:spcPct val="93000"/>
              </a:lnSpc>
              <a:buClr>
                <a:srgbClr val="21449c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21449c"/>
                </a:solidFill>
                <a:latin typeface="Arial"/>
              </a:rPr>
              <a:t>You define what to display in a special file :</a:t>
            </a:r>
            <a:endParaRPr b="1" lang="en-US" sz="2600" spc="-1" strike="noStrike">
              <a:solidFill>
                <a:srgbClr val="21449c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buClr>
                <a:srgbClr val="4c62ab"/>
              </a:buClr>
              <a:buFont typeface="Symbol" charset="2"/>
              <a:buChar char="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62ab"/>
                </a:solidFill>
                <a:latin typeface="Arial"/>
              </a:rPr>
              <a:t>${ROOT}/comp/${action}.form or ${type}.${action}.form or ${target}.${type}.${action}.form</a:t>
            </a:r>
            <a:endParaRPr b="1" lang="en-US" sz="2400" spc="-1" strike="noStrike">
              <a:solidFill>
                <a:srgbClr val="4c62ab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buClr>
                <a:srgbClr val="4c62ab"/>
              </a:buClr>
              <a:buFont typeface="Symbol" charset="2"/>
              <a:buChar char="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62ab"/>
                </a:solidFill>
                <a:latin typeface="Arial"/>
              </a:rPr>
              <a:t>ie ${ROOT}/comp/view.form</a:t>
            </a:r>
            <a:endParaRPr b="1" lang="en-US" sz="2400" spc="-1" strike="noStrike">
              <a:solidFill>
                <a:srgbClr val="4c62ab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50960" y="3216240"/>
            <a:ext cx="8289720" cy="34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lvl="2" marL="1295280" indent="-215640">
              <a:lnSpc>
                <a:spcPct val="9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rier"/>
                <a:ea typeface="msgothic"/>
              </a:rPr>
              <a:t>global.template </a:t>
            </a:r>
            <a:r>
              <a:rPr b="1" i="1" lang="en-GB" sz="1800" spc="-1" strike="noStrike">
                <a:solidFill>
                  <a:srgbClr val="000000"/>
                </a:solidFill>
                <a:latin typeface="Courrier"/>
                <a:ea typeface="msgothic"/>
              </a:rPr>
              <a:t>standard.templat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215640">
              <a:lnSpc>
                <a:spcPct val="9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rier"/>
                <a:ea typeface="msgothic"/>
              </a:rPr>
              <a:t>global.title </a:t>
            </a:r>
            <a:r>
              <a:rPr b="1" i="1" lang="en-GB" sz="1800" spc="-1" strike="noStrike">
                <a:solidFill>
                  <a:srgbClr val="000000"/>
                </a:solidFill>
                <a:latin typeface="Courrier"/>
                <a:ea typeface="msgothic"/>
              </a:rPr>
              <a:t>"Block definitions for the template for looking at a text file"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215640">
              <a:lnSpc>
                <a:spcPct val="9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rier"/>
                <a:ea typeface="msgothic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Courrier"/>
                <a:ea typeface="msgothic"/>
              </a:rPr>
              <a:t>global.title.fr </a:t>
            </a:r>
            <a:r>
              <a:rPr b="1" i="1" lang="en-GB" sz="1800" spc="-1" strike="noStrike">
                <a:solidFill>
                  <a:srgbClr val="000000"/>
                </a:solidFill>
                <a:latin typeface="Courrier"/>
                <a:ea typeface="msgothic"/>
              </a:rPr>
              <a:t>"Définition des blocs pour le canevas permettant de visualiser un fichier texte"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215640">
              <a:lnSpc>
                <a:spcPct val="9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rier"/>
                <a:ea typeface="msgothic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Courrier"/>
                <a:ea typeface="msgothic"/>
              </a:rPr>
              <a:t>title.type </a:t>
            </a:r>
            <a:r>
              <a:rPr b="1" i="1" lang="en-GB" sz="1800" spc="-1" strike="noStrike">
                <a:solidFill>
                  <a:srgbClr val="000000"/>
                </a:solidFill>
                <a:latin typeface="Courrier"/>
                <a:ea typeface="msgothic"/>
              </a:rPr>
              <a:t>fil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215640">
              <a:lnSpc>
                <a:spcPct val="9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rier"/>
                <a:ea typeface="msgothic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Courrier"/>
                <a:ea typeface="msgothic"/>
              </a:rPr>
              <a:t>title.cgi_uservar.action </a:t>
            </a:r>
            <a:r>
              <a:rPr b="1" i="1" lang="en-GB" sz="1800" spc="-1" strike="noStrike">
                <a:solidFill>
                  <a:srgbClr val="000000"/>
                </a:solidFill>
                <a:latin typeface="Courrier"/>
                <a:ea typeface="msgothic"/>
              </a:rPr>
              <a:t>titl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215640">
              <a:lnSpc>
                <a:spcPct val="9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rier"/>
                <a:ea typeface="msgothic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Courrier"/>
                <a:ea typeface="msgothic"/>
              </a:rPr>
              <a:t>menu.type </a:t>
            </a:r>
            <a:r>
              <a:rPr b="1" i="1" lang="en-GB" sz="1800" spc="-1" strike="noStrike">
                <a:solidFill>
                  <a:srgbClr val="000000"/>
                </a:solidFill>
                <a:latin typeface="Courrier"/>
                <a:ea typeface="msgothic"/>
              </a:rPr>
              <a:t>fil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215640">
              <a:lnSpc>
                <a:spcPct val="9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rier"/>
                <a:ea typeface="msgothic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Courrier"/>
                <a:ea typeface="msgothic"/>
              </a:rPr>
              <a:t>menu.cgi_uservar.action </a:t>
            </a:r>
            <a:r>
              <a:rPr b="1" i="1" lang="en-GB" sz="1800" spc="-1" strike="noStrike">
                <a:solidFill>
                  <a:srgbClr val="000000"/>
                </a:solidFill>
                <a:latin typeface="Courrier"/>
                <a:ea typeface="msgothic"/>
              </a:rPr>
              <a:t>menu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215640">
              <a:lnSpc>
                <a:spcPct val="9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rier"/>
                <a:ea typeface="msgothic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Courrier"/>
                <a:ea typeface="msgothic"/>
              </a:rPr>
              <a:t>content.type </a:t>
            </a:r>
            <a:r>
              <a:rPr b="1" i="1" lang="en-GB" sz="1800" spc="-1" strike="noStrike">
                <a:solidFill>
                  <a:srgbClr val="000000"/>
                </a:solidFill>
                <a:latin typeface="Courrier"/>
                <a:ea typeface="msgothic"/>
              </a:rPr>
              <a:t>html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215640">
              <a:lnSpc>
                <a:spcPct val="9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rier"/>
                <a:ea typeface="msgothic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Courrier"/>
                <a:ea typeface="msgothic"/>
              </a:rPr>
              <a:t>allow.type </a:t>
            </a:r>
            <a:r>
              <a:rPr b="1" i="1" lang="en-GB" sz="1800" spc="-1" strike="noStrike">
                <a:solidFill>
                  <a:srgbClr val="000000"/>
                </a:solidFill>
                <a:latin typeface="Courrier"/>
                <a:ea typeface="msgothic"/>
              </a:rPr>
              <a:t>fil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215640">
              <a:lnSpc>
                <a:spcPct val="9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rier"/>
                <a:ea typeface="msgothic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Courrier"/>
                <a:ea typeface="msgothic"/>
              </a:rPr>
              <a:t>allow.cgi_uservar.action </a:t>
            </a:r>
            <a:r>
              <a:rPr b="1" i="1" lang="en-GB" sz="1800" spc="-1" strike="noStrike">
                <a:solidFill>
                  <a:srgbClr val="000000"/>
                </a:solidFill>
                <a:latin typeface="Courrier"/>
                <a:ea typeface="msgothic"/>
              </a:rPr>
              <a:t>show_action_lis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215640">
              <a:lnSpc>
                <a:spcPct val="9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rier"/>
                <a:ea typeface="msgothic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Courrier"/>
                <a:ea typeface="msgothic"/>
              </a:rPr>
              <a:t>allow.cgi_uservar.from </a:t>
            </a:r>
            <a:r>
              <a:rPr b="1" i="1" lang="en-GB" sz="1800" spc="-1" strike="noStrike">
                <a:solidFill>
                  <a:srgbClr val="000000"/>
                </a:solidFill>
                <a:latin typeface="Courrier"/>
                <a:ea typeface="msgothic"/>
              </a:rPr>
              <a:t>view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739440" y="612720"/>
            <a:ext cx="86072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omp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0760" y="1269720"/>
            <a:ext cx="8775720" cy="552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2680" indent="-319320">
              <a:lnSpc>
                <a:spcPct val="93000"/>
              </a:lnSpc>
              <a:buClr>
                <a:srgbClr val="21449c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21449c"/>
                </a:solidFill>
                <a:latin typeface="Arial"/>
              </a:rPr>
              <a:t>When doing comp::2fashtml :</a:t>
            </a:r>
            <a:endParaRPr b="1" lang="en-US" sz="2600" spc="-1" strike="noStrike">
              <a:solidFill>
                <a:srgbClr val="21449c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buClr>
                <a:srgbClr val="4c62ab"/>
              </a:buClr>
              <a:buFont typeface="Symbol" charset="2"/>
              <a:buChar char="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62ab"/>
                </a:solidFill>
                <a:latin typeface="Arial"/>
              </a:rPr>
              <a:t>template file is downloaded (property templatedir and file given in previous view.form) =&gt; standard.template</a:t>
            </a:r>
            <a:endParaRPr b="1" lang="en-US" sz="2400" spc="-1" strike="noStrike">
              <a:solidFill>
                <a:srgbClr val="4c62ab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buClr>
                <a:srgbClr val="4c62ab"/>
              </a:buClr>
              <a:buFont typeface="Symbol" charset="2"/>
              <a:buChar char="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62ab"/>
                </a:solidFill>
                <a:latin typeface="Arial"/>
              </a:rPr>
              <a:t>for each section defined in view.form which is a file, the action is done with the file name</a:t>
            </a:r>
            <a:endParaRPr b="1" lang="en-US" sz="2400" spc="-1" strike="noStrike">
              <a:solidFill>
                <a:srgbClr val="4c62ab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buClr>
                <a:srgbClr val="4c62ab"/>
              </a:buClr>
              <a:buFont typeface="Symbol" charset="2"/>
              <a:buChar char="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62ab"/>
                </a:solidFill>
                <a:latin typeface="Arial"/>
              </a:rPr>
              <a:t>at the end, all html is integrated in the single template file to obtain the final file</a:t>
            </a:r>
            <a:endParaRPr b="1" lang="en-US" sz="2400" spc="-1" strike="noStrike">
              <a:solidFill>
                <a:srgbClr val="4c62ab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39440" y="612720"/>
            <a:ext cx="86072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ont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8160" y="1137960"/>
            <a:ext cx="9837720" cy="582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26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21449c"/>
              </a:solidFill>
              <a:latin typeface="Arial"/>
            </a:endParaRPr>
          </a:p>
          <a:p>
            <a:pPr marL="382680" indent="-319320">
              <a:lnSpc>
                <a:spcPct val="93000"/>
              </a:lnSpc>
              <a:buClr>
                <a:srgbClr val="21449c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21449c"/>
                </a:solidFill>
                <a:latin typeface="Arial"/>
              </a:rPr>
              <a:t>History</a:t>
            </a:r>
            <a:endParaRPr b="1" lang="en-US" sz="2600" spc="-1" strike="noStrike">
              <a:solidFill>
                <a:srgbClr val="21449c"/>
              </a:solidFill>
              <a:latin typeface="Arial"/>
            </a:endParaRPr>
          </a:p>
          <a:p>
            <a:pPr marL="382680" indent="-319320">
              <a:lnSpc>
                <a:spcPct val="93000"/>
              </a:lnSpc>
              <a:buClr>
                <a:srgbClr val="21449c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21449c"/>
                </a:solidFill>
                <a:latin typeface="Arial"/>
              </a:rPr>
              <a:t>Structure</a:t>
            </a:r>
            <a:endParaRPr b="1" lang="en-US" sz="2600" spc="-1" strike="noStrike">
              <a:solidFill>
                <a:srgbClr val="21449c"/>
              </a:solidFill>
              <a:latin typeface="Arial"/>
            </a:endParaRPr>
          </a:p>
          <a:p>
            <a:pPr marL="382680" indent="-319320">
              <a:lnSpc>
                <a:spcPct val="93000"/>
              </a:lnSpc>
              <a:buClr>
                <a:srgbClr val="21449c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21449c"/>
                </a:solidFill>
                <a:latin typeface="Arial"/>
              </a:rPr>
              <a:t>How a file is processed</a:t>
            </a:r>
            <a:endParaRPr b="1" lang="en-US" sz="2600" spc="-1" strike="noStrike">
              <a:solidFill>
                <a:srgbClr val="21449c"/>
              </a:solidFill>
              <a:latin typeface="Arial"/>
            </a:endParaRPr>
          </a:p>
          <a:p>
            <a:pPr marL="382680" indent="-319320">
              <a:lnSpc>
                <a:spcPct val="93000"/>
              </a:lnSpc>
              <a:buClr>
                <a:srgbClr val="21449c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21449c"/>
                </a:solidFill>
                <a:latin typeface="Arial"/>
              </a:rPr>
              <a:t>Debugging</a:t>
            </a:r>
            <a:endParaRPr b="1" lang="en-US" sz="2600" spc="-1" strike="noStrike">
              <a:solidFill>
                <a:srgbClr val="21449c"/>
              </a:solidFill>
              <a:latin typeface="Arial"/>
            </a:endParaRPr>
          </a:p>
          <a:p>
            <a:pPr marL="382680" indent="-319320">
              <a:lnSpc>
                <a:spcPct val="93000"/>
              </a:lnSpc>
              <a:buClr>
                <a:srgbClr val="21449c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21449c"/>
                </a:solidFill>
                <a:latin typeface="Arial"/>
              </a:rPr>
              <a:t>Conclusion</a:t>
            </a:r>
            <a:endParaRPr b="1" lang="en-US" sz="2600" spc="-1" strike="noStrike">
              <a:solidFill>
                <a:srgbClr val="21449c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739440" y="612720"/>
            <a:ext cx="86072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Debugg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0760" y="1270080"/>
            <a:ext cx="8775720" cy="55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78720" indent="-316080">
              <a:lnSpc>
                <a:spcPct val="93000"/>
              </a:lnSpc>
              <a:buClr>
                <a:srgbClr val="21449c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21449c"/>
                </a:solidFill>
                <a:latin typeface="Arial"/>
              </a:rPr>
              <a:t>fas_debug.tcl</a:t>
            </a:r>
            <a:endParaRPr b="1" lang="en-US" sz="2600" spc="-1" strike="noStrike">
              <a:solidFill>
                <a:srgbClr val="21449c"/>
              </a:solidFill>
              <a:latin typeface="Arial"/>
            </a:endParaRPr>
          </a:p>
          <a:p>
            <a:pPr lvl="1" marL="85500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rier"/>
              </a:rPr>
              <a:t># Enable (0) or Disable debug (0)</a:t>
            </a:r>
            <a:r>
              <a:rPr b="1" lang="en-GB" sz="1600" spc="-1" strike="noStrike">
                <a:solidFill>
                  <a:srgbClr val="000000"/>
                </a:solidFill>
                <a:latin typeface="Courrier"/>
              </a:rPr>
              <a:t>‏</a:t>
            </a:r>
            <a:endParaRPr b="1" lang="en-US" sz="1600" spc="-1" strike="noStrike">
              <a:solidFill>
                <a:srgbClr val="4c62ab"/>
              </a:solidFill>
              <a:latin typeface="Arial"/>
            </a:endParaRPr>
          </a:p>
          <a:p>
            <a:pPr lvl="1" marL="85500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rier"/>
              </a:rPr>
              <a:t>set DEBUG 1</a:t>
            </a:r>
            <a:endParaRPr b="1" lang="en-US" sz="1600" spc="-1" strike="noStrike">
              <a:solidFill>
                <a:srgbClr val="4c62ab"/>
              </a:solidFill>
              <a:latin typeface="Arial"/>
            </a:endParaRPr>
          </a:p>
          <a:p>
            <a:pPr lvl="1" marL="85500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rier"/>
              </a:rPr>
              <a:t># Useful on a big crash to determine where fas_view crashes</a:t>
            </a:r>
            <a:endParaRPr b="1" lang="en-US" sz="1600" spc="-1" strike="noStrike">
              <a:solidFill>
                <a:srgbClr val="4c62ab"/>
              </a:solidFill>
              <a:latin typeface="Arial"/>
            </a:endParaRPr>
          </a:p>
          <a:p>
            <a:pPr lvl="1" marL="85500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rier"/>
              </a:rPr>
              <a:t>set DEBUG_FILE 1</a:t>
            </a:r>
            <a:endParaRPr b="1" lang="en-US" sz="1600" spc="-1" strike="noStrike">
              <a:solidFill>
                <a:srgbClr val="4c62ab"/>
              </a:solidFill>
              <a:latin typeface="Arial"/>
            </a:endParaRPr>
          </a:p>
          <a:p>
            <a:pPr lvl="1" marL="85500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rier"/>
              </a:rPr>
              <a:t># Show debug on html pages</a:t>
            </a:r>
            <a:endParaRPr b="1" lang="en-US" sz="1600" spc="-1" strike="noStrike">
              <a:solidFill>
                <a:srgbClr val="4c62ab"/>
              </a:solidFill>
              <a:latin typeface="Arial"/>
            </a:endParaRPr>
          </a:p>
          <a:p>
            <a:pPr lvl="1" marL="85500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rier"/>
              </a:rPr>
              <a:t>set DEBUG_SHOW 1</a:t>
            </a:r>
            <a:endParaRPr b="1" lang="en-US" sz="1600" spc="-1" strike="noStrike">
              <a:solidFill>
                <a:srgbClr val="4c62ab"/>
              </a:solidFill>
              <a:latin typeface="Arial"/>
            </a:endParaRPr>
          </a:p>
          <a:p>
            <a:pPr lvl="1" marL="85500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rier"/>
              </a:rPr>
              <a:t># Mandatory - global variables in which all messages are accumulated</a:t>
            </a:r>
            <a:endParaRPr b="1" lang="en-US" sz="1600" spc="-1" strike="noStrike">
              <a:solidFill>
                <a:srgbClr val="4c62ab"/>
              </a:solidFill>
              <a:latin typeface="Arial"/>
            </a:endParaRPr>
          </a:p>
          <a:p>
            <a:pPr lvl="1" marL="85500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rier"/>
              </a:rPr>
              <a:t>set DEBUG_STRING ""</a:t>
            </a:r>
            <a:endParaRPr b="1" lang="en-US" sz="1600" spc="-1" strike="noStrike">
              <a:solidFill>
                <a:srgbClr val="4c62ab"/>
              </a:solidFill>
              <a:latin typeface="Arial"/>
            </a:endParaRPr>
          </a:p>
          <a:p>
            <a:pPr lvl="1" marL="85500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rier"/>
              </a:rPr>
              <a:t># At 0 every possible message are enabled for all namespace</a:t>
            </a:r>
            <a:endParaRPr b="1" lang="en-US" sz="1600" spc="-1" strike="noStrike">
              <a:solidFill>
                <a:srgbClr val="4c62ab"/>
              </a:solidFill>
              <a:latin typeface="Arial"/>
            </a:endParaRPr>
          </a:p>
          <a:p>
            <a:pPr lvl="1" marL="85500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rier"/>
              </a:rPr>
              <a:t>set DEBUG_ALL 0</a:t>
            </a:r>
            <a:endParaRPr b="1" lang="en-US" sz="1600" spc="-1" strike="noStrike">
              <a:solidFill>
                <a:srgbClr val="4c62ab"/>
              </a:solidFill>
              <a:latin typeface="Arial"/>
            </a:endParaRPr>
          </a:p>
          <a:p>
            <a:pPr lvl="1" marL="85500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rier"/>
              </a:rPr>
              <a:t># At 0 debug messages of function in no namespace are displayed</a:t>
            </a:r>
            <a:endParaRPr b="1" lang="en-US" sz="1600" spc="-1" strike="noStrike">
              <a:solidFill>
                <a:srgbClr val="4c62ab"/>
              </a:solidFill>
              <a:latin typeface="Arial"/>
            </a:endParaRPr>
          </a:p>
          <a:p>
            <a:pPr lvl="1" marL="85500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rier"/>
              </a:rPr>
              <a:t>set DEBUG_MAIN 1</a:t>
            </a:r>
            <a:endParaRPr b="1" lang="en-US" sz="1600" spc="-1" strike="noStrike">
              <a:solidFill>
                <a:srgbClr val="4c62ab"/>
              </a:solidFill>
              <a:latin typeface="Arial"/>
            </a:endParaRPr>
          </a:p>
          <a:p>
            <a:pPr lvl="1" marL="85500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rier"/>
              </a:rPr>
              <a:t># Enable debug message for a given namespace</a:t>
            </a:r>
            <a:endParaRPr b="1" lang="en-US" sz="1600" spc="-1" strike="noStrike">
              <a:solidFill>
                <a:srgbClr val="4c62ab"/>
              </a:solidFill>
              <a:latin typeface="Arial"/>
            </a:endParaRPr>
          </a:p>
          <a:p>
            <a:pPr lvl="1" marL="85500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rier"/>
              </a:rPr>
              <a:t># If a LOCAL_DEBUG_COLOR is defined then messages are in this color</a:t>
            </a:r>
            <a:endParaRPr b="1" lang="en-US" sz="1600" spc="-1" strike="noStrike">
              <a:solidFill>
                <a:srgbClr val="4c62ab"/>
              </a:solidFill>
              <a:latin typeface="Arial"/>
            </a:endParaRPr>
          </a:p>
          <a:p>
            <a:pPr lvl="1" marL="85500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rier"/>
              </a:rPr>
              <a:t># for this namespace</a:t>
            </a:r>
            <a:endParaRPr b="1" lang="en-US" sz="1600" spc="-1" strike="noStrike">
              <a:solidFill>
                <a:srgbClr val="4c62ab"/>
              </a:solidFill>
              <a:latin typeface="Arial"/>
            </a:endParaRPr>
          </a:p>
          <a:p>
            <a:pPr lvl="1" marL="85500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rier"/>
              </a:rPr>
              <a:t>catch {set atemt::LOCAL_DEBUG 0 }</a:t>
            </a:r>
            <a:endParaRPr b="1" lang="en-US" sz="1600" spc="-1" strike="noStrike">
              <a:solidFill>
                <a:srgbClr val="4c62ab"/>
              </a:solidFill>
              <a:latin typeface="Arial"/>
            </a:endParaRPr>
          </a:p>
          <a:p>
            <a:pPr lvl="1" marL="85500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rier"/>
              </a:rPr>
              <a:t>catch {set fas_depend::LOCAL_DEBUG 0 }</a:t>
            </a:r>
            <a:endParaRPr b="1" lang="en-US" sz="1600" spc="-1" strike="noStrike">
              <a:solidFill>
                <a:srgbClr val="4c62ab"/>
              </a:solidFill>
              <a:latin typeface="Arial"/>
            </a:endParaRPr>
          </a:p>
          <a:p>
            <a:pPr lvl="1" marL="85500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rier"/>
              </a:rPr>
              <a:t>catch {set fas_depend::LOCAL_DEBUG_COLOR "#00FFFF" }</a:t>
            </a:r>
            <a:endParaRPr b="1" lang="en-US" sz="1600" spc="-1" strike="noStrike">
              <a:solidFill>
                <a:srgbClr val="4c62ab"/>
              </a:solidFill>
              <a:latin typeface="Arial"/>
            </a:endParaRPr>
          </a:p>
          <a:p>
            <a:pPr lvl="1" marL="85500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rier"/>
              </a:rPr>
              <a:t>catch {set fas_session::LOCAL_DEBUG 1}</a:t>
            </a:r>
            <a:endParaRPr b="1" lang="en-US" sz="1600" spc="-1" strike="noStrike">
              <a:solidFill>
                <a:srgbClr val="4c62ab"/>
              </a:solidFill>
              <a:latin typeface="Arial"/>
            </a:endParaRPr>
          </a:p>
          <a:p>
            <a:pPr lvl="1" marL="85500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rier"/>
              </a:rPr>
              <a:t>catch {set fas_name_and_dir::LOCAL_DEBUG 0}</a:t>
            </a:r>
            <a:endParaRPr b="1" lang="en-US" sz="1600" spc="-1" strike="noStrike">
              <a:solidFill>
                <a:srgbClr val="4c62ab"/>
              </a:solidFill>
              <a:latin typeface="Arial"/>
            </a:endParaRPr>
          </a:p>
          <a:p>
            <a:pPr lvl="1" marL="85500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4c62ab"/>
              </a:solidFill>
              <a:latin typeface="Arial"/>
            </a:endParaRPr>
          </a:p>
          <a:p>
            <a:pPr lvl="1" marL="85500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rier"/>
              </a:rPr>
              <a:t>catch {set binary::LOCAL_DEBUG 1}</a:t>
            </a:r>
            <a:endParaRPr b="1" lang="en-US" sz="1600" spc="-1" strike="noStrike">
              <a:solidFill>
                <a:srgbClr val="4c62ab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739440" y="612720"/>
            <a:ext cx="86072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Debugging 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0760" y="1269720"/>
            <a:ext cx="8775720" cy="91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2680" indent="-319320">
              <a:lnSpc>
                <a:spcPct val="93000"/>
              </a:lnSpc>
              <a:buClr>
                <a:srgbClr val="21449c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21449c"/>
                </a:solidFill>
                <a:latin typeface="Arial"/>
              </a:rPr>
              <a:t>/tmp/ucome/ucome_1557-4171715781.dbg</a:t>
            </a:r>
            <a:endParaRPr b="1" lang="en-US" sz="2600" spc="-1" strike="noStrike">
              <a:solidFill>
                <a:srgbClr val="21449c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26960" y="2193840"/>
            <a:ext cx="9321840" cy="396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333333"/>
                </a:solidFill>
                <a:latin typeface="Arial"/>
              </a:rPr>
              <a:t>fas_basic_proc::fas_get_value name =&gt; file args =&gt; -noe -nos -default /icons/ok.gif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333333"/>
                </a:solidFill>
                <a:latin typeface="Arial"/>
              </a:rPr>
              <a:t>fas_view.tcl - file -&gt; /any/bug.tx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333333"/>
                </a:solidFill>
                <a:latin typeface="Arial"/>
              </a:rPr>
              <a:t>  </a:t>
            </a:r>
            <a:r>
              <a:rPr b="1" lang="en-GB" sz="2000" spc="-1" strike="noStrike">
                <a:solidFill>
                  <a:srgbClr val="333333"/>
                </a:solidFill>
                <a:latin typeface="Arial"/>
              </a:rPr>
              <a:t>fas_basic_proc::fas_get_value name =&gt; action args =&gt; -noe -nos -default view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333333"/>
                </a:solidFill>
                <a:latin typeface="Arial"/>
              </a:rPr>
              <a:t>fas_view.tcl - action -&gt; edi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333333"/>
                </a:solidFill>
                <a:latin typeface="Arial"/>
              </a:rPr>
              <a:t>----------------- displaying _cgi_uservar --------------------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333333"/>
                </a:solidFill>
                <a:latin typeface="Arial"/>
              </a:rPr>
              <a:t>ok.x -&gt; 9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333333"/>
                </a:solidFill>
                <a:latin typeface="Arial"/>
              </a:rPr>
              <a:t>file -&gt; /any/bug.tx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333333"/>
                </a:solidFill>
                <a:latin typeface="Arial"/>
              </a:rPr>
              <a:t>ok.y -&gt; 19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333333"/>
                </a:solidFill>
                <a:latin typeface="Arial"/>
              </a:rPr>
              <a:t>ok -&gt; 1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333333"/>
                </a:solidFill>
                <a:latin typeface="Arial"/>
              </a:rPr>
              <a:t>action -&gt; edi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333333"/>
                </a:solidFill>
                <a:latin typeface="Arial"/>
              </a:rPr>
              <a:t>content -&gt; All bugs (there are too many)</a:t>
            </a:r>
            <a:r>
              <a:rPr b="1" lang="en-GB" sz="2000" spc="-1" strike="noStrike">
                <a:solidFill>
                  <a:srgbClr val="333333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739440" y="612720"/>
            <a:ext cx="86072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Logg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0760" y="1269720"/>
            <a:ext cx="8775720" cy="91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2680" indent="-319320">
              <a:lnSpc>
                <a:spcPct val="93000"/>
              </a:lnSpc>
              <a:buClr>
                <a:srgbClr val="21449c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21449c"/>
                </a:solidFill>
                <a:latin typeface="Arial"/>
              </a:rPr>
              <a:t>/tmp/ucome/ucome_1557-4171715781.dbg.log</a:t>
            </a:r>
            <a:endParaRPr b="1" lang="en-US" sz="2600" spc="-1" strike="noStrike">
              <a:solidFill>
                <a:srgbClr val="21449c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0" y="1900080"/>
            <a:ext cx="10545840" cy="510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5156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333333"/>
                </a:solidFill>
                <a:latin typeface="Arial"/>
              </a:rPr>
              <a:t>fas_session::open_session - fas_session::open_session -1-0 -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515600"/>
              </a:tabLst>
            </a:pPr>
            <a:r>
              <a:rPr b="1" lang="en-GB" sz="2000" spc="-1" strike="noStrike">
                <a:solidFill>
                  <a:srgbClr val="333333"/>
                </a:solidFill>
                <a:latin typeface="Arial"/>
              </a:rPr>
              <a:t>reading existing session file : /var/lib/ucome/session/1212224229_15502_368481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515600"/>
              </a:tabLst>
            </a:pPr>
            <a:r>
              <a:rPr b="1" lang="en-GB" sz="2000" spc="-1" strike="noStrike">
                <a:solidFill>
                  <a:srgbClr val="333333"/>
                </a:solidFill>
                <a:latin typeface="Arial"/>
              </a:rPr>
              <a:t>    </a:t>
            </a:r>
            <a:r>
              <a:rPr b="1" lang="en-GB" sz="2000" spc="-1" strike="noStrike">
                <a:solidFill>
                  <a:srgbClr val="333333"/>
                </a:solidFill>
                <a:latin typeface="Arial"/>
              </a:rPr>
              <a:t>cache_and_display - Calling txt::2edit on /any/bug.tx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515600"/>
              </a:tabLst>
            </a:pPr>
            <a:r>
              <a:rPr b="1" lang="en-GB" sz="2000" spc="-1" strike="noStrike">
                <a:solidFill>
                  <a:srgbClr val="333333"/>
                </a:solidFill>
                <a:latin typeface="Arial"/>
              </a:rPr>
              <a:t>          </a:t>
            </a:r>
            <a:r>
              <a:rPr b="1" lang="en-GB" sz="2000" spc="-1" strike="noStrike">
                <a:solidFill>
                  <a:srgbClr val="333333"/>
                </a:solidFill>
                <a:latin typeface="Arial"/>
              </a:rPr>
              <a:t>cache_and_display - Calling dir::2edit_form on /any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515600"/>
              </a:tabLst>
            </a:pPr>
            <a:r>
              <a:rPr b="1" lang="en-GB" sz="2000" spc="-1" strike="noStrike">
                <a:solidFill>
                  <a:srgbClr val="333333"/>
                </a:solidFill>
                <a:latin typeface="Arial"/>
              </a:rPr>
              <a:t>                </a:t>
            </a:r>
            <a:r>
              <a:rPr b="1" lang="en-GB" sz="2000" spc="-1" strike="noStrike">
                <a:solidFill>
                  <a:srgbClr val="333333"/>
                </a:solidFill>
                <a:latin typeface="Arial"/>
              </a:rPr>
              <a:t>atemt::read_file_template_or_cache - Using template /template/linbox5/dir.template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515600"/>
              </a:tabLst>
            </a:pPr>
            <a:r>
              <a:rPr b="1" lang="en-GB" sz="2000" spc="-1" strike="noStrike">
                <a:solidFill>
                  <a:srgbClr val="333333"/>
                </a:solidFill>
                <a:latin typeface="Arial"/>
              </a:rPr>
              <a:t>            </a:t>
            </a:r>
            <a:r>
              <a:rPr b="1" lang="en-GB" sz="2000" spc="-1" strike="noStrike">
                <a:solidFill>
                  <a:srgbClr val="333333"/>
                </a:solidFill>
                <a:latin typeface="Arial"/>
              </a:rPr>
              <a:t>cache - Caching /cache/edit_form/any&amp;user=&amp;&amp;{action+edit_form}+{message+{Succe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515600"/>
              </a:tabLst>
            </a:pPr>
            <a:r>
              <a:rPr b="1" lang="en-GB" sz="2000" spc="-1" strike="noStrike">
                <a:solidFill>
                  <a:srgbClr val="333333"/>
                </a:solidFill>
                <a:latin typeface="Arial"/>
              </a:rPr>
              <a:t>ssful+writing+of+++any+bug.txt}}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515600"/>
              </a:tabLst>
            </a:pPr>
            <a:r>
              <a:rPr b="1" lang="en-GB" sz="2000" spc="-1" strike="noStrike">
                <a:solidFill>
                  <a:srgbClr val="333333"/>
                </a:solidFill>
                <a:latin typeface="Arial"/>
              </a:rPr>
              <a:t>              </a:t>
            </a:r>
            <a:r>
              <a:rPr b="1" lang="en-GB" sz="2000" spc="-1" strike="noStrike">
                <a:solidFill>
                  <a:srgbClr val="333333"/>
                </a:solidFill>
                <a:latin typeface="Arial"/>
              </a:rPr>
              <a:t>cache_and_display - Calling edit_form::2comp on /any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515600"/>
              </a:tabLst>
            </a:pPr>
            <a:r>
              <a:rPr b="1" lang="en-GB" sz="2000" spc="-1" strike="noStrike">
                <a:solidFill>
                  <a:srgbClr val="333333"/>
                </a:solidFill>
                <a:latin typeface="Arial"/>
              </a:rPr>
              <a:t>                </a:t>
            </a:r>
            <a:r>
              <a:rPr b="1" lang="en-GB" sz="2000" spc="-1" strike="noStrike">
                <a:solidFill>
                  <a:srgbClr val="333333"/>
                </a:solidFill>
                <a:latin typeface="Arial"/>
              </a:rPr>
              <a:t>cache - Caching /cache/comp/any&amp;user=&amp;&amp;{action+edit_form}+{message+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515600"/>
              </a:tabLst>
            </a:pPr>
            <a:r>
              <a:rPr b="1" lang="en-GB" sz="2000" spc="-1" strike="noStrike">
                <a:solidFill>
                  <a:srgbClr val="333333"/>
                </a:solidFill>
                <a:latin typeface="Arial"/>
              </a:rPr>
              <a:t>{Successful+writing+of+++any+bug.txt}}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515600"/>
              </a:tabLst>
            </a:pPr>
            <a:r>
              <a:rPr b="1" lang="en-GB" sz="2000" spc="-1" strike="noStrike">
                <a:solidFill>
                  <a:srgbClr val="333333"/>
                </a:solidFill>
                <a:latin typeface="Arial"/>
              </a:rPr>
              <a:t>                  </a:t>
            </a:r>
            <a:r>
              <a:rPr b="1" lang="en-GB" sz="2000" spc="-1" strike="noStrike">
                <a:solidFill>
                  <a:srgbClr val="333333"/>
                </a:solidFill>
                <a:latin typeface="Arial"/>
              </a:rPr>
              <a:t>cache_and_display - Calling comp::2fashtml on /any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515600"/>
              </a:tabLst>
            </a:pPr>
            <a:r>
              <a:rPr b="1" lang="en-GB" sz="2000" spc="-1" strike="noStrike">
                <a:solidFill>
                  <a:srgbClr val="333333"/>
                </a:solidFill>
                <a:latin typeface="Arial"/>
              </a:rPr>
              <a:t>                    </a:t>
            </a:r>
            <a:r>
              <a:rPr b="1" lang="en-GB" sz="2000" spc="-1" strike="noStrike">
                <a:solidFill>
                  <a:srgbClr val="333333"/>
                </a:solidFill>
                <a:latin typeface="Arial"/>
              </a:rPr>
              <a:t>comp::2fashtml - Using form /comp/edit_form.form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515600"/>
              </a:tabLst>
            </a:pPr>
            <a:r>
              <a:rPr b="1" lang="en-GB" sz="2000" spc="-1" strike="noStrike">
                <a:solidFill>
                  <a:srgbClr val="333333"/>
                </a:solidFill>
                <a:latin typeface="Arial"/>
              </a:rPr>
              <a:t>                    </a:t>
            </a:r>
            <a:r>
              <a:rPr b="1" lang="en-GB" sz="2000" spc="-1" strike="noStrike">
                <a:solidFill>
                  <a:srgbClr val="333333"/>
                </a:solidFill>
                <a:latin typeface="Arial"/>
              </a:rPr>
              <a:t>comp::2fashtml - Processing section path of type file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515600"/>
              </a:tabLst>
            </a:pPr>
            <a:r>
              <a:rPr b="1" lang="en-GB" sz="2000" spc="-1" strike="noStrike">
                <a:solidFill>
                  <a:srgbClr val="333333"/>
                </a:solidFill>
                <a:latin typeface="Arial"/>
              </a:rPr>
              <a:t>                      </a:t>
            </a:r>
            <a:r>
              <a:rPr b="1" lang="en-GB" sz="2000" spc="-1" strike="noStrike">
                <a:solidFill>
                  <a:srgbClr val="333333"/>
                </a:solidFill>
                <a:latin typeface="Arial"/>
              </a:rPr>
              <a:t>comp::file::get_html - Processing file /any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515600"/>
              </a:tabLst>
            </a:pPr>
            <a:r>
              <a:rPr b="1" lang="en-GB" sz="2000" spc="-1" strike="noStrike">
                <a:solidFill>
                  <a:srgbClr val="333333"/>
                </a:solidFill>
                <a:latin typeface="Arial"/>
              </a:rPr>
              <a:t>                      </a:t>
            </a:r>
            <a:r>
              <a:rPr b="1" lang="en-GB" sz="2000" spc="-1" strike="noStrike">
                <a:solidFill>
                  <a:srgbClr val="333333"/>
                </a:solidFill>
                <a:latin typeface="Arial"/>
              </a:rPr>
              <a:t>comp::file::get_html -                   - action &lt;= admin_path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515600"/>
              </a:tabLst>
            </a:pPr>
            <a:r>
              <a:rPr b="1" lang="en-GB" sz="2000" spc="-1" strike="noStrike">
                <a:solidFill>
                  <a:srgbClr val="333333"/>
                </a:solidFill>
                <a:latin typeface="Arial"/>
              </a:rPr>
              <a:t>                      </a:t>
            </a:r>
            <a:r>
              <a:rPr b="1" lang="en-GB" sz="2000" spc="-1" strike="noStrike">
                <a:solidFill>
                  <a:srgbClr val="333333"/>
                </a:solidFill>
                <a:latin typeface="Arial"/>
              </a:rPr>
              <a:t>comp::file::get_html -                   - new_type_option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739440" y="612720"/>
            <a:ext cx="86072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0760" y="1269720"/>
            <a:ext cx="8775720" cy="552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2680" indent="-319320">
              <a:lnSpc>
                <a:spcPct val="93000"/>
              </a:lnSpc>
              <a:buClr>
                <a:srgbClr val="21449c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21449c"/>
                </a:solidFill>
                <a:latin typeface="Arial"/>
              </a:rPr>
              <a:t>Opening</a:t>
            </a:r>
            <a:endParaRPr b="1" lang="en-US" sz="2600" spc="-1" strike="noStrike">
              <a:solidFill>
                <a:srgbClr val="21449c"/>
              </a:solidFill>
              <a:latin typeface="Arial"/>
            </a:endParaRPr>
          </a:p>
          <a:p>
            <a:pPr marL="382680" indent="-319320">
              <a:lnSpc>
                <a:spcPct val="93000"/>
              </a:lnSpc>
              <a:buClr>
                <a:srgbClr val="21449c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21449c"/>
                </a:solidFill>
                <a:latin typeface="Arial"/>
              </a:rPr>
              <a:t>Community ?</a:t>
            </a:r>
            <a:endParaRPr b="1" lang="en-US" sz="2600" spc="-1" strike="noStrike">
              <a:solidFill>
                <a:srgbClr val="21449c"/>
              </a:solidFill>
              <a:latin typeface="Arial"/>
            </a:endParaRPr>
          </a:p>
          <a:p>
            <a:pPr marL="382680" indent="-319320">
              <a:lnSpc>
                <a:spcPct val="93000"/>
              </a:lnSpc>
              <a:buClr>
                <a:srgbClr val="21449c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21449c"/>
                </a:solidFill>
                <a:latin typeface="Arial"/>
              </a:rPr>
              <a:t>To many bugs (to many actions, filetypes, cases, backends =&gt; websh sessions do not work ...)</a:t>
            </a:r>
            <a:r>
              <a:rPr b="1" lang="en-GB" sz="2600" spc="-1" strike="noStrike">
                <a:solidFill>
                  <a:srgbClr val="21449c"/>
                </a:solidFill>
                <a:latin typeface="Arial"/>
              </a:rPr>
              <a:t>‏</a:t>
            </a:r>
            <a:endParaRPr b="1" lang="en-US" sz="2600" spc="-1" strike="noStrike">
              <a:solidFill>
                <a:srgbClr val="21449c"/>
              </a:solidFill>
              <a:latin typeface="Arial"/>
            </a:endParaRPr>
          </a:p>
          <a:p>
            <a:pPr marL="382680" indent="-319320">
              <a:lnSpc>
                <a:spcPct val="93000"/>
              </a:lnSpc>
              <a:buClr>
                <a:srgbClr val="21449c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21449c"/>
                </a:solidFill>
                <a:latin typeface="Arial"/>
              </a:rPr>
              <a:t>Changing the caching solution !!! everything is written in files, each step =&gt; to slow (but very practical for debugging !)</a:t>
            </a:r>
            <a:r>
              <a:rPr b="1" lang="en-GB" sz="2600" spc="-1" strike="noStrike">
                <a:solidFill>
                  <a:srgbClr val="21449c"/>
                </a:solidFill>
                <a:latin typeface="Arial"/>
              </a:rPr>
              <a:t>‏</a:t>
            </a:r>
            <a:endParaRPr b="1" lang="en-US" sz="2600" spc="-1" strike="noStrike">
              <a:solidFill>
                <a:srgbClr val="21449c"/>
              </a:solidFill>
              <a:latin typeface="Arial"/>
            </a:endParaRPr>
          </a:p>
          <a:p>
            <a:pPr marL="382680" indent="-319320">
              <a:lnSpc>
                <a:spcPct val="93000"/>
              </a:lnSpc>
              <a:buClr>
                <a:srgbClr val="21449c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21449c"/>
                </a:solidFill>
                <a:latin typeface="Arial"/>
              </a:rPr>
              <a:t>Creating a good automatic testing solutions (for all actions, filetypes, ...)</a:t>
            </a:r>
            <a:r>
              <a:rPr b="1" lang="en-GB" sz="2600" spc="-1" strike="noStrike">
                <a:solidFill>
                  <a:srgbClr val="21449c"/>
                </a:solidFill>
                <a:latin typeface="Arial"/>
              </a:rPr>
              <a:t>‏</a:t>
            </a:r>
            <a:endParaRPr b="1" lang="en-US" sz="2600" spc="-1" strike="noStrike">
              <a:solidFill>
                <a:srgbClr val="21449c"/>
              </a:solidFill>
              <a:latin typeface="Arial"/>
            </a:endParaRPr>
          </a:p>
          <a:p>
            <a:pPr marL="382680" indent="-319320">
              <a:lnSpc>
                <a:spcPct val="93000"/>
              </a:lnSpc>
              <a:buClr>
                <a:srgbClr val="21449c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21449c"/>
                </a:solidFill>
                <a:latin typeface="Arial"/>
              </a:rPr>
              <a:t>So many other things to do ...</a:t>
            </a:r>
            <a:endParaRPr b="1" lang="en-US" sz="2600" spc="-1" strike="noStrike">
              <a:solidFill>
                <a:srgbClr val="21449c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739440" y="612720"/>
            <a:ext cx="86072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0760" y="1269720"/>
            <a:ext cx="8775720" cy="552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26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600" spc="-1" strike="noStrike">
              <a:solidFill>
                <a:srgbClr val="21449c"/>
              </a:solidFill>
              <a:latin typeface="Arial"/>
            </a:endParaRPr>
          </a:p>
          <a:p>
            <a:pPr marL="3826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600" spc="-1" strike="noStrike">
              <a:solidFill>
                <a:srgbClr val="21449c"/>
              </a:solidFill>
              <a:latin typeface="Arial"/>
            </a:endParaRPr>
          </a:p>
          <a:p>
            <a:pPr marL="3826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000" spc="-1" strike="noStrike">
                <a:solidFill>
                  <a:srgbClr val="21449c"/>
                </a:solidFill>
                <a:latin typeface="Arial"/>
              </a:rPr>
              <a:t>Mandriva Linux</a:t>
            </a:r>
            <a:endParaRPr b="1" lang="en-US" sz="4000" spc="-1" strike="noStrike">
              <a:solidFill>
                <a:srgbClr val="21449c"/>
              </a:solidFill>
              <a:latin typeface="Arial"/>
            </a:endParaRPr>
          </a:p>
          <a:p>
            <a:pPr marL="3826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21449c"/>
                </a:solidFill>
                <a:latin typeface="Arial"/>
              </a:rPr>
              <a:t>Ouvert, simple et innovant</a:t>
            </a:r>
            <a:endParaRPr b="1" lang="en-US" sz="2800" spc="-1" strike="noStrike">
              <a:solidFill>
                <a:srgbClr val="21449c"/>
              </a:solidFill>
              <a:latin typeface="Arial"/>
            </a:endParaRPr>
          </a:p>
          <a:p>
            <a:pPr marL="3826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21449c"/>
              </a:solidFill>
              <a:latin typeface="Arial"/>
            </a:endParaRPr>
          </a:p>
          <a:p>
            <a:pPr marL="3826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21449c"/>
              </a:solidFill>
              <a:latin typeface="Arial"/>
            </a:endParaRPr>
          </a:p>
          <a:p>
            <a:pPr marL="3826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21449c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3564000" y="3997440"/>
            <a:ext cx="2438280" cy="161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39440" y="612720"/>
            <a:ext cx="86072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Stor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0760" y="1269720"/>
            <a:ext cx="8775720" cy="552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2680" indent="-319320">
              <a:lnSpc>
                <a:spcPct val="93000"/>
              </a:lnSpc>
              <a:buClr>
                <a:srgbClr val="21449c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21449c"/>
                </a:solidFill>
                <a:latin typeface="Arial"/>
              </a:rPr>
              <a:t>Free&amp;ALter Soft : services around free / open source software for industry 12/1996</a:t>
            </a:r>
            <a:endParaRPr b="1" lang="en-US" sz="2600" spc="-1" strike="noStrike">
              <a:solidFill>
                <a:srgbClr val="21449c"/>
              </a:solidFill>
              <a:latin typeface="Arial"/>
            </a:endParaRPr>
          </a:p>
          <a:p>
            <a:pPr marL="382680" indent="-319320">
              <a:lnSpc>
                <a:spcPct val="93000"/>
              </a:lnSpc>
              <a:buClr>
                <a:srgbClr val="21449c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21449c"/>
                </a:solidFill>
                <a:latin typeface="Arial"/>
              </a:rPr>
              <a:t>Bought Linbox in 2001</a:t>
            </a:r>
            <a:endParaRPr b="1" lang="en-US" sz="2600" spc="-1" strike="noStrike">
              <a:solidFill>
                <a:srgbClr val="21449c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buClr>
                <a:srgbClr val="4c62ab"/>
              </a:buClr>
              <a:buFont typeface="Symbol" charset="2"/>
              <a:buChar char="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62ab"/>
                </a:solidFill>
                <a:latin typeface="Arial"/>
              </a:rPr>
              <a:t>=&gt; Linbox FAS</a:t>
            </a:r>
            <a:endParaRPr b="1" lang="en-US" sz="2400" spc="-1" strike="noStrike">
              <a:solidFill>
                <a:srgbClr val="4c62ab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buClr>
                <a:srgbClr val="4c62ab"/>
              </a:buClr>
              <a:buFont typeface="Symbol" charset="2"/>
              <a:buChar char="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62ab"/>
                </a:solidFill>
                <a:latin typeface="Arial"/>
              </a:rPr>
              <a:t>Switch from pure service to software edition / service</a:t>
            </a:r>
            <a:endParaRPr b="1" lang="en-US" sz="2400" spc="-1" strike="noStrike">
              <a:solidFill>
                <a:srgbClr val="4c62ab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buClr>
                <a:srgbClr val="4c62ab"/>
              </a:buClr>
              <a:buFont typeface="Symbol" charset="2"/>
              <a:buChar char="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62ab"/>
                </a:solidFill>
                <a:latin typeface="Arial"/>
              </a:rPr>
              <a:t>Linbox Rescue Server : a computer management solution : imaging, file backup, inventory, software deployment, keyboard/display control, integrated in a single web interface =&gt; used in Prime Ministry services, Ministère de l'Intérieur, Airbus for A380 flight test, préfecture, industry, ....</a:t>
            </a:r>
            <a:endParaRPr b="1" lang="en-US" sz="2400" spc="-1" strike="noStrike">
              <a:solidFill>
                <a:srgbClr val="4c62ab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buClr>
                <a:srgbClr val="4c62ab"/>
              </a:buClr>
              <a:buFont typeface="Symbol" charset="2"/>
              <a:buChar char="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62ab"/>
                </a:solidFill>
                <a:latin typeface="Arial"/>
              </a:rPr>
              <a:t>Linbox Directory Server : an open source AD killer.</a:t>
            </a:r>
            <a:endParaRPr b="1" lang="en-US" sz="2400" spc="-1" strike="noStrike">
              <a:solidFill>
                <a:srgbClr val="4c62ab"/>
              </a:solidFill>
              <a:latin typeface="Arial"/>
            </a:endParaRPr>
          </a:p>
          <a:p>
            <a:pPr marL="382680" indent="-319320">
              <a:lnSpc>
                <a:spcPct val="93000"/>
              </a:lnSpc>
              <a:buClr>
                <a:srgbClr val="21449c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21449c"/>
                </a:solidFill>
                <a:latin typeface="Arial"/>
              </a:rPr>
              <a:t>Linbox FAS bought by Mandriva in 2007</a:t>
            </a:r>
            <a:endParaRPr b="1" lang="en-US" sz="2600" spc="-1" strike="noStrike">
              <a:solidFill>
                <a:srgbClr val="21449c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39440" y="612720"/>
            <a:ext cx="86072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Linbox FAS &amp; TC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0760" y="1269720"/>
            <a:ext cx="8775720" cy="552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2680" indent="-319320">
              <a:lnSpc>
                <a:spcPct val="93000"/>
              </a:lnSpc>
              <a:buClr>
                <a:srgbClr val="21449c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21449c"/>
                </a:solidFill>
                <a:latin typeface="Arial"/>
              </a:rPr>
              <a:t>1997 : free software distribution for Solaris (then IRIX and HPUX)</a:t>
            </a:r>
            <a:r>
              <a:rPr b="1" lang="en-GB" sz="2600" spc="-1" strike="noStrike">
                <a:solidFill>
                  <a:srgbClr val="21449c"/>
                </a:solidFill>
                <a:latin typeface="Arial"/>
              </a:rPr>
              <a:t>‏</a:t>
            </a:r>
            <a:endParaRPr b="1" lang="en-US" sz="2600" spc="-1" strike="noStrike">
              <a:solidFill>
                <a:srgbClr val="21449c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buClr>
                <a:srgbClr val="4c62ab"/>
              </a:buClr>
              <a:buFont typeface="Symbol" charset="2"/>
              <a:buChar char="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62ab"/>
                </a:solidFill>
                <a:latin typeface="Arial"/>
              </a:rPr>
              <a:t>Main customers : Renault &amp; MBDA (1998-2007)</a:t>
            </a:r>
            <a:r>
              <a:rPr b="1" lang="en-GB" sz="2400" spc="-1" strike="noStrike">
                <a:solidFill>
                  <a:srgbClr val="4c62ab"/>
                </a:solidFill>
                <a:latin typeface="Arial"/>
              </a:rPr>
              <a:t>‏</a:t>
            </a:r>
            <a:endParaRPr b="1" lang="en-US" sz="2400" spc="-1" strike="noStrike">
              <a:solidFill>
                <a:srgbClr val="4c62ab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buClr>
                <a:srgbClr val="4c62ab"/>
              </a:buClr>
              <a:buFont typeface="Symbol" charset="2"/>
              <a:buChar char="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62ab"/>
                </a:solidFill>
                <a:latin typeface="Arial"/>
              </a:rPr>
              <a:t>Installation GUI + generator of environment variables in tcl/tk</a:t>
            </a:r>
            <a:endParaRPr b="1" lang="en-US" sz="2400" spc="-1" strike="noStrike">
              <a:solidFill>
                <a:srgbClr val="4c62ab"/>
              </a:solidFill>
              <a:latin typeface="Arial"/>
            </a:endParaRPr>
          </a:p>
          <a:p>
            <a:pPr marL="382680" indent="-319320">
              <a:lnSpc>
                <a:spcPct val="93000"/>
              </a:lnSpc>
              <a:buClr>
                <a:srgbClr val="21449c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21449c"/>
                </a:solidFill>
                <a:latin typeface="Arial"/>
              </a:rPr>
              <a:t>1998 : tcl cgi program for ticket management in Thomcast</a:t>
            </a:r>
            <a:endParaRPr b="1" lang="en-US" sz="2600" spc="-1" strike="noStrike">
              <a:solidFill>
                <a:srgbClr val="21449c"/>
              </a:solidFill>
              <a:latin typeface="Arial"/>
            </a:endParaRPr>
          </a:p>
          <a:p>
            <a:pPr marL="382680" indent="-319320">
              <a:lnSpc>
                <a:spcPct val="93000"/>
              </a:lnSpc>
              <a:buClr>
                <a:srgbClr val="21449c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21449c"/>
                </a:solidFill>
                <a:latin typeface="Arial"/>
              </a:rPr>
              <a:t>1998-99 : tcl cgi program (fastcgi) to manage the time spent on projects for SNCF</a:t>
            </a:r>
            <a:endParaRPr b="1" lang="en-US" sz="2600" spc="-1" strike="noStrike">
              <a:solidFill>
                <a:srgbClr val="21449c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buClr>
                <a:srgbClr val="4c62ab"/>
              </a:buClr>
              <a:buFont typeface="Symbol" charset="2"/>
              <a:buChar char="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62ab"/>
                </a:solidFill>
                <a:latin typeface="Arial"/>
              </a:rPr>
              <a:t>tcl is the main company programming language</a:t>
            </a:r>
            <a:endParaRPr b="1" lang="en-US" sz="2400" spc="-1" strike="noStrike">
              <a:solidFill>
                <a:srgbClr val="4c62ab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buClr>
                <a:srgbClr val="4c62ab"/>
              </a:buClr>
              <a:buFont typeface="Symbol" charset="2"/>
              <a:buChar char="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62ab"/>
                </a:solidFill>
                <a:latin typeface="Arial"/>
              </a:rPr>
              <a:t>but it is not an obligation : we are heavy users of scripting language (perl, php, python)</a:t>
            </a:r>
            <a:r>
              <a:rPr b="1" lang="en-GB" sz="2400" spc="-1" strike="noStrike">
                <a:solidFill>
                  <a:srgbClr val="4c62ab"/>
                </a:solidFill>
                <a:latin typeface="Arial"/>
              </a:rPr>
              <a:t>‏</a:t>
            </a:r>
            <a:endParaRPr b="1" lang="en-US" sz="2400" spc="-1" strike="noStrike">
              <a:solidFill>
                <a:srgbClr val="4c62ab"/>
              </a:solidFill>
              <a:latin typeface="Arial"/>
            </a:endParaRPr>
          </a:p>
          <a:p>
            <a:pPr marL="382680" indent="-319320">
              <a:lnSpc>
                <a:spcPct val="93000"/>
              </a:lnSpc>
              <a:buClr>
                <a:srgbClr val="21449c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21449c"/>
                </a:solidFill>
                <a:latin typeface="Arial"/>
              </a:rPr>
              <a:t>1999 : EQUAL project – infomobility</a:t>
            </a:r>
            <a:endParaRPr b="1" lang="en-US" sz="2600" spc="-1" strike="noStrike">
              <a:solidFill>
                <a:srgbClr val="21449c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55640" y="627120"/>
            <a:ext cx="86076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EQUA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844880" y="4665600"/>
            <a:ext cx="2732400" cy="18748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5219640" y="5226120"/>
            <a:ext cx="333360" cy="22860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5261040" y="5273640"/>
            <a:ext cx="249120" cy="146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4097160" y="1549440"/>
            <a:ext cx="167040" cy="14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264200" y="1471680"/>
            <a:ext cx="82440" cy="792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346640" y="1473120"/>
            <a:ext cx="84240" cy="7632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430880" y="1471680"/>
            <a:ext cx="83880" cy="792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513320" y="1473120"/>
            <a:ext cx="82440" cy="7632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4595760" y="1471680"/>
            <a:ext cx="84240" cy="792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680000" y="1473120"/>
            <a:ext cx="84240" cy="7632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4762440" y="1471680"/>
            <a:ext cx="82440" cy="792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844880" y="1473120"/>
            <a:ext cx="84240" cy="7632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929120" y="1549440"/>
            <a:ext cx="333360" cy="14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356000" y="1549440"/>
            <a:ext cx="4287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800" spc="-1" strike="noStrike">
                <a:solidFill>
                  <a:srgbClr val="333333"/>
                </a:solidFill>
                <a:latin typeface="Arial"/>
              </a:rPr>
              <a:t>RTC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3267000" y="1320840"/>
            <a:ext cx="820800" cy="836640"/>
            <a:chOff x="3267000" y="1320840"/>
            <a:chExt cx="820800" cy="836640"/>
          </a:xfrm>
        </p:grpSpPr>
        <p:sp>
          <p:nvSpPr>
            <p:cNvPr id="108" name=""/>
            <p:cNvSpPr/>
            <p:nvPr/>
          </p:nvSpPr>
          <p:spPr>
            <a:xfrm>
              <a:off x="3267000" y="1320840"/>
              <a:ext cx="820800" cy="836640"/>
            </a:xfrm>
            <a:custGeom>
              <a:avLst/>
              <a:gdLst/>
              <a:ahLst/>
              <a:rect l="l" t="t" r="r" b="b"/>
              <a:pathLst>
                <a:path w="2281" h="2323">
                  <a:moveTo>
                    <a:pt x="0" y="0"/>
                  </a:moveTo>
                  <a:lnTo>
                    <a:pt x="2280" y="0"/>
                  </a:lnTo>
                  <a:lnTo>
                    <a:pt x="2280" y="2322"/>
                  </a:lnTo>
                  <a:lnTo>
                    <a:pt x="0" y="2322"/>
                  </a:lnTo>
                  <a:lnTo>
                    <a:pt x="0" y="0"/>
                  </a:lnTo>
                </a:path>
              </a:pathLst>
            </a:custGeom>
            <a:solidFill>
              <a:srgbClr val="ffff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0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267000" y="1320840"/>
              <a:ext cx="820800" cy="836640"/>
            </a:xfrm>
            <a:custGeom>
              <a:avLst/>
              <a:gdLst/>
              <a:ahLst/>
              <a:rect l="l" t="t" r="r" b="b"/>
              <a:pathLst>
                <a:path w="2281" h="2323">
                  <a:moveTo>
                    <a:pt x="174" y="183"/>
                  </a:moveTo>
                  <a:lnTo>
                    <a:pt x="953" y="183"/>
                  </a:lnTo>
                  <a:lnTo>
                    <a:pt x="953" y="250"/>
                  </a:lnTo>
                  <a:lnTo>
                    <a:pt x="174" y="250"/>
                  </a:lnTo>
                  <a:close/>
                  <a:moveTo>
                    <a:pt x="0" y="468"/>
                  </a:moveTo>
                  <a:lnTo>
                    <a:pt x="1149" y="468"/>
                  </a:lnTo>
                  <a:lnTo>
                    <a:pt x="1149" y="1520"/>
                  </a:lnTo>
                  <a:lnTo>
                    <a:pt x="2280" y="1520"/>
                  </a:lnTo>
                  <a:close/>
                  <a:moveTo>
                    <a:pt x="1226" y="134"/>
                  </a:moveTo>
                  <a:lnTo>
                    <a:pt x="2162" y="134"/>
                  </a:lnTo>
                  <a:lnTo>
                    <a:pt x="2162" y="166"/>
                  </a:lnTo>
                  <a:lnTo>
                    <a:pt x="1226" y="166"/>
                  </a:lnTo>
                  <a:close/>
                  <a:moveTo>
                    <a:pt x="1226" y="350"/>
                  </a:moveTo>
                  <a:lnTo>
                    <a:pt x="2162" y="350"/>
                  </a:lnTo>
                  <a:lnTo>
                    <a:pt x="2162" y="384"/>
                  </a:lnTo>
                  <a:lnTo>
                    <a:pt x="1226" y="384"/>
                  </a:lnTo>
                  <a:close/>
                  <a:moveTo>
                    <a:pt x="1226" y="651"/>
                  </a:moveTo>
                  <a:lnTo>
                    <a:pt x="2162" y="651"/>
                  </a:lnTo>
                  <a:lnTo>
                    <a:pt x="2162" y="684"/>
                  </a:lnTo>
                  <a:lnTo>
                    <a:pt x="1226" y="684"/>
                  </a:lnTo>
                  <a:close/>
                  <a:moveTo>
                    <a:pt x="1226" y="869"/>
                  </a:moveTo>
                  <a:lnTo>
                    <a:pt x="2142" y="869"/>
                  </a:lnTo>
                  <a:lnTo>
                    <a:pt x="2142" y="902"/>
                  </a:lnTo>
                  <a:lnTo>
                    <a:pt x="1226" y="902"/>
                  </a:lnTo>
                  <a:close/>
                  <a:moveTo>
                    <a:pt x="1226" y="451"/>
                  </a:moveTo>
                  <a:lnTo>
                    <a:pt x="1305" y="451"/>
                  </a:lnTo>
                  <a:lnTo>
                    <a:pt x="1305" y="518"/>
                  </a:lnTo>
                  <a:lnTo>
                    <a:pt x="1226" y="518"/>
                  </a:lnTo>
                  <a:close/>
                  <a:moveTo>
                    <a:pt x="1519" y="451"/>
                  </a:moveTo>
                  <a:lnTo>
                    <a:pt x="1597" y="451"/>
                  </a:lnTo>
                  <a:lnTo>
                    <a:pt x="1597" y="518"/>
                  </a:lnTo>
                  <a:lnTo>
                    <a:pt x="1519" y="518"/>
                  </a:lnTo>
                  <a:close/>
                  <a:moveTo>
                    <a:pt x="1792" y="451"/>
                  </a:moveTo>
                  <a:lnTo>
                    <a:pt x="1870" y="451"/>
                  </a:lnTo>
                  <a:lnTo>
                    <a:pt x="1870" y="518"/>
                  </a:lnTo>
                  <a:lnTo>
                    <a:pt x="1792" y="518"/>
                  </a:lnTo>
                  <a:close/>
                  <a:moveTo>
                    <a:pt x="2084" y="451"/>
                  </a:moveTo>
                  <a:lnTo>
                    <a:pt x="2162" y="451"/>
                  </a:lnTo>
                  <a:lnTo>
                    <a:pt x="2162" y="518"/>
                  </a:lnTo>
                  <a:lnTo>
                    <a:pt x="2084" y="518"/>
                  </a:lnTo>
                  <a:close/>
                  <a:moveTo>
                    <a:pt x="1226" y="1035"/>
                  </a:moveTo>
                  <a:lnTo>
                    <a:pt x="1305" y="1035"/>
                  </a:lnTo>
                  <a:lnTo>
                    <a:pt x="1305" y="1102"/>
                  </a:lnTo>
                  <a:lnTo>
                    <a:pt x="1226" y="1102"/>
                  </a:lnTo>
                  <a:close/>
                  <a:moveTo>
                    <a:pt x="1519" y="1035"/>
                  </a:moveTo>
                  <a:lnTo>
                    <a:pt x="1597" y="1035"/>
                  </a:lnTo>
                  <a:lnTo>
                    <a:pt x="1597" y="1102"/>
                  </a:lnTo>
                  <a:lnTo>
                    <a:pt x="1519" y="1102"/>
                  </a:lnTo>
                  <a:close/>
                  <a:moveTo>
                    <a:pt x="1792" y="1035"/>
                  </a:moveTo>
                  <a:lnTo>
                    <a:pt x="1870" y="1035"/>
                  </a:lnTo>
                  <a:lnTo>
                    <a:pt x="1870" y="1102"/>
                  </a:lnTo>
                  <a:lnTo>
                    <a:pt x="1792" y="1102"/>
                  </a:lnTo>
                  <a:close/>
                  <a:moveTo>
                    <a:pt x="2084" y="1035"/>
                  </a:moveTo>
                  <a:lnTo>
                    <a:pt x="2162" y="1035"/>
                  </a:lnTo>
                  <a:lnTo>
                    <a:pt x="2162" y="1102"/>
                  </a:lnTo>
                  <a:lnTo>
                    <a:pt x="2084" y="1102"/>
                  </a:lnTo>
                  <a:close/>
                  <a:moveTo>
                    <a:pt x="1149" y="1520"/>
                  </a:moveTo>
                  <a:lnTo>
                    <a:pt x="1149" y="1654"/>
                  </a:lnTo>
                  <a:lnTo>
                    <a:pt x="1149" y="2155"/>
                  </a:lnTo>
                  <a:lnTo>
                    <a:pt x="1149" y="2322"/>
                  </a:lnTo>
                  <a:close/>
                  <a:moveTo>
                    <a:pt x="1149" y="468"/>
                  </a:moveTo>
                  <a:lnTo>
                    <a:pt x="1149" y="384"/>
                  </a:lnTo>
                  <a:lnTo>
                    <a:pt x="1149" y="100"/>
                  </a:lnTo>
                  <a:lnTo>
                    <a:pt x="1149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0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690480" y="1473120"/>
            <a:ext cx="577800" cy="5317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4"/>
          <a:stretch/>
        </p:blipFill>
        <p:spPr>
          <a:xfrm>
            <a:off x="1438200" y="1473120"/>
            <a:ext cx="582840" cy="53172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523800" y="1092240"/>
            <a:ext cx="16272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 Black"/>
              </a:rPr>
              <a:t>INTERNE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08040" y="1928880"/>
            <a:ext cx="684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800" spc="-1" strike="noStrike">
                <a:solidFill>
                  <a:srgbClr val="333333"/>
                </a:solidFill>
                <a:latin typeface="Arial"/>
              </a:rPr>
              <a:t>Site Météo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355760" y="1928880"/>
            <a:ext cx="67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800" spc="-1" strike="noStrike">
                <a:solidFill>
                  <a:srgbClr val="333333"/>
                </a:solidFill>
                <a:latin typeface="Arial"/>
              </a:rPr>
              <a:t>Site Gouv.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08040" y="2460600"/>
            <a:ext cx="8190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800" spc="-1" strike="noStrike">
                <a:solidFill>
                  <a:srgbClr val="333333"/>
                </a:solidFill>
                <a:latin typeface="Arial"/>
              </a:rPr>
              <a:t>Site Info Rég.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08040" y="1397160"/>
            <a:ext cx="747720" cy="2431800"/>
          </a:xfrm>
          <a:custGeom>
            <a:avLst/>
            <a:gdLst>
              <a:gd name="textAreaLeft" fmla="*/ 360 w 747720"/>
              <a:gd name="textAreaRight" fmla="*/ 747360 w 747720"/>
              <a:gd name="textAreaTop" fmla="*/ 360 h 2431800"/>
              <a:gd name="textAreaBottom" fmla="*/ 2431440 h 2431800"/>
            </a:gdLst>
            <a:ahLst/>
            <a:rect l="textAreaLeft" t="textAreaTop" r="textAreaRight" b="textAreaBottom"/>
            <a:pathLst>
              <a:path w="21600" h="70226">
                <a:moveTo>
                  <a:pt x="45" y="0"/>
                </a:moveTo>
                <a:arcTo wR="45" hR="45" stAng="16200000" swAng="-5400000"/>
                <a:lnTo>
                  <a:pt x="0" y="70181"/>
                </a:lnTo>
                <a:arcTo wR="45" hR="45" stAng="10800000" swAng="-5400000"/>
                <a:lnTo>
                  <a:pt x="21555" y="70226"/>
                </a:lnTo>
                <a:arcTo wR="45" hR="45" stAng="5400000" swAng="-5400000"/>
                <a:lnTo>
                  <a:pt x="21600" y="45"/>
                </a:lnTo>
                <a:arcTo wR="45" hR="4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355760" y="1397160"/>
            <a:ext cx="747720" cy="2431800"/>
          </a:xfrm>
          <a:custGeom>
            <a:avLst/>
            <a:gdLst>
              <a:gd name="textAreaLeft" fmla="*/ 360 w 747720"/>
              <a:gd name="textAreaRight" fmla="*/ 747360 w 747720"/>
              <a:gd name="textAreaTop" fmla="*/ 360 h 2431800"/>
              <a:gd name="textAreaBottom" fmla="*/ 2431440 h 2431800"/>
            </a:gdLst>
            <a:ahLst/>
            <a:rect l="textAreaLeft" t="textAreaTop" r="textAreaRight" b="textAreaBottom"/>
            <a:pathLst>
              <a:path w="21600" h="70226">
                <a:moveTo>
                  <a:pt x="45" y="0"/>
                </a:moveTo>
                <a:arcTo wR="45" hR="45" stAng="16200000" swAng="-5400000"/>
                <a:lnTo>
                  <a:pt x="0" y="70181"/>
                </a:lnTo>
                <a:arcTo wR="45" hR="45" stAng="10800000" swAng="-5400000"/>
                <a:lnTo>
                  <a:pt x="21555" y="70226"/>
                </a:lnTo>
                <a:arcTo wR="45" hR="45" stAng="5400000" swAng="-5400000"/>
                <a:lnTo>
                  <a:pt x="21600" y="45"/>
                </a:lnTo>
                <a:arcTo wR="45" hR="4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8040" y="2081160"/>
            <a:ext cx="149544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08040" y="2689200"/>
            <a:ext cx="1495440" cy="14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08040" y="3220920"/>
            <a:ext cx="149544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69880" y="3309840"/>
            <a:ext cx="83196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49000"/>
              </a:lnSpc>
              <a:spcBef>
                <a:spcPts val="624"/>
              </a:spcBef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200" spc="-1" strike="noStrike">
                <a:solidFill>
                  <a:srgbClr val="333333"/>
                </a:solidFill>
                <a:latin typeface="Arial"/>
              </a:rPr>
              <a:t>Infos de votre site.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522440" y="3449520"/>
            <a:ext cx="83196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49000"/>
              </a:lnSpc>
              <a:spcBef>
                <a:spcPts val="624"/>
              </a:spcBef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000" spc="-1" strike="noStrike">
                <a:solidFill>
                  <a:srgbClr val="333333"/>
                </a:solidFill>
                <a:latin typeface="Arial"/>
              </a:rPr>
              <a:t>…</a:t>
            </a:r>
            <a:r>
              <a:rPr b="0" lang="en-GB" sz="1000" spc="-1" strike="noStrike">
                <a:solidFill>
                  <a:srgbClr val="333333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103480" y="1700280"/>
            <a:ext cx="1162080" cy="341280"/>
          </a:xfrm>
          <a:custGeom>
            <a:avLst/>
            <a:gdLst/>
            <a:ahLst/>
            <a:rect l="l" t="t" r="r" b="b"/>
            <a:pathLst>
              <a:path w="3229" h="947">
                <a:moveTo>
                  <a:pt x="0" y="842"/>
                </a:moveTo>
                <a:cubicBezTo>
                  <a:pt x="615" y="894"/>
                  <a:pt x="1230" y="946"/>
                  <a:pt x="1614" y="842"/>
                </a:cubicBezTo>
                <a:cubicBezTo>
                  <a:pt x="1998" y="738"/>
                  <a:pt x="2038" y="350"/>
                  <a:pt x="2307" y="210"/>
                </a:cubicBezTo>
                <a:cubicBezTo>
                  <a:pt x="2576" y="70"/>
                  <a:pt x="3076" y="35"/>
                  <a:pt x="3228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266920" y="1320840"/>
            <a:ext cx="106524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000" spc="-1" strike="noStrike">
                <a:solidFill>
                  <a:srgbClr val="333333"/>
                </a:solidFill>
                <a:latin typeface="Arial"/>
              </a:rPr>
              <a:t>Récupération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lnSpc>
                <a:spcPct val="96000"/>
              </a:lnSpc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000" spc="-1" strike="noStrike">
                <a:solidFill>
                  <a:srgbClr val="333333"/>
                </a:solidFill>
                <a:latin typeface="Arial"/>
              </a:rPr>
              <a:t>d’informations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30200" y="4665600"/>
            <a:ext cx="1305000" cy="8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000" spc="-1" strike="noStrike">
                <a:solidFill>
                  <a:srgbClr val="333333"/>
                </a:solidFill>
                <a:latin typeface="Arial"/>
              </a:rPr>
              <a:t>Consultation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000" spc="-1" strike="noStrike">
                <a:solidFill>
                  <a:srgbClr val="333333"/>
                </a:solidFill>
                <a:latin typeface="Arial"/>
              </a:rPr>
              <a:t>des informations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000" spc="-1" strike="noStrike">
                <a:solidFill>
                  <a:srgbClr val="333333"/>
                </a:solidFill>
                <a:latin typeface="Arial"/>
              </a:rPr>
              <a:t>vues dans le bus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000" spc="-1" strike="noStrike">
                <a:solidFill>
                  <a:srgbClr val="333333"/>
                </a:solidFill>
                <a:latin typeface="Arial"/>
              </a:rPr>
              <a:t>sur le  site internet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000" spc="-1" strike="noStrike">
                <a:solidFill>
                  <a:srgbClr val="333333"/>
                </a:solidFill>
                <a:latin typeface="Arial"/>
              </a:rPr>
              <a:t>de la société de bus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5"/>
          <a:stretch/>
        </p:blipFill>
        <p:spPr>
          <a:xfrm>
            <a:off x="1106640" y="5500800"/>
            <a:ext cx="822240" cy="6318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3184560" y="4816440"/>
            <a:ext cx="1495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spcBef>
                <a:spcPts val="499"/>
              </a:spcBef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800" spc="-1" strike="noStrike">
                <a:solidFill>
                  <a:srgbClr val="333333"/>
                </a:solidFill>
                <a:latin typeface="Arial"/>
              </a:rPr>
              <a:t>Gérant RrOoLl Bus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lnSpc>
                <a:spcPct val="96000"/>
              </a:lnSpc>
              <a:spcBef>
                <a:spcPts val="499"/>
              </a:spcBef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800" spc="-1" strike="noStrike">
                <a:solidFill>
                  <a:srgbClr val="333333"/>
                </a:solidFill>
                <a:latin typeface="Arial"/>
              </a:rPr>
              <a:t>Choix / ajout de pages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63840" y="2765520"/>
            <a:ext cx="161280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333333"/>
                </a:solidFill>
                <a:latin typeface="Arial"/>
              </a:rPr>
              <a:t>Accès intranet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333333"/>
                </a:solidFill>
                <a:latin typeface="Arial"/>
              </a:rPr>
              <a:t>ou internet à RrOoLl Bus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3267000" y="3676680"/>
            <a:ext cx="1108080" cy="1141560"/>
            <a:chOff x="3267000" y="3676680"/>
            <a:chExt cx="1108080" cy="1141560"/>
          </a:xfrm>
        </p:grpSpPr>
        <p:grpSp>
          <p:nvGrpSpPr>
            <p:cNvPr id="130" name=""/>
            <p:cNvGrpSpPr/>
            <p:nvPr/>
          </p:nvGrpSpPr>
          <p:grpSpPr>
            <a:xfrm>
              <a:off x="3267000" y="3676680"/>
              <a:ext cx="654120" cy="598320"/>
              <a:chOff x="3267000" y="3676680"/>
              <a:chExt cx="654120" cy="598320"/>
            </a:xfrm>
          </p:grpSpPr>
          <p:sp>
            <p:nvSpPr>
              <p:cNvPr id="131" name=""/>
              <p:cNvSpPr/>
              <p:nvPr/>
            </p:nvSpPr>
            <p:spPr>
              <a:xfrm>
                <a:off x="3267000" y="3676680"/>
                <a:ext cx="654120" cy="598320"/>
              </a:xfrm>
              <a:custGeom>
                <a:avLst/>
                <a:gdLst/>
                <a:ahLst/>
                <a:rect l="l" t="t" r="r" b="b"/>
                <a:pathLst>
                  <a:path w="1819" h="1664">
                    <a:moveTo>
                      <a:pt x="1770" y="1563"/>
                    </a:moveTo>
                    <a:lnTo>
                      <a:pt x="1585" y="1416"/>
                    </a:lnTo>
                    <a:lnTo>
                      <a:pt x="1585" y="1014"/>
                    </a:lnTo>
                    <a:lnTo>
                      <a:pt x="1304" y="1014"/>
                    </a:lnTo>
                    <a:lnTo>
                      <a:pt x="1304" y="896"/>
                    </a:lnTo>
                    <a:lnTo>
                      <a:pt x="1458" y="896"/>
                    </a:lnTo>
                    <a:lnTo>
                      <a:pt x="1458" y="859"/>
                    </a:lnTo>
                    <a:lnTo>
                      <a:pt x="1458" y="0"/>
                    </a:lnTo>
                    <a:lnTo>
                      <a:pt x="914" y="0"/>
                    </a:lnTo>
                    <a:lnTo>
                      <a:pt x="360" y="0"/>
                    </a:lnTo>
                    <a:lnTo>
                      <a:pt x="360" y="850"/>
                    </a:lnTo>
                    <a:lnTo>
                      <a:pt x="360" y="896"/>
                    </a:lnTo>
                    <a:lnTo>
                      <a:pt x="515" y="896"/>
                    </a:lnTo>
                    <a:lnTo>
                      <a:pt x="515" y="1014"/>
                    </a:lnTo>
                    <a:lnTo>
                      <a:pt x="234" y="1014"/>
                    </a:lnTo>
                    <a:lnTo>
                      <a:pt x="234" y="1425"/>
                    </a:lnTo>
                    <a:lnTo>
                      <a:pt x="58" y="1563"/>
                    </a:lnTo>
                    <a:lnTo>
                      <a:pt x="39" y="1572"/>
                    </a:lnTo>
                    <a:lnTo>
                      <a:pt x="19" y="1590"/>
                    </a:lnTo>
                    <a:lnTo>
                      <a:pt x="9" y="1609"/>
                    </a:lnTo>
                    <a:lnTo>
                      <a:pt x="0" y="1627"/>
                    </a:lnTo>
                    <a:lnTo>
                      <a:pt x="0" y="1636"/>
                    </a:lnTo>
                    <a:lnTo>
                      <a:pt x="9" y="1645"/>
                    </a:lnTo>
                    <a:lnTo>
                      <a:pt x="9" y="1654"/>
                    </a:lnTo>
                    <a:lnTo>
                      <a:pt x="19" y="1654"/>
                    </a:lnTo>
                    <a:lnTo>
                      <a:pt x="29" y="1663"/>
                    </a:lnTo>
                    <a:lnTo>
                      <a:pt x="48" y="1663"/>
                    </a:lnTo>
                    <a:lnTo>
                      <a:pt x="58" y="1663"/>
                    </a:lnTo>
                    <a:lnTo>
                      <a:pt x="914" y="1663"/>
                    </a:lnTo>
                    <a:lnTo>
                      <a:pt x="1761" y="1663"/>
                    </a:lnTo>
                    <a:lnTo>
                      <a:pt x="1780" y="1663"/>
                    </a:lnTo>
                    <a:lnTo>
                      <a:pt x="1790" y="1663"/>
                    </a:lnTo>
                    <a:lnTo>
                      <a:pt x="1800" y="1654"/>
                    </a:lnTo>
                    <a:lnTo>
                      <a:pt x="1810" y="1654"/>
                    </a:lnTo>
                    <a:lnTo>
                      <a:pt x="1818" y="1645"/>
                    </a:lnTo>
                    <a:lnTo>
                      <a:pt x="1818" y="1636"/>
                    </a:lnTo>
                    <a:lnTo>
                      <a:pt x="1818" y="1627"/>
                    </a:lnTo>
                    <a:lnTo>
                      <a:pt x="1810" y="1609"/>
                    </a:lnTo>
                    <a:lnTo>
                      <a:pt x="1800" y="1590"/>
                    </a:lnTo>
                    <a:lnTo>
                      <a:pt x="1790" y="1572"/>
                    </a:lnTo>
                    <a:lnTo>
                      <a:pt x="1770" y="1563"/>
                    </a:lnTo>
                  </a:path>
                </a:pathLst>
              </a:custGeom>
              <a:solidFill>
                <a:srgbClr val="ffffc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0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378240" y="4173480"/>
                <a:ext cx="434880" cy="17640"/>
              </a:xfrm>
              <a:custGeom>
                <a:avLst/>
                <a:gdLst/>
                <a:ahLst/>
                <a:rect l="l" t="t" r="r" b="b"/>
                <a:pathLst>
                  <a:path w="1207" h="47">
                    <a:moveTo>
                      <a:pt x="1206" y="46"/>
                    </a:moveTo>
                    <a:lnTo>
                      <a:pt x="1147" y="0"/>
                    </a:lnTo>
                    <a:lnTo>
                      <a:pt x="58" y="0"/>
                    </a:lnTo>
                    <a:lnTo>
                      <a:pt x="0" y="46"/>
                    </a:lnTo>
                    <a:lnTo>
                      <a:pt x="1206" y="46"/>
                    </a:lnTo>
                  </a:path>
                </a:pathLst>
              </a:custGeom>
              <a:solidFill>
                <a:srgbClr val="ffffc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0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340080" y="4206960"/>
                <a:ext cx="507960" cy="17280"/>
              </a:xfrm>
              <a:custGeom>
                <a:avLst/>
                <a:gdLst/>
                <a:ahLst/>
                <a:rect l="l" t="t" r="r" b="b"/>
                <a:pathLst>
                  <a:path w="1411" h="47">
                    <a:moveTo>
                      <a:pt x="1410" y="46"/>
                    </a:moveTo>
                    <a:lnTo>
                      <a:pt x="1353" y="0"/>
                    </a:lnTo>
                    <a:lnTo>
                      <a:pt x="58" y="0"/>
                    </a:lnTo>
                    <a:lnTo>
                      <a:pt x="0" y="46"/>
                    </a:lnTo>
                    <a:lnTo>
                      <a:pt x="1410" y="46"/>
                    </a:lnTo>
                  </a:path>
                </a:pathLst>
              </a:custGeom>
              <a:solidFill>
                <a:srgbClr val="ffffc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0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3301920" y="4237200"/>
                <a:ext cx="588960" cy="15840"/>
              </a:xfrm>
              <a:custGeom>
                <a:avLst/>
                <a:gdLst/>
                <a:ahLst/>
                <a:rect l="l" t="t" r="r" b="b"/>
                <a:pathLst>
                  <a:path w="1635" h="46">
                    <a:moveTo>
                      <a:pt x="1634" y="45"/>
                    </a:moveTo>
                    <a:lnTo>
                      <a:pt x="1576" y="0"/>
                    </a:lnTo>
                    <a:lnTo>
                      <a:pt x="58" y="0"/>
                    </a:lnTo>
                    <a:lnTo>
                      <a:pt x="0" y="45"/>
                    </a:lnTo>
                    <a:lnTo>
                      <a:pt x="1634" y="45"/>
                    </a:lnTo>
                  </a:path>
                </a:pathLst>
              </a:custGeom>
              <a:solidFill>
                <a:srgbClr val="ffffc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0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3351240" y="4068720"/>
                <a:ext cx="487440" cy="122400"/>
              </a:xfrm>
              <a:custGeom>
                <a:avLst/>
                <a:gdLst/>
                <a:ahLst/>
                <a:rect l="l" t="t" r="r" b="b"/>
                <a:pathLst>
                  <a:path w="1352" h="339">
                    <a:moveTo>
                      <a:pt x="1351" y="329"/>
                    </a:moveTo>
                    <a:lnTo>
                      <a:pt x="1234" y="237"/>
                    </a:lnTo>
                    <a:lnTo>
                      <a:pt x="116" y="237"/>
                    </a:lnTo>
                    <a:lnTo>
                      <a:pt x="0" y="338"/>
                    </a:lnTo>
                    <a:lnTo>
                      <a:pt x="1351" y="329"/>
                    </a:lnTo>
                    <a:close/>
                    <a:moveTo>
                      <a:pt x="874" y="0"/>
                    </a:moveTo>
                    <a:lnTo>
                      <a:pt x="874" y="46"/>
                    </a:lnTo>
                    <a:lnTo>
                      <a:pt x="1264" y="46"/>
                    </a:lnTo>
                    <a:lnTo>
                      <a:pt x="1264" y="0"/>
                    </a:lnTo>
                    <a:lnTo>
                      <a:pt x="874" y="0"/>
                    </a:lnTo>
                    <a:close/>
                  </a:path>
                </a:pathLst>
              </a:custGeom>
              <a:solidFill>
                <a:srgbClr val="ffffc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0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452760" y="3728880"/>
                <a:ext cx="284040" cy="312840"/>
              </a:xfrm>
              <a:custGeom>
                <a:avLst/>
                <a:gdLst/>
                <a:ahLst/>
                <a:rect l="l" t="t" r="r" b="b"/>
                <a:pathLst>
                  <a:path w="790" h="869">
                    <a:moveTo>
                      <a:pt x="0" y="0"/>
                    </a:moveTo>
                    <a:lnTo>
                      <a:pt x="0" y="603"/>
                    </a:lnTo>
                    <a:lnTo>
                      <a:pt x="789" y="603"/>
                    </a:lnTo>
                    <a:lnTo>
                      <a:pt x="789" y="0"/>
                    </a:lnTo>
                    <a:lnTo>
                      <a:pt x="0" y="0"/>
                    </a:lnTo>
                    <a:close/>
                    <a:moveTo>
                      <a:pt x="0" y="750"/>
                    </a:moveTo>
                    <a:lnTo>
                      <a:pt x="789" y="750"/>
                    </a:lnTo>
                    <a:lnTo>
                      <a:pt x="789" y="868"/>
                    </a:lnTo>
                    <a:lnTo>
                      <a:pt x="0" y="868"/>
                    </a:lnTo>
                    <a:lnTo>
                      <a:pt x="0" y="750"/>
                    </a:lnTo>
                    <a:close/>
                  </a:path>
                </a:pathLst>
              </a:custGeom>
              <a:solidFill>
                <a:srgbClr val="ffffc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0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pic>
          <p:nvPicPr>
            <p:cNvPr id="137" name="" descr=""/>
            <p:cNvPicPr/>
            <p:nvPr/>
          </p:nvPicPr>
          <p:blipFill>
            <a:blip r:embed="rId6"/>
            <a:stretch/>
          </p:blipFill>
          <p:spPr>
            <a:xfrm>
              <a:off x="3465360" y="4048200"/>
              <a:ext cx="909720" cy="77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" name="" descr=""/>
            <p:cNvPicPr/>
            <p:nvPr/>
          </p:nvPicPr>
          <p:blipFill>
            <a:blip r:embed="rId7"/>
            <a:stretch/>
          </p:blipFill>
          <p:spPr>
            <a:xfrm>
              <a:off x="3475080" y="3753000"/>
              <a:ext cx="249120" cy="174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9" name=""/>
          <p:cNvSpPr/>
          <p:nvPr/>
        </p:nvSpPr>
        <p:spPr>
          <a:xfrm>
            <a:off x="2851200" y="1015920"/>
            <a:ext cx="197784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 Black"/>
              </a:rPr>
              <a:t>Serveur RrOoLl Bus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8040" y="3828960"/>
            <a:ext cx="1495440" cy="608040"/>
          </a:xfrm>
          <a:prstGeom prst="roundRect">
            <a:avLst>
              <a:gd name="adj" fmla="val 259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81040" y="3828960"/>
            <a:ext cx="152712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333333"/>
                </a:solidFill>
                <a:latin typeface="Arial Black"/>
              </a:rPr>
              <a:t>Site web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333333"/>
                </a:solidFill>
                <a:latin typeface="Arial Black"/>
              </a:rPr>
              <a:t>http://www.xyz.fr/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333333"/>
                </a:solidFill>
                <a:latin typeface="Arial Black"/>
              </a:rPr>
              <a:t>rrooll _bus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355760" y="4437000"/>
            <a:ext cx="511200" cy="1063800"/>
          </a:xfrm>
          <a:custGeom>
            <a:avLst/>
            <a:gdLst/>
            <a:ahLst/>
            <a:rect l="l" t="t" r="r" b="b"/>
            <a:pathLst>
              <a:path w="1421" h="2954">
                <a:moveTo>
                  <a:pt x="231" y="2953"/>
                </a:moveTo>
                <a:cubicBezTo>
                  <a:pt x="825" y="2777"/>
                  <a:pt x="1420" y="2601"/>
                  <a:pt x="1382" y="2109"/>
                </a:cubicBezTo>
                <a:cubicBezTo>
                  <a:pt x="1344" y="1617"/>
                  <a:pt x="672" y="80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598920" y="2157480"/>
            <a:ext cx="511200" cy="1519200"/>
          </a:xfrm>
          <a:custGeom>
            <a:avLst/>
            <a:gdLst/>
            <a:ahLst/>
            <a:rect l="l" t="t" r="r" b="b"/>
            <a:pathLst>
              <a:path w="1421" h="4220">
                <a:moveTo>
                  <a:pt x="0" y="4219"/>
                </a:moveTo>
                <a:cubicBezTo>
                  <a:pt x="672" y="3516"/>
                  <a:pt x="1344" y="2813"/>
                  <a:pt x="1382" y="2110"/>
                </a:cubicBezTo>
                <a:cubicBezTo>
                  <a:pt x="1420" y="1407"/>
                  <a:pt x="825" y="703"/>
                  <a:pt x="23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8"/>
          <a:stretch/>
        </p:blipFill>
        <p:spPr>
          <a:xfrm>
            <a:off x="1273320" y="5653080"/>
            <a:ext cx="822240" cy="6318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9"/>
          <a:stretch/>
        </p:blipFill>
        <p:spPr>
          <a:xfrm>
            <a:off x="1438200" y="5803920"/>
            <a:ext cx="822240" cy="63180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10"/>
          <a:stretch/>
        </p:blipFill>
        <p:spPr>
          <a:xfrm>
            <a:off x="1604880" y="5956200"/>
            <a:ext cx="822240" cy="63180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11"/>
          <a:stretch/>
        </p:blipFill>
        <p:spPr>
          <a:xfrm>
            <a:off x="1771560" y="6108840"/>
            <a:ext cx="822240" cy="63180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1355760" y="4437000"/>
            <a:ext cx="719280" cy="1214640"/>
          </a:xfrm>
          <a:custGeom>
            <a:avLst/>
            <a:gdLst/>
            <a:ahLst/>
            <a:rect l="l" t="t" r="r" b="b"/>
            <a:pathLst>
              <a:path w="1998" h="3375">
                <a:moveTo>
                  <a:pt x="922" y="3374"/>
                </a:moveTo>
                <a:cubicBezTo>
                  <a:pt x="1460" y="3023"/>
                  <a:pt x="1997" y="2671"/>
                  <a:pt x="1843" y="2108"/>
                </a:cubicBezTo>
                <a:cubicBezTo>
                  <a:pt x="1689" y="1545"/>
                  <a:pt x="844" y="773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355760" y="4437000"/>
            <a:ext cx="982800" cy="1366920"/>
          </a:xfrm>
          <a:custGeom>
            <a:avLst/>
            <a:gdLst/>
            <a:ahLst/>
            <a:rect l="l" t="t" r="r" b="b"/>
            <a:pathLst>
              <a:path w="2729" h="3797">
                <a:moveTo>
                  <a:pt x="1153" y="3796"/>
                </a:moveTo>
                <a:cubicBezTo>
                  <a:pt x="1940" y="3268"/>
                  <a:pt x="2728" y="2742"/>
                  <a:pt x="2536" y="2108"/>
                </a:cubicBezTo>
                <a:cubicBezTo>
                  <a:pt x="2344" y="1474"/>
                  <a:pt x="422" y="351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355760" y="4437000"/>
            <a:ext cx="1273320" cy="1519200"/>
          </a:xfrm>
          <a:custGeom>
            <a:avLst/>
            <a:gdLst/>
            <a:ahLst/>
            <a:rect l="l" t="t" r="r" b="b"/>
            <a:pathLst>
              <a:path w="3537" h="4220">
                <a:moveTo>
                  <a:pt x="1844" y="4219"/>
                </a:moveTo>
                <a:cubicBezTo>
                  <a:pt x="2691" y="3516"/>
                  <a:pt x="3536" y="2813"/>
                  <a:pt x="3228" y="2109"/>
                </a:cubicBezTo>
                <a:cubicBezTo>
                  <a:pt x="2920" y="1405"/>
                  <a:pt x="1461" y="703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355760" y="4437000"/>
            <a:ext cx="1549440" cy="1671840"/>
          </a:xfrm>
          <a:custGeom>
            <a:avLst/>
            <a:gdLst/>
            <a:ahLst/>
            <a:rect l="l" t="t" r="r" b="b"/>
            <a:pathLst>
              <a:path w="4306" h="4642">
                <a:moveTo>
                  <a:pt x="2306" y="4641"/>
                </a:moveTo>
                <a:cubicBezTo>
                  <a:pt x="3306" y="3762"/>
                  <a:pt x="4305" y="2882"/>
                  <a:pt x="3921" y="2109"/>
                </a:cubicBezTo>
                <a:cubicBezTo>
                  <a:pt x="3537" y="1336"/>
                  <a:pt x="1768" y="667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7754760" y="1320840"/>
            <a:ext cx="820800" cy="836640"/>
            <a:chOff x="7754760" y="1320840"/>
            <a:chExt cx="820800" cy="836640"/>
          </a:xfrm>
        </p:grpSpPr>
        <p:sp>
          <p:nvSpPr>
            <p:cNvPr id="153" name=""/>
            <p:cNvSpPr/>
            <p:nvPr/>
          </p:nvSpPr>
          <p:spPr>
            <a:xfrm>
              <a:off x="7754760" y="1320840"/>
              <a:ext cx="820800" cy="836640"/>
            </a:xfrm>
            <a:custGeom>
              <a:avLst/>
              <a:gdLst/>
              <a:ahLst/>
              <a:rect l="l" t="t" r="r" b="b"/>
              <a:pathLst>
                <a:path w="2281" h="2323">
                  <a:moveTo>
                    <a:pt x="0" y="0"/>
                  </a:moveTo>
                  <a:lnTo>
                    <a:pt x="2280" y="0"/>
                  </a:lnTo>
                  <a:lnTo>
                    <a:pt x="2280" y="2322"/>
                  </a:lnTo>
                  <a:lnTo>
                    <a:pt x="0" y="2322"/>
                  </a:lnTo>
                  <a:lnTo>
                    <a:pt x="0" y="0"/>
                  </a:lnTo>
                </a:path>
              </a:pathLst>
            </a:custGeom>
            <a:solidFill>
              <a:srgbClr val="ffff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0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754760" y="1320840"/>
              <a:ext cx="820800" cy="836640"/>
            </a:xfrm>
            <a:custGeom>
              <a:avLst/>
              <a:gdLst/>
              <a:ahLst/>
              <a:rect l="l" t="t" r="r" b="b"/>
              <a:pathLst>
                <a:path w="2281" h="2323">
                  <a:moveTo>
                    <a:pt x="174" y="183"/>
                  </a:moveTo>
                  <a:lnTo>
                    <a:pt x="953" y="183"/>
                  </a:lnTo>
                  <a:lnTo>
                    <a:pt x="953" y="250"/>
                  </a:lnTo>
                  <a:lnTo>
                    <a:pt x="174" y="250"/>
                  </a:lnTo>
                  <a:close/>
                  <a:moveTo>
                    <a:pt x="0" y="468"/>
                  </a:moveTo>
                  <a:lnTo>
                    <a:pt x="1149" y="468"/>
                  </a:lnTo>
                  <a:lnTo>
                    <a:pt x="1149" y="1520"/>
                  </a:lnTo>
                  <a:lnTo>
                    <a:pt x="2280" y="1520"/>
                  </a:lnTo>
                  <a:close/>
                  <a:moveTo>
                    <a:pt x="1226" y="134"/>
                  </a:moveTo>
                  <a:lnTo>
                    <a:pt x="2162" y="134"/>
                  </a:lnTo>
                  <a:lnTo>
                    <a:pt x="2162" y="166"/>
                  </a:lnTo>
                  <a:lnTo>
                    <a:pt x="1226" y="166"/>
                  </a:lnTo>
                  <a:close/>
                  <a:moveTo>
                    <a:pt x="1226" y="350"/>
                  </a:moveTo>
                  <a:lnTo>
                    <a:pt x="2162" y="350"/>
                  </a:lnTo>
                  <a:lnTo>
                    <a:pt x="2162" y="384"/>
                  </a:lnTo>
                  <a:lnTo>
                    <a:pt x="1226" y="384"/>
                  </a:lnTo>
                  <a:close/>
                  <a:moveTo>
                    <a:pt x="1226" y="651"/>
                  </a:moveTo>
                  <a:lnTo>
                    <a:pt x="2162" y="651"/>
                  </a:lnTo>
                  <a:lnTo>
                    <a:pt x="2162" y="684"/>
                  </a:lnTo>
                  <a:lnTo>
                    <a:pt x="1226" y="684"/>
                  </a:lnTo>
                  <a:close/>
                  <a:moveTo>
                    <a:pt x="1226" y="869"/>
                  </a:moveTo>
                  <a:lnTo>
                    <a:pt x="2142" y="869"/>
                  </a:lnTo>
                  <a:lnTo>
                    <a:pt x="2142" y="902"/>
                  </a:lnTo>
                  <a:lnTo>
                    <a:pt x="1226" y="902"/>
                  </a:lnTo>
                  <a:close/>
                  <a:moveTo>
                    <a:pt x="1226" y="451"/>
                  </a:moveTo>
                  <a:lnTo>
                    <a:pt x="1305" y="451"/>
                  </a:lnTo>
                  <a:lnTo>
                    <a:pt x="1305" y="518"/>
                  </a:lnTo>
                  <a:lnTo>
                    <a:pt x="1226" y="518"/>
                  </a:lnTo>
                  <a:close/>
                  <a:moveTo>
                    <a:pt x="1519" y="451"/>
                  </a:moveTo>
                  <a:lnTo>
                    <a:pt x="1597" y="451"/>
                  </a:lnTo>
                  <a:lnTo>
                    <a:pt x="1597" y="518"/>
                  </a:lnTo>
                  <a:lnTo>
                    <a:pt x="1519" y="518"/>
                  </a:lnTo>
                  <a:close/>
                  <a:moveTo>
                    <a:pt x="1792" y="451"/>
                  </a:moveTo>
                  <a:lnTo>
                    <a:pt x="1870" y="451"/>
                  </a:lnTo>
                  <a:lnTo>
                    <a:pt x="1870" y="518"/>
                  </a:lnTo>
                  <a:lnTo>
                    <a:pt x="1792" y="518"/>
                  </a:lnTo>
                  <a:close/>
                  <a:moveTo>
                    <a:pt x="2084" y="451"/>
                  </a:moveTo>
                  <a:lnTo>
                    <a:pt x="2162" y="451"/>
                  </a:lnTo>
                  <a:lnTo>
                    <a:pt x="2162" y="518"/>
                  </a:lnTo>
                  <a:lnTo>
                    <a:pt x="2084" y="518"/>
                  </a:lnTo>
                  <a:close/>
                  <a:moveTo>
                    <a:pt x="1226" y="1035"/>
                  </a:moveTo>
                  <a:lnTo>
                    <a:pt x="1305" y="1035"/>
                  </a:lnTo>
                  <a:lnTo>
                    <a:pt x="1305" y="1102"/>
                  </a:lnTo>
                  <a:lnTo>
                    <a:pt x="1226" y="1102"/>
                  </a:lnTo>
                  <a:close/>
                  <a:moveTo>
                    <a:pt x="1519" y="1035"/>
                  </a:moveTo>
                  <a:lnTo>
                    <a:pt x="1597" y="1035"/>
                  </a:lnTo>
                  <a:lnTo>
                    <a:pt x="1597" y="1102"/>
                  </a:lnTo>
                  <a:lnTo>
                    <a:pt x="1519" y="1102"/>
                  </a:lnTo>
                  <a:close/>
                  <a:moveTo>
                    <a:pt x="1792" y="1035"/>
                  </a:moveTo>
                  <a:lnTo>
                    <a:pt x="1870" y="1035"/>
                  </a:lnTo>
                  <a:lnTo>
                    <a:pt x="1870" y="1102"/>
                  </a:lnTo>
                  <a:lnTo>
                    <a:pt x="1792" y="1102"/>
                  </a:lnTo>
                  <a:close/>
                  <a:moveTo>
                    <a:pt x="2084" y="1035"/>
                  </a:moveTo>
                  <a:lnTo>
                    <a:pt x="2162" y="1035"/>
                  </a:lnTo>
                  <a:lnTo>
                    <a:pt x="2162" y="1102"/>
                  </a:lnTo>
                  <a:lnTo>
                    <a:pt x="2084" y="1102"/>
                  </a:lnTo>
                  <a:close/>
                  <a:moveTo>
                    <a:pt x="1149" y="1520"/>
                  </a:moveTo>
                  <a:lnTo>
                    <a:pt x="1149" y="1654"/>
                  </a:lnTo>
                  <a:lnTo>
                    <a:pt x="1149" y="2155"/>
                  </a:lnTo>
                  <a:lnTo>
                    <a:pt x="1149" y="2322"/>
                  </a:lnTo>
                  <a:close/>
                  <a:moveTo>
                    <a:pt x="1149" y="468"/>
                  </a:moveTo>
                  <a:lnTo>
                    <a:pt x="1149" y="384"/>
                  </a:lnTo>
                  <a:lnTo>
                    <a:pt x="1149" y="100"/>
                  </a:lnTo>
                  <a:lnTo>
                    <a:pt x="1149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0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155" name=""/>
          <p:cNvSpPr/>
          <p:nvPr/>
        </p:nvSpPr>
        <p:spPr>
          <a:xfrm>
            <a:off x="6991200" y="987480"/>
            <a:ext cx="272448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 Black"/>
              </a:rPr>
              <a:t>Modem DARC – (high speed RDS)</a:t>
            </a:r>
            <a:r>
              <a:rPr b="0" lang="en-GB" sz="1200" spc="-1" strike="noStrike">
                <a:solidFill>
                  <a:srgbClr val="333333"/>
                </a:solidFill>
                <a:latin typeface="Arial Black"/>
              </a:rPr>
              <a:t>‏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7586640" y="1549440"/>
            <a:ext cx="169920" cy="14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H="1" flipV="1">
            <a:off x="7502400" y="1471680"/>
            <a:ext cx="85680" cy="792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7419600" y="1473120"/>
            <a:ext cx="87480" cy="7632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H="1" flipV="1">
            <a:off x="7335360" y="1471680"/>
            <a:ext cx="87480" cy="792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7253280" y="1473120"/>
            <a:ext cx="85680" cy="7632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 flipV="1">
            <a:off x="7170840" y="1471680"/>
            <a:ext cx="87120" cy="792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7086240" y="1473120"/>
            <a:ext cx="87480" cy="7632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 flipV="1">
            <a:off x="7004160" y="1471680"/>
            <a:ext cx="85680" cy="792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6921000" y="1473120"/>
            <a:ext cx="87480" cy="7632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5259240" y="1549440"/>
            <a:ext cx="1665360" cy="14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8999280" y="2765520"/>
            <a:ext cx="252360" cy="128268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9250200" y="2755800"/>
            <a:ext cx="405000" cy="12924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9042480" y="3665520"/>
            <a:ext cx="488880" cy="18432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H="1" flipV="1">
            <a:off x="9091440" y="3541320"/>
            <a:ext cx="439920" cy="12708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9094680" y="3379320"/>
            <a:ext cx="343080" cy="1652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H="1" flipV="1">
            <a:off x="9154800" y="3265560"/>
            <a:ext cx="284040" cy="11736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9166320" y="3171600"/>
            <a:ext cx="196920" cy="8892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H="1" flipV="1">
            <a:off x="9185040" y="3095640"/>
            <a:ext cx="169560" cy="792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9186840" y="3009600"/>
            <a:ext cx="135000" cy="9828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 flipV="1">
            <a:off x="9205920" y="2971440"/>
            <a:ext cx="117360" cy="414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9042480" y="3838680"/>
            <a:ext cx="550800" cy="14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8502480" y="2816280"/>
            <a:ext cx="498600" cy="433440"/>
          </a:xfrm>
          <a:custGeom>
            <a:avLst/>
            <a:gdLst/>
            <a:ahLst/>
            <a:rect l="l" t="t" r="r" b="b"/>
            <a:pathLst>
              <a:path w="1386" h="1206">
                <a:moveTo>
                  <a:pt x="0" y="0"/>
                </a:moveTo>
                <a:lnTo>
                  <a:pt x="2" y="63"/>
                </a:lnTo>
                <a:lnTo>
                  <a:pt x="8" y="126"/>
                </a:lnTo>
                <a:lnTo>
                  <a:pt x="17" y="189"/>
                </a:lnTo>
                <a:lnTo>
                  <a:pt x="30" y="251"/>
                </a:lnTo>
                <a:lnTo>
                  <a:pt x="47" y="312"/>
                </a:lnTo>
                <a:lnTo>
                  <a:pt x="68" y="372"/>
                </a:lnTo>
                <a:lnTo>
                  <a:pt x="92" y="432"/>
                </a:lnTo>
                <a:lnTo>
                  <a:pt x="120" y="490"/>
                </a:lnTo>
                <a:lnTo>
                  <a:pt x="151" y="547"/>
                </a:lnTo>
                <a:lnTo>
                  <a:pt x="186" y="602"/>
                </a:lnTo>
                <a:lnTo>
                  <a:pt x="223" y="656"/>
                </a:lnTo>
                <a:lnTo>
                  <a:pt x="265" y="708"/>
                </a:lnTo>
                <a:lnTo>
                  <a:pt x="309" y="758"/>
                </a:lnTo>
                <a:lnTo>
                  <a:pt x="356" y="806"/>
                </a:lnTo>
                <a:lnTo>
                  <a:pt x="406" y="852"/>
                </a:lnTo>
                <a:lnTo>
                  <a:pt x="458" y="895"/>
                </a:lnTo>
                <a:lnTo>
                  <a:pt x="513" y="936"/>
                </a:lnTo>
                <a:lnTo>
                  <a:pt x="571" y="975"/>
                </a:lnTo>
                <a:lnTo>
                  <a:pt x="631" y="1011"/>
                </a:lnTo>
                <a:lnTo>
                  <a:pt x="692" y="1044"/>
                </a:lnTo>
                <a:lnTo>
                  <a:pt x="756" y="1074"/>
                </a:lnTo>
                <a:lnTo>
                  <a:pt x="822" y="1101"/>
                </a:lnTo>
                <a:lnTo>
                  <a:pt x="889" y="1125"/>
                </a:lnTo>
                <a:lnTo>
                  <a:pt x="957" y="1146"/>
                </a:lnTo>
                <a:lnTo>
                  <a:pt x="1027" y="1164"/>
                </a:lnTo>
                <a:lnTo>
                  <a:pt x="1097" y="1179"/>
                </a:lnTo>
                <a:lnTo>
                  <a:pt x="1168" y="1190"/>
                </a:lnTo>
                <a:lnTo>
                  <a:pt x="1240" y="1198"/>
                </a:lnTo>
                <a:lnTo>
                  <a:pt x="1313" y="1203"/>
                </a:lnTo>
                <a:lnTo>
                  <a:pt x="1385" y="1205"/>
                </a:ln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8253360" y="2832120"/>
            <a:ext cx="739800" cy="608040"/>
          </a:xfrm>
          <a:custGeom>
            <a:avLst/>
            <a:gdLst/>
            <a:ahLst/>
            <a:rect l="l" t="t" r="r" b="b"/>
            <a:pathLst>
              <a:path w="2056" h="1689">
                <a:moveTo>
                  <a:pt x="0" y="0"/>
                </a:moveTo>
                <a:lnTo>
                  <a:pt x="3" y="88"/>
                </a:lnTo>
                <a:lnTo>
                  <a:pt x="11" y="175"/>
                </a:lnTo>
                <a:lnTo>
                  <a:pt x="25" y="262"/>
                </a:lnTo>
                <a:lnTo>
                  <a:pt x="45" y="349"/>
                </a:lnTo>
                <a:lnTo>
                  <a:pt x="70" y="434"/>
                </a:lnTo>
                <a:lnTo>
                  <a:pt x="100" y="518"/>
                </a:lnTo>
                <a:lnTo>
                  <a:pt x="136" y="601"/>
                </a:lnTo>
                <a:lnTo>
                  <a:pt x="177" y="682"/>
                </a:lnTo>
                <a:lnTo>
                  <a:pt x="223" y="762"/>
                </a:lnTo>
                <a:lnTo>
                  <a:pt x="275" y="839"/>
                </a:lnTo>
                <a:lnTo>
                  <a:pt x="331" y="914"/>
                </a:lnTo>
                <a:lnTo>
                  <a:pt x="392" y="987"/>
                </a:lnTo>
                <a:lnTo>
                  <a:pt x="457" y="1057"/>
                </a:lnTo>
                <a:lnTo>
                  <a:pt x="527" y="1124"/>
                </a:lnTo>
                <a:lnTo>
                  <a:pt x="601" y="1188"/>
                </a:lnTo>
                <a:lnTo>
                  <a:pt x="679" y="1248"/>
                </a:lnTo>
                <a:lnTo>
                  <a:pt x="760" y="1306"/>
                </a:lnTo>
                <a:lnTo>
                  <a:pt x="846" y="1360"/>
                </a:lnTo>
                <a:lnTo>
                  <a:pt x="934" y="1410"/>
                </a:lnTo>
                <a:lnTo>
                  <a:pt x="1026" y="1456"/>
                </a:lnTo>
                <a:lnTo>
                  <a:pt x="1121" y="1499"/>
                </a:lnTo>
                <a:lnTo>
                  <a:pt x="1218" y="1537"/>
                </a:lnTo>
                <a:lnTo>
                  <a:pt x="1317" y="1571"/>
                </a:lnTo>
                <a:lnTo>
                  <a:pt x="1419" y="1601"/>
                </a:lnTo>
                <a:lnTo>
                  <a:pt x="1522" y="1627"/>
                </a:lnTo>
                <a:lnTo>
                  <a:pt x="1627" y="1648"/>
                </a:lnTo>
                <a:lnTo>
                  <a:pt x="1733" y="1665"/>
                </a:lnTo>
                <a:lnTo>
                  <a:pt x="1840" y="1677"/>
                </a:lnTo>
                <a:lnTo>
                  <a:pt x="1947" y="1685"/>
                </a:lnTo>
                <a:lnTo>
                  <a:pt x="2055" y="1688"/>
                </a:lnTo>
              </a:path>
            </a:pathLst>
          </a:custGeom>
          <a:noFill/>
          <a:ln w="93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8004240" y="2832120"/>
            <a:ext cx="996840" cy="826920"/>
          </a:xfrm>
          <a:custGeom>
            <a:avLst/>
            <a:gdLst/>
            <a:ahLst/>
            <a:rect l="l" t="t" r="r" b="b"/>
            <a:pathLst>
              <a:path w="2771" h="2297">
                <a:moveTo>
                  <a:pt x="0" y="0"/>
                </a:moveTo>
                <a:lnTo>
                  <a:pt x="4" y="120"/>
                </a:lnTo>
                <a:lnTo>
                  <a:pt x="15" y="240"/>
                </a:lnTo>
                <a:lnTo>
                  <a:pt x="34" y="359"/>
                </a:lnTo>
                <a:lnTo>
                  <a:pt x="61" y="477"/>
                </a:lnTo>
                <a:lnTo>
                  <a:pt x="94" y="594"/>
                </a:lnTo>
                <a:lnTo>
                  <a:pt x="136" y="710"/>
                </a:lnTo>
                <a:lnTo>
                  <a:pt x="184" y="823"/>
                </a:lnTo>
                <a:lnTo>
                  <a:pt x="239" y="934"/>
                </a:lnTo>
                <a:lnTo>
                  <a:pt x="302" y="1042"/>
                </a:lnTo>
                <a:lnTo>
                  <a:pt x="371" y="1148"/>
                </a:lnTo>
                <a:lnTo>
                  <a:pt x="447" y="1250"/>
                </a:lnTo>
                <a:lnTo>
                  <a:pt x="529" y="1350"/>
                </a:lnTo>
                <a:lnTo>
                  <a:pt x="617" y="1445"/>
                </a:lnTo>
                <a:lnTo>
                  <a:pt x="711" y="1536"/>
                </a:lnTo>
                <a:lnTo>
                  <a:pt x="811" y="1624"/>
                </a:lnTo>
                <a:lnTo>
                  <a:pt x="917" y="1706"/>
                </a:lnTo>
                <a:lnTo>
                  <a:pt x="1027" y="1784"/>
                </a:lnTo>
                <a:lnTo>
                  <a:pt x="1142" y="1858"/>
                </a:lnTo>
                <a:lnTo>
                  <a:pt x="1261" y="1926"/>
                </a:lnTo>
                <a:lnTo>
                  <a:pt x="1385" y="1988"/>
                </a:lnTo>
                <a:lnTo>
                  <a:pt x="1512" y="2046"/>
                </a:lnTo>
                <a:lnTo>
                  <a:pt x="1643" y="2098"/>
                </a:lnTo>
                <a:lnTo>
                  <a:pt x="1777" y="2144"/>
                </a:lnTo>
                <a:lnTo>
                  <a:pt x="1914" y="2184"/>
                </a:lnTo>
                <a:lnTo>
                  <a:pt x="2053" y="2218"/>
                </a:lnTo>
                <a:lnTo>
                  <a:pt x="2194" y="2246"/>
                </a:lnTo>
                <a:lnTo>
                  <a:pt x="2337" y="2268"/>
                </a:lnTo>
                <a:lnTo>
                  <a:pt x="2480" y="2283"/>
                </a:lnTo>
                <a:lnTo>
                  <a:pt x="2625" y="2293"/>
                </a:lnTo>
                <a:lnTo>
                  <a:pt x="2770" y="2296"/>
                </a:lnTo>
              </a:path>
            </a:pathLst>
          </a:custGeom>
          <a:noFill/>
          <a:ln w="93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672320" y="2832120"/>
            <a:ext cx="1316160" cy="1063440"/>
          </a:xfrm>
          <a:custGeom>
            <a:avLst/>
            <a:gdLst/>
            <a:ahLst/>
            <a:rect l="l" t="t" r="r" b="b"/>
            <a:pathLst>
              <a:path w="3656" h="2955">
                <a:moveTo>
                  <a:pt x="0" y="0"/>
                </a:moveTo>
                <a:lnTo>
                  <a:pt x="5" y="154"/>
                </a:lnTo>
                <a:lnTo>
                  <a:pt x="20" y="307"/>
                </a:lnTo>
                <a:lnTo>
                  <a:pt x="45" y="459"/>
                </a:lnTo>
                <a:lnTo>
                  <a:pt x="80" y="610"/>
                </a:lnTo>
                <a:lnTo>
                  <a:pt x="124" y="760"/>
                </a:lnTo>
                <a:lnTo>
                  <a:pt x="178" y="907"/>
                </a:lnTo>
                <a:lnTo>
                  <a:pt x="242" y="1052"/>
                </a:lnTo>
                <a:lnTo>
                  <a:pt x="315" y="1194"/>
                </a:lnTo>
                <a:lnTo>
                  <a:pt x="397" y="1333"/>
                </a:lnTo>
                <a:lnTo>
                  <a:pt x="488" y="1468"/>
                </a:lnTo>
                <a:lnTo>
                  <a:pt x="588" y="1600"/>
                </a:lnTo>
                <a:lnTo>
                  <a:pt x="696" y="1727"/>
                </a:lnTo>
                <a:lnTo>
                  <a:pt x="813" y="1849"/>
                </a:lnTo>
                <a:lnTo>
                  <a:pt x="937" y="1966"/>
                </a:lnTo>
                <a:lnTo>
                  <a:pt x="1068" y="2078"/>
                </a:lnTo>
                <a:lnTo>
                  <a:pt x="1207" y="2185"/>
                </a:lnTo>
                <a:lnTo>
                  <a:pt x="1352" y="2285"/>
                </a:lnTo>
                <a:lnTo>
                  <a:pt x="1504" y="2379"/>
                </a:lnTo>
                <a:lnTo>
                  <a:pt x="1662" y="2467"/>
                </a:lnTo>
                <a:lnTo>
                  <a:pt x="1825" y="2548"/>
                </a:lnTo>
                <a:lnTo>
                  <a:pt x="1993" y="2623"/>
                </a:lnTo>
                <a:lnTo>
                  <a:pt x="2166" y="2690"/>
                </a:lnTo>
                <a:lnTo>
                  <a:pt x="2343" y="2750"/>
                </a:lnTo>
                <a:lnTo>
                  <a:pt x="2523" y="2802"/>
                </a:lnTo>
                <a:lnTo>
                  <a:pt x="2707" y="2847"/>
                </a:lnTo>
                <a:lnTo>
                  <a:pt x="2893" y="2884"/>
                </a:lnTo>
                <a:lnTo>
                  <a:pt x="3082" y="2913"/>
                </a:lnTo>
                <a:lnTo>
                  <a:pt x="3272" y="2935"/>
                </a:lnTo>
                <a:lnTo>
                  <a:pt x="3463" y="2948"/>
                </a:lnTo>
                <a:lnTo>
                  <a:pt x="3655" y="2954"/>
                </a:ln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224840" y="2286000"/>
            <a:ext cx="270324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333333"/>
                </a:solidFill>
                <a:latin typeface="Arial"/>
              </a:rPr>
              <a:t>Radio Cool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333333"/>
                </a:solidFill>
                <a:latin typeface="Arial"/>
              </a:rPr>
              <a:t>(+RrOoLl Bus sur DARC)</a:t>
            </a:r>
            <a:r>
              <a:rPr b="1" lang="en-GB" sz="1600" spc="-1" strike="noStrike">
                <a:solidFill>
                  <a:srgbClr val="333333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2"/>
          <a:stretch/>
        </p:blipFill>
        <p:spPr>
          <a:xfrm>
            <a:off x="6507000" y="4892760"/>
            <a:ext cx="2732400" cy="187488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6881760" y="5452920"/>
            <a:ext cx="333360" cy="22860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3"/>
          <a:stretch/>
        </p:blipFill>
        <p:spPr>
          <a:xfrm>
            <a:off x="6923160" y="5500800"/>
            <a:ext cx="249120" cy="14580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8626320" y="5300640"/>
            <a:ext cx="333360" cy="22860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4"/>
          <a:stretch/>
        </p:blipFill>
        <p:spPr>
          <a:xfrm>
            <a:off x="8667720" y="5348160"/>
            <a:ext cx="249120" cy="14616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5384880" y="3981600"/>
            <a:ext cx="2897280" cy="5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 Black"/>
              </a:rPr>
              <a:t>Bus équipés d’écrans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 Black"/>
              </a:rPr>
              <a:t>LCD affichant RrOoLl Bus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5"/>
          <a:stretch/>
        </p:blipFill>
        <p:spPr>
          <a:xfrm>
            <a:off x="5535720" y="4768920"/>
            <a:ext cx="555480" cy="32688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7823160" y="4665600"/>
            <a:ext cx="95400" cy="379440"/>
          </a:xfrm>
          <a:custGeom>
            <a:avLst/>
            <a:gdLst/>
            <a:ahLst/>
            <a:rect l="l" t="t" r="r" b="b"/>
            <a:pathLst>
              <a:path w="266" h="1053">
                <a:moveTo>
                  <a:pt x="37" y="1052"/>
                </a:moveTo>
                <a:cubicBezTo>
                  <a:pt x="19" y="824"/>
                  <a:pt x="0" y="596"/>
                  <a:pt x="37" y="421"/>
                </a:cubicBezTo>
                <a:cubicBezTo>
                  <a:pt x="74" y="246"/>
                  <a:pt x="227" y="70"/>
                  <a:pt x="265" y="0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091200" y="4513320"/>
            <a:ext cx="95400" cy="379440"/>
          </a:xfrm>
          <a:custGeom>
            <a:avLst/>
            <a:gdLst/>
            <a:ahLst/>
            <a:rect l="l" t="t" r="r" b="b"/>
            <a:pathLst>
              <a:path w="266" h="1052">
                <a:moveTo>
                  <a:pt x="37" y="1051"/>
                </a:moveTo>
                <a:cubicBezTo>
                  <a:pt x="19" y="824"/>
                  <a:pt x="0" y="595"/>
                  <a:pt x="37" y="420"/>
                </a:cubicBezTo>
                <a:cubicBezTo>
                  <a:pt x="74" y="245"/>
                  <a:pt x="227" y="70"/>
                  <a:pt x="265" y="0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6"/>
          <a:stretch/>
        </p:blipFill>
        <p:spPr>
          <a:xfrm>
            <a:off x="7364520" y="4950000"/>
            <a:ext cx="555480" cy="32688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6008760" y="4892760"/>
            <a:ext cx="206280" cy="74520"/>
          </a:xfrm>
          <a:custGeom>
            <a:avLst/>
            <a:gdLst/>
            <a:ahLst/>
            <a:rect l="l" t="t" r="r" b="b"/>
            <a:pathLst>
              <a:path w="574" h="208">
                <a:moveTo>
                  <a:pt x="0" y="104"/>
                </a:moveTo>
                <a:cubicBezTo>
                  <a:pt x="416" y="130"/>
                  <a:pt x="310" y="130"/>
                  <a:pt x="573" y="207"/>
                </a:cubicBezTo>
                <a:cubicBezTo>
                  <a:pt x="535" y="30"/>
                  <a:pt x="482" y="0"/>
                  <a:pt x="286" y="0"/>
                </a:cubicBezTo>
                <a:cubicBezTo>
                  <a:pt x="286" y="0"/>
                  <a:pt x="286" y="0"/>
                  <a:pt x="0" y="104"/>
                </a:cubicBez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457960" y="5102280"/>
            <a:ext cx="209520" cy="264960"/>
          </a:xfrm>
          <a:custGeom>
            <a:avLst/>
            <a:gdLst/>
            <a:ahLst/>
            <a:rect l="l" t="t" r="r" b="b"/>
            <a:pathLst>
              <a:path w="584" h="736">
                <a:moveTo>
                  <a:pt x="286" y="0"/>
                </a:moveTo>
                <a:cubicBezTo>
                  <a:pt x="119" y="39"/>
                  <a:pt x="57" y="52"/>
                  <a:pt x="0" y="209"/>
                </a:cubicBezTo>
                <a:cubicBezTo>
                  <a:pt x="124" y="249"/>
                  <a:pt x="248" y="275"/>
                  <a:pt x="372" y="315"/>
                </a:cubicBezTo>
                <a:cubicBezTo>
                  <a:pt x="402" y="323"/>
                  <a:pt x="458" y="341"/>
                  <a:pt x="458" y="341"/>
                </a:cubicBezTo>
                <a:cubicBezTo>
                  <a:pt x="583" y="512"/>
                  <a:pt x="583" y="735"/>
                  <a:pt x="286" y="735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837560" y="5003640"/>
            <a:ext cx="155520" cy="123840"/>
          </a:xfrm>
          <a:custGeom>
            <a:avLst/>
            <a:gdLst/>
            <a:ahLst/>
            <a:rect l="l" t="t" r="r" b="b"/>
            <a:pathLst>
              <a:path w="430" h="345">
                <a:moveTo>
                  <a:pt x="85" y="344"/>
                </a:moveTo>
                <a:cubicBezTo>
                  <a:pt x="220" y="305"/>
                  <a:pt x="314" y="283"/>
                  <a:pt x="429" y="213"/>
                </a:cubicBezTo>
                <a:cubicBezTo>
                  <a:pt x="353" y="0"/>
                  <a:pt x="258" y="56"/>
                  <a:pt x="0" y="5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213680" y="5273640"/>
            <a:ext cx="206280" cy="341280"/>
          </a:xfrm>
          <a:custGeom>
            <a:avLst/>
            <a:gdLst/>
            <a:ahLst/>
            <a:rect l="l" t="t" r="r" b="b"/>
            <a:pathLst>
              <a:path w="574" h="946">
                <a:moveTo>
                  <a:pt x="573" y="0"/>
                </a:moveTo>
                <a:cubicBezTo>
                  <a:pt x="545" y="8"/>
                  <a:pt x="516" y="17"/>
                  <a:pt x="487" y="26"/>
                </a:cubicBezTo>
                <a:cubicBezTo>
                  <a:pt x="449" y="35"/>
                  <a:pt x="410" y="43"/>
                  <a:pt x="372" y="52"/>
                </a:cubicBezTo>
                <a:cubicBezTo>
                  <a:pt x="316" y="70"/>
                  <a:pt x="200" y="105"/>
                  <a:pt x="200" y="105"/>
                </a:cubicBezTo>
                <a:cubicBezTo>
                  <a:pt x="43" y="319"/>
                  <a:pt x="316" y="416"/>
                  <a:pt x="430" y="577"/>
                </a:cubicBezTo>
                <a:cubicBezTo>
                  <a:pt x="420" y="639"/>
                  <a:pt x="425" y="705"/>
                  <a:pt x="401" y="762"/>
                </a:cubicBezTo>
                <a:cubicBezTo>
                  <a:pt x="348" y="885"/>
                  <a:pt x="124" y="945"/>
                  <a:pt x="0" y="945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483320" y="5292720"/>
            <a:ext cx="1141560" cy="352440"/>
          </a:xfrm>
          <a:custGeom>
            <a:avLst/>
            <a:gdLst/>
            <a:ahLst/>
            <a:rect l="l" t="t" r="r" b="b"/>
            <a:pathLst>
              <a:path w="3170" h="977">
                <a:moveTo>
                  <a:pt x="0" y="0"/>
                </a:moveTo>
                <a:cubicBezTo>
                  <a:pt x="9" y="39"/>
                  <a:pt x="67" y="253"/>
                  <a:pt x="87" y="262"/>
                </a:cubicBezTo>
                <a:cubicBezTo>
                  <a:pt x="470" y="438"/>
                  <a:pt x="798" y="381"/>
                  <a:pt x="1268" y="394"/>
                </a:cubicBezTo>
                <a:cubicBezTo>
                  <a:pt x="1393" y="564"/>
                  <a:pt x="1354" y="762"/>
                  <a:pt x="1585" y="867"/>
                </a:cubicBezTo>
                <a:cubicBezTo>
                  <a:pt x="1681" y="911"/>
                  <a:pt x="1796" y="920"/>
                  <a:pt x="1901" y="945"/>
                </a:cubicBezTo>
                <a:cubicBezTo>
                  <a:pt x="1940" y="954"/>
                  <a:pt x="2017" y="972"/>
                  <a:pt x="2017" y="972"/>
                </a:cubicBezTo>
                <a:cubicBezTo>
                  <a:pt x="2228" y="963"/>
                  <a:pt x="2440" y="976"/>
                  <a:pt x="2650" y="945"/>
                </a:cubicBezTo>
                <a:cubicBezTo>
                  <a:pt x="2780" y="928"/>
                  <a:pt x="2910" y="709"/>
                  <a:pt x="2997" y="630"/>
                </a:cubicBezTo>
                <a:cubicBezTo>
                  <a:pt x="3026" y="551"/>
                  <a:pt x="3054" y="394"/>
                  <a:pt x="3169" y="394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670880" y="3510000"/>
            <a:ext cx="498240" cy="433440"/>
          </a:xfrm>
          <a:custGeom>
            <a:avLst/>
            <a:gdLst/>
            <a:ahLst/>
            <a:rect l="l" t="t" r="r" b="b"/>
            <a:pathLst>
              <a:path w="1386" h="1206">
                <a:moveTo>
                  <a:pt x="0" y="0"/>
                </a:moveTo>
                <a:lnTo>
                  <a:pt x="2" y="63"/>
                </a:lnTo>
                <a:lnTo>
                  <a:pt x="8" y="126"/>
                </a:lnTo>
                <a:lnTo>
                  <a:pt x="17" y="189"/>
                </a:lnTo>
                <a:lnTo>
                  <a:pt x="30" y="251"/>
                </a:lnTo>
                <a:lnTo>
                  <a:pt x="47" y="312"/>
                </a:lnTo>
                <a:lnTo>
                  <a:pt x="68" y="372"/>
                </a:lnTo>
                <a:lnTo>
                  <a:pt x="92" y="432"/>
                </a:lnTo>
                <a:lnTo>
                  <a:pt x="120" y="490"/>
                </a:lnTo>
                <a:lnTo>
                  <a:pt x="151" y="547"/>
                </a:lnTo>
                <a:lnTo>
                  <a:pt x="186" y="602"/>
                </a:lnTo>
                <a:lnTo>
                  <a:pt x="223" y="656"/>
                </a:lnTo>
                <a:lnTo>
                  <a:pt x="265" y="708"/>
                </a:lnTo>
                <a:lnTo>
                  <a:pt x="309" y="758"/>
                </a:lnTo>
                <a:lnTo>
                  <a:pt x="356" y="806"/>
                </a:lnTo>
                <a:lnTo>
                  <a:pt x="406" y="852"/>
                </a:lnTo>
                <a:lnTo>
                  <a:pt x="458" y="895"/>
                </a:lnTo>
                <a:lnTo>
                  <a:pt x="513" y="936"/>
                </a:lnTo>
                <a:lnTo>
                  <a:pt x="571" y="975"/>
                </a:lnTo>
                <a:lnTo>
                  <a:pt x="631" y="1011"/>
                </a:lnTo>
                <a:lnTo>
                  <a:pt x="692" y="1044"/>
                </a:lnTo>
                <a:lnTo>
                  <a:pt x="756" y="1074"/>
                </a:lnTo>
                <a:lnTo>
                  <a:pt x="822" y="1101"/>
                </a:lnTo>
                <a:lnTo>
                  <a:pt x="889" y="1125"/>
                </a:lnTo>
                <a:lnTo>
                  <a:pt x="957" y="1146"/>
                </a:lnTo>
                <a:lnTo>
                  <a:pt x="1027" y="1164"/>
                </a:lnTo>
                <a:lnTo>
                  <a:pt x="1097" y="1179"/>
                </a:lnTo>
                <a:lnTo>
                  <a:pt x="1168" y="1190"/>
                </a:lnTo>
                <a:lnTo>
                  <a:pt x="1240" y="1198"/>
                </a:lnTo>
                <a:lnTo>
                  <a:pt x="1313" y="1203"/>
                </a:lnTo>
                <a:lnTo>
                  <a:pt x="1385" y="1205"/>
                </a:lnTo>
              </a:path>
            </a:pathLst>
          </a:custGeom>
          <a:noFill/>
          <a:ln w="93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423200" y="3524400"/>
            <a:ext cx="739800" cy="608040"/>
          </a:xfrm>
          <a:custGeom>
            <a:avLst/>
            <a:gdLst/>
            <a:ahLst/>
            <a:rect l="l" t="t" r="r" b="b"/>
            <a:pathLst>
              <a:path w="2056" h="1691">
                <a:moveTo>
                  <a:pt x="0" y="0"/>
                </a:moveTo>
                <a:lnTo>
                  <a:pt x="3" y="88"/>
                </a:lnTo>
                <a:lnTo>
                  <a:pt x="11" y="176"/>
                </a:lnTo>
                <a:lnTo>
                  <a:pt x="25" y="263"/>
                </a:lnTo>
                <a:lnTo>
                  <a:pt x="45" y="349"/>
                </a:lnTo>
                <a:lnTo>
                  <a:pt x="70" y="435"/>
                </a:lnTo>
                <a:lnTo>
                  <a:pt x="100" y="519"/>
                </a:lnTo>
                <a:lnTo>
                  <a:pt x="136" y="602"/>
                </a:lnTo>
                <a:lnTo>
                  <a:pt x="177" y="683"/>
                </a:lnTo>
                <a:lnTo>
                  <a:pt x="223" y="763"/>
                </a:lnTo>
                <a:lnTo>
                  <a:pt x="275" y="840"/>
                </a:lnTo>
                <a:lnTo>
                  <a:pt x="331" y="915"/>
                </a:lnTo>
                <a:lnTo>
                  <a:pt x="392" y="988"/>
                </a:lnTo>
                <a:lnTo>
                  <a:pt x="457" y="1058"/>
                </a:lnTo>
                <a:lnTo>
                  <a:pt x="527" y="1125"/>
                </a:lnTo>
                <a:lnTo>
                  <a:pt x="601" y="1189"/>
                </a:lnTo>
                <a:lnTo>
                  <a:pt x="679" y="1250"/>
                </a:lnTo>
                <a:lnTo>
                  <a:pt x="760" y="1307"/>
                </a:lnTo>
                <a:lnTo>
                  <a:pt x="846" y="1361"/>
                </a:lnTo>
                <a:lnTo>
                  <a:pt x="934" y="1411"/>
                </a:lnTo>
                <a:lnTo>
                  <a:pt x="1026" y="1458"/>
                </a:lnTo>
                <a:lnTo>
                  <a:pt x="1121" y="1500"/>
                </a:lnTo>
                <a:lnTo>
                  <a:pt x="1218" y="1539"/>
                </a:lnTo>
                <a:lnTo>
                  <a:pt x="1317" y="1573"/>
                </a:lnTo>
                <a:lnTo>
                  <a:pt x="1419" y="1603"/>
                </a:lnTo>
                <a:lnTo>
                  <a:pt x="1522" y="1629"/>
                </a:lnTo>
                <a:lnTo>
                  <a:pt x="1627" y="1650"/>
                </a:lnTo>
                <a:lnTo>
                  <a:pt x="1733" y="1667"/>
                </a:lnTo>
                <a:lnTo>
                  <a:pt x="1840" y="1679"/>
                </a:lnTo>
                <a:lnTo>
                  <a:pt x="1947" y="1687"/>
                </a:lnTo>
                <a:lnTo>
                  <a:pt x="2055" y="1690"/>
                </a:lnTo>
              </a:path>
            </a:pathLst>
          </a:custGeom>
          <a:noFill/>
          <a:ln w="93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172280" y="3524400"/>
            <a:ext cx="996840" cy="826920"/>
          </a:xfrm>
          <a:custGeom>
            <a:avLst/>
            <a:gdLst/>
            <a:ahLst/>
            <a:rect l="l" t="t" r="r" b="b"/>
            <a:pathLst>
              <a:path w="2771" h="2297">
                <a:moveTo>
                  <a:pt x="0" y="0"/>
                </a:moveTo>
                <a:lnTo>
                  <a:pt x="4" y="120"/>
                </a:lnTo>
                <a:lnTo>
                  <a:pt x="15" y="240"/>
                </a:lnTo>
                <a:lnTo>
                  <a:pt x="34" y="359"/>
                </a:lnTo>
                <a:lnTo>
                  <a:pt x="61" y="477"/>
                </a:lnTo>
                <a:lnTo>
                  <a:pt x="94" y="594"/>
                </a:lnTo>
                <a:lnTo>
                  <a:pt x="136" y="710"/>
                </a:lnTo>
                <a:lnTo>
                  <a:pt x="184" y="823"/>
                </a:lnTo>
                <a:lnTo>
                  <a:pt x="239" y="934"/>
                </a:lnTo>
                <a:lnTo>
                  <a:pt x="302" y="1042"/>
                </a:lnTo>
                <a:lnTo>
                  <a:pt x="371" y="1148"/>
                </a:lnTo>
                <a:lnTo>
                  <a:pt x="447" y="1250"/>
                </a:lnTo>
                <a:lnTo>
                  <a:pt x="529" y="1350"/>
                </a:lnTo>
                <a:lnTo>
                  <a:pt x="617" y="1445"/>
                </a:lnTo>
                <a:lnTo>
                  <a:pt x="711" y="1536"/>
                </a:lnTo>
                <a:lnTo>
                  <a:pt x="811" y="1624"/>
                </a:lnTo>
                <a:lnTo>
                  <a:pt x="917" y="1706"/>
                </a:lnTo>
                <a:lnTo>
                  <a:pt x="1027" y="1784"/>
                </a:lnTo>
                <a:lnTo>
                  <a:pt x="1142" y="1858"/>
                </a:lnTo>
                <a:lnTo>
                  <a:pt x="1261" y="1926"/>
                </a:lnTo>
                <a:lnTo>
                  <a:pt x="1385" y="1988"/>
                </a:lnTo>
                <a:lnTo>
                  <a:pt x="1512" y="2046"/>
                </a:lnTo>
                <a:lnTo>
                  <a:pt x="1643" y="2098"/>
                </a:lnTo>
                <a:lnTo>
                  <a:pt x="1777" y="2144"/>
                </a:lnTo>
                <a:lnTo>
                  <a:pt x="1914" y="2184"/>
                </a:lnTo>
                <a:lnTo>
                  <a:pt x="2053" y="2218"/>
                </a:lnTo>
                <a:lnTo>
                  <a:pt x="2194" y="2246"/>
                </a:lnTo>
                <a:lnTo>
                  <a:pt x="2337" y="2268"/>
                </a:lnTo>
                <a:lnTo>
                  <a:pt x="2480" y="2283"/>
                </a:lnTo>
                <a:lnTo>
                  <a:pt x="2625" y="2293"/>
                </a:lnTo>
                <a:lnTo>
                  <a:pt x="2770" y="2296"/>
                </a:ln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840360" y="3524400"/>
            <a:ext cx="1316160" cy="1065240"/>
          </a:xfrm>
          <a:custGeom>
            <a:avLst/>
            <a:gdLst/>
            <a:ahLst/>
            <a:rect l="l" t="t" r="r" b="b"/>
            <a:pathLst>
              <a:path w="3656" h="2957">
                <a:moveTo>
                  <a:pt x="0" y="0"/>
                </a:moveTo>
                <a:lnTo>
                  <a:pt x="5" y="154"/>
                </a:lnTo>
                <a:lnTo>
                  <a:pt x="20" y="307"/>
                </a:lnTo>
                <a:lnTo>
                  <a:pt x="45" y="460"/>
                </a:lnTo>
                <a:lnTo>
                  <a:pt x="80" y="611"/>
                </a:lnTo>
                <a:lnTo>
                  <a:pt x="124" y="760"/>
                </a:lnTo>
                <a:lnTo>
                  <a:pt x="178" y="908"/>
                </a:lnTo>
                <a:lnTo>
                  <a:pt x="242" y="1053"/>
                </a:lnTo>
                <a:lnTo>
                  <a:pt x="315" y="1195"/>
                </a:lnTo>
                <a:lnTo>
                  <a:pt x="397" y="1334"/>
                </a:lnTo>
                <a:lnTo>
                  <a:pt x="488" y="1469"/>
                </a:lnTo>
                <a:lnTo>
                  <a:pt x="588" y="1601"/>
                </a:lnTo>
                <a:lnTo>
                  <a:pt x="696" y="1728"/>
                </a:lnTo>
                <a:lnTo>
                  <a:pt x="813" y="1850"/>
                </a:lnTo>
                <a:lnTo>
                  <a:pt x="937" y="1968"/>
                </a:lnTo>
                <a:lnTo>
                  <a:pt x="1068" y="2080"/>
                </a:lnTo>
                <a:lnTo>
                  <a:pt x="1207" y="2186"/>
                </a:lnTo>
                <a:lnTo>
                  <a:pt x="1352" y="2287"/>
                </a:lnTo>
                <a:lnTo>
                  <a:pt x="1504" y="2381"/>
                </a:lnTo>
                <a:lnTo>
                  <a:pt x="1662" y="2469"/>
                </a:lnTo>
                <a:lnTo>
                  <a:pt x="1825" y="2550"/>
                </a:lnTo>
                <a:lnTo>
                  <a:pt x="1993" y="2624"/>
                </a:lnTo>
                <a:lnTo>
                  <a:pt x="2166" y="2692"/>
                </a:lnTo>
                <a:lnTo>
                  <a:pt x="2343" y="2751"/>
                </a:lnTo>
                <a:lnTo>
                  <a:pt x="2523" y="2804"/>
                </a:lnTo>
                <a:lnTo>
                  <a:pt x="2707" y="2849"/>
                </a:lnTo>
                <a:lnTo>
                  <a:pt x="2893" y="2886"/>
                </a:lnTo>
                <a:lnTo>
                  <a:pt x="3082" y="2915"/>
                </a:lnTo>
                <a:lnTo>
                  <a:pt x="3272" y="2937"/>
                </a:lnTo>
                <a:lnTo>
                  <a:pt x="3463" y="2950"/>
                </a:lnTo>
                <a:lnTo>
                  <a:pt x="3655" y="2956"/>
                </a:lnTo>
              </a:path>
            </a:pathLst>
          </a:custGeom>
          <a:noFill/>
          <a:ln w="93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764400" y="6897600"/>
            <a:ext cx="316224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333333"/>
                </a:solidFill>
                <a:latin typeface="Arial Black"/>
              </a:rPr>
              <a:t>Architecture RrOoLl Bus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7"/>
          <a:stretch/>
        </p:blipFill>
        <p:spPr>
          <a:xfrm>
            <a:off x="739800" y="2103480"/>
            <a:ext cx="447480" cy="41760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18"/>
          <a:stretch/>
        </p:blipFill>
        <p:spPr>
          <a:xfrm>
            <a:off x="1397160" y="2119320"/>
            <a:ext cx="639720" cy="36684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1370160" y="2460600"/>
            <a:ext cx="8190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800" spc="-1" strike="noStrike">
                <a:solidFill>
                  <a:srgbClr val="333333"/>
                </a:solidFill>
                <a:latin typeface="Arial"/>
              </a:rPr>
              <a:t>Site Info Nat.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9"/>
          <a:stretch/>
        </p:blipFill>
        <p:spPr>
          <a:xfrm>
            <a:off x="1347840" y="2747880"/>
            <a:ext cx="750960" cy="26676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1332000" y="3008160"/>
            <a:ext cx="91440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800" spc="-1" strike="noStrike">
                <a:solidFill>
                  <a:srgbClr val="333333"/>
                </a:solidFill>
                <a:latin typeface="Arial"/>
              </a:rPr>
              <a:t>Site Info Culture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20"/>
          <a:stretch/>
        </p:blipFill>
        <p:spPr>
          <a:xfrm>
            <a:off x="731880" y="2685960"/>
            <a:ext cx="480960" cy="40500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544680" y="3033720"/>
            <a:ext cx="9540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800" spc="-1" strike="noStrike">
                <a:solidFill>
                  <a:srgbClr val="333333"/>
                </a:solidFill>
                <a:latin typeface="Arial"/>
              </a:rPr>
              <a:t>Gestion  contenu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739440" y="612720"/>
            <a:ext cx="86072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EQUA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0760" y="1269720"/>
            <a:ext cx="8775720" cy="552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2680" indent="-319320">
              <a:lnSpc>
                <a:spcPct val="93000"/>
              </a:lnSpc>
              <a:buClr>
                <a:srgbClr val="21449c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21449c"/>
                </a:solidFill>
                <a:latin typeface="Arial"/>
              </a:rPr>
              <a:t>Presentation of informations in buses</a:t>
            </a:r>
            <a:endParaRPr b="1" lang="en-US" sz="2600" spc="-1" strike="noStrike">
              <a:solidFill>
                <a:srgbClr val="21449c"/>
              </a:solidFill>
              <a:latin typeface="Arial"/>
            </a:endParaRPr>
          </a:p>
          <a:p>
            <a:pPr marL="382680" indent="-319320">
              <a:lnSpc>
                <a:spcPct val="93000"/>
              </a:lnSpc>
              <a:buClr>
                <a:srgbClr val="21449c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21449c"/>
                </a:solidFill>
                <a:latin typeface="Arial"/>
              </a:rPr>
              <a:t>Pb : content creation cost</a:t>
            </a:r>
            <a:endParaRPr b="1" lang="en-US" sz="2600" spc="-1" strike="noStrike">
              <a:solidFill>
                <a:srgbClr val="21449c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buClr>
                <a:srgbClr val="4c62ab"/>
              </a:buClr>
              <a:buFont typeface="Symbol" charset="2"/>
              <a:buChar char="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62ab"/>
                </a:solidFill>
                <a:latin typeface="Arial"/>
              </a:rPr>
              <a:t>take the content where it is : on internet !</a:t>
            </a:r>
            <a:endParaRPr b="1" lang="en-US" sz="2400" spc="-1" strike="noStrike">
              <a:solidFill>
                <a:srgbClr val="4c62ab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buClr>
                <a:srgbClr val="4c62ab"/>
              </a:buClr>
              <a:buFont typeface="Symbol" charset="2"/>
              <a:buChar char="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62ab"/>
                </a:solidFill>
                <a:latin typeface="Arial"/>
              </a:rPr>
              <a:t>reshape the content to adapt it to a “television” display</a:t>
            </a:r>
            <a:endParaRPr b="1" lang="en-US" sz="2400" spc="-1" strike="noStrike">
              <a:solidFill>
                <a:srgbClr val="4c62ab"/>
              </a:solidFill>
              <a:latin typeface="Arial"/>
            </a:endParaRPr>
          </a:p>
          <a:p>
            <a:pPr marL="382680" indent="-319320">
              <a:lnSpc>
                <a:spcPct val="93000"/>
              </a:lnSpc>
              <a:buClr>
                <a:srgbClr val="21449c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21449c"/>
                </a:solidFill>
                <a:latin typeface="Arial"/>
              </a:rPr>
              <a:t>System :</a:t>
            </a:r>
            <a:endParaRPr b="1" lang="en-US" sz="2600" spc="-1" strike="noStrike">
              <a:solidFill>
                <a:srgbClr val="21449c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buClr>
                <a:srgbClr val="4c62ab"/>
              </a:buClr>
              <a:buFont typeface="Symbol" charset="2"/>
              <a:buChar char="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62ab"/>
                </a:solidFill>
                <a:latin typeface="Arial"/>
              </a:rPr>
              <a:t>content creation</a:t>
            </a:r>
            <a:endParaRPr b="1" lang="en-US" sz="2400" spc="-1" strike="noStrike">
              <a:solidFill>
                <a:srgbClr val="4c62ab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buClr>
                <a:srgbClr val="4c62ab"/>
              </a:buClr>
              <a:buFont typeface="Symbol" charset="2"/>
              <a:buChar char="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62ab"/>
                </a:solidFill>
                <a:latin typeface="Arial"/>
              </a:rPr>
              <a:t>static content management (non internet)</a:t>
            </a:r>
            <a:r>
              <a:rPr b="1" lang="en-GB" sz="2400" spc="-1" strike="noStrike">
                <a:solidFill>
                  <a:srgbClr val="4c62ab"/>
                </a:solidFill>
                <a:latin typeface="Arial"/>
              </a:rPr>
              <a:t>‏</a:t>
            </a:r>
            <a:endParaRPr b="1" lang="en-US" sz="2400" spc="-1" strike="noStrike">
              <a:solidFill>
                <a:srgbClr val="4c62ab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buClr>
                <a:srgbClr val="4c62ab"/>
              </a:buClr>
              <a:buFont typeface="Symbol" charset="2"/>
              <a:buChar char="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62ab"/>
                </a:solidFill>
                <a:latin typeface="Arial"/>
              </a:rPr>
              <a:t>transmission to display system(s)</a:t>
            </a:r>
            <a:r>
              <a:rPr b="1" lang="en-GB" sz="2400" spc="-1" strike="noStrike">
                <a:solidFill>
                  <a:srgbClr val="4c62ab"/>
                </a:solidFill>
                <a:latin typeface="Arial"/>
              </a:rPr>
              <a:t>‏</a:t>
            </a:r>
            <a:endParaRPr b="1" lang="en-US" sz="2400" spc="-1" strike="noStrike">
              <a:solidFill>
                <a:srgbClr val="4c62ab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buClr>
                <a:srgbClr val="4c62ab"/>
              </a:buClr>
              <a:buFont typeface="Symbol" charset="2"/>
              <a:buChar char="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62ab"/>
                </a:solidFill>
                <a:latin typeface="Arial"/>
              </a:rPr>
              <a:t>display</a:t>
            </a:r>
            <a:endParaRPr b="1" lang="en-US" sz="2400" spc="-1" strike="noStrike">
              <a:solidFill>
                <a:srgbClr val="4c62ab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739440" y="612720"/>
            <a:ext cx="86072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Bravo !!!!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0760" y="1269720"/>
            <a:ext cx="8775720" cy="552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2680" indent="-319320">
              <a:lnSpc>
                <a:spcPct val="93000"/>
              </a:lnSpc>
              <a:buClr>
                <a:srgbClr val="21449c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21449c"/>
                </a:solidFill>
                <a:latin typeface="Arial"/>
              </a:rPr>
              <a:t>But what a mess !!!!!</a:t>
            </a:r>
            <a:endParaRPr b="1" lang="en-US" sz="2600" spc="-1" strike="noStrike">
              <a:solidFill>
                <a:srgbClr val="21449c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buClr>
                <a:srgbClr val="4c62ab"/>
              </a:buClr>
              <a:buFont typeface="Symbol" charset="2"/>
              <a:buChar char="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62ab"/>
                </a:solidFill>
                <a:latin typeface="Arial"/>
              </a:rPr>
              <a:t>content aspiration and transformation with NewsClipper in perl</a:t>
            </a:r>
            <a:endParaRPr b="1" lang="en-US" sz="2400" spc="-1" strike="noStrike">
              <a:solidFill>
                <a:srgbClr val="4c62ab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buClr>
                <a:srgbClr val="4c62ab"/>
              </a:buClr>
              <a:buFont typeface="Symbol" charset="2"/>
              <a:buChar char="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62ab"/>
                </a:solidFill>
                <a:latin typeface="Arial"/>
              </a:rPr>
              <a:t>static content management with a perl cgi (webfm)  +  cgis in tcl (choice of pages and sources, set up, ... )</a:t>
            </a:r>
            <a:r>
              <a:rPr b="1" lang="en-GB" sz="2400" spc="-1" strike="noStrike">
                <a:solidFill>
                  <a:srgbClr val="4c62ab"/>
                </a:solidFill>
                <a:latin typeface="Arial"/>
              </a:rPr>
              <a:t>‏</a:t>
            </a:r>
            <a:endParaRPr b="1" lang="en-US" sz="2400" spc="-1" strike="noStrike">
              <a:solidFill>
                <a:srgbClr val="4c62ab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buClr>
                <a:srgbClr val="4c62ab"/>
              </a:buClr>
              <a:buFont typeface="Symbol" charset="2"/>
              <a:buChar char="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62ab"/>
                </a:solidFill>
                <a:latin typeface="Arial"/>
              </a:rPr>
              <a:t>control of transmission via a tcl script </a:t>
            </a:r>
            <a:endParaRPr b="1" lang="en-US" sz="2400" spc="-1" strike="noStrike">
              <a:solidFill>
                <a:srgbClr val="4c62ab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buClr>
                <a:srgbClr val="4c62ab"/>
              </a:buClr>
              <a:buFont typeface="Symbol" charset="2"/>
              <a:buChar char="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62ab"/>
                </a:solidFill>
                <a:latin typeface="Arial"/>
              </a:rPr>
              <a:t>reception on the terminal and display with ad-hoc scripts : content is totally static</a:t>
            </a:r>
            <a:endParaRPr b="1" lang="en-US" sz="2400" spc="-1" strike="noStrike">
              <a:solidFill>
                <a:srgbClr val="4c62ab"/>
              </a:solidFill>
              <a:latin typeface="Arial"/>
            </a:endParaRPr>
          </a:p>
          <a:p>
            <a:pPr marL="382680" indent="-319320">
              <a:lnSpc>
                <a:spcPct val="93000"/>
              </a:lnSpc>
              <a:buClr>
                <a:srgbClr val="21449c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21449c"/>
                </a:solidFill>
                <a:latin typeface="Arial"/>
              </a:rPr>
              <a:t>A lot of heterogeneous elements  =&gt; difficult to maintain</a:t>
            </a:r>
            <a:endParaRPr b="1" lang="en-US" sz="2600" spc="-1" strike="noStrike">
              <a:solidFill>
                <a:srgbClr val="21449c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739440" y="612720"/>
            <a:ext cx="86072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Linbox web sit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0760" y="1269720"/>
            <a:ext cx="8775720" cy="552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2680" indent="-319320">
              <a:lnSpc>
                <a:spcPct val="93000"/>
              </a:lnSpc>
              <a:buClr>
                <a:srgbClr val="21449c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21449c"/>
                </a:solidFill>
                <a:latin typeface="Arial"/>
              </a:rPr>
              <a:t>At the same time, I begin to work on Linbox FAS web site content management system :</a:t>
            </a:r>
            <a:endParaRPr b="1" lang="en-US" sz="2600" spc="-1" strike="noStrike">
              <a:solidFill>
                <a:srgbClr val="21449c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buClr>
                <a:srgbClr val="4c62ab"/>
              </a:buClr>
              <a:buFont typeface="Symbol" charset="2"/>
              <a:buChar char="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62ab"/>
                </a:solidFill>
                <a:latin typeface="Arial"/>
              </a:rPr>
              <a:t>I start from txt2ml : a script that transform text (à la wiki) in html</a:t>
            </a:r>
            <a:endParaRPr b="1" lang="en-US" sz="2400" spc="-1" strike="noStrike">
              <a:solidFill>
                <a:srgbClr val="4c62ab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buClr>
                <a:srgbClr val="4c62ab"/>
              </a:buClr>
              <a:buFont typeface="Symbol" charset="2"/>
              <a:buChar char="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62ab"/>
                </a:solidFill>
                <a:latin typeface="Arial"/>
              </a:rPr>
              <a:t>then I add what is required to manage menus and also have an on-line edition possibility</a:t>
            </a:r>
            <a:endParaRPr b="1" lang="en-US" sz="2400" spc="-1" strike="noStrike">
              <a:solidFill>
                <a:srgbClr val="4c62ab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739440" y="612720"/>
            <a:ext cx="86072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Enthrone – Eci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0760" y="1269720"/>
            <a:ext cx="8775720" cy="552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2680" indent="-319320">
              <a:lnSpc>
                <a:spcPct val="93000"/>
              </a:lnSpc>
              <a:buClr>
                <a:srgbClr val="21449c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21449c"/>
                </a:solidFill>
                <a:latin typeface="Arial"/>
              </a:rPr>
              <a:t>Follow up of Equal project is the European Enthrone project</a:t>
            </a:r>
            <a:endParaRPr b="1" lang="en-US" sz="2600" spc="-1" strike="noStrike">
              <a:solidFill>
                <a:srgbClr val="21449c"/>
              </a:solidFill>
              <a:latin typeface="Arial"/>
            </a:endParaRPr>
          </a:p>
          <a:p>
            <a:pPr marL="382680" indent="-319320">
              <a:lnSpc>
                <a:spcPct val="93000"/>
              </a:lnSpc>
              <a:buClr>
                <a:srgbClr val="21449c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21449c"/>
                </a:solidFill>
                <a:latin typeface="Arial"/>
              </a:rPr>
              <a:t>I am said : “just keep the previous code, and do small adaptations”</a:t>
            </a:r>
            <a:endParaRPr b="1" lang="en-US" sz="2600" spc="-1" strike="noStrike">
              <a:solidFill>
                <a:srgbClr val="21449c"/>
              </a:solidFill>
              <a:latin typeface="Arial"/>
            </a:endParaRPr>
          </a:p>
          <a:p>
            <a:pPr marL="382680" indent="-319320">
              <a:lnSpc>
                <a:spcPct val="93000"/>
              </a:lnSpc>
              <a:buClr>
                <a:srgbClr val="21449c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21449c"/>
                </a:solidFill>
                <a:latin typeface="Arial"/>
              </a:rPr>
              <a:t>Obviously, I take the occasion to create a full content management system in tcl</a:t>
            </a:r>
            <a:endParaRPr b="1" lang="en-US" sz="2600" spc="-1" strike="noStrike">
              <a:solidFill>
                <a:srgbClr val="21449c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