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B763-B426-4306-9FB3-DD74D90C8D93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200" spc="-1" strike="noStrike">
                <a:solidFill>
                  <a:srgbClr val="000000"/>
                </a:solidFill>
                <a:latin typeface="Times New Roman"/>
              </a:rPr>
              <a:t>screen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81C3-E346-48C7-BD79-142EB6FE8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6EFD-14AA-408B-8301-AE10BF8BC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F67D8-341D-4B20-BA33-156E3ACE8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F6630-9F4F-4328-BF4B-943830059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223FC-30C7-416A-A4B8-06B32A12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EF72C-8F25-4861-9027-DB66DC80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6CEB7-152D-40C2-84C1-EC41B31A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9CB5-B037-427B-BB5D-052FAEA45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4CBF3-3DAD-4C77-9409-15DC347FB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1DB8-1615-4E65-8997-019AEBA0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E53F-31D6-4833-AB9E-E8FA891AF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591C6-8628-404A-84E2-71C1C493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C34F3-9BB0-4077-BFE0-A22F9FAC01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477720" y="571680"/>
          <a:ext cx="819000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7720" y="571680"/>
                    <a:ext cx="819000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468360" y="576360"/>
          <a:ext cx="8209080" cy="5707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576360"/>
                    <a:ext cx="8209080" cy="570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01T14:58:50Z</dcterms:created>
  <dc:creator>Ing. Industrial</dc:creator>
  <dc:description/>
  <dc:language>en-US</dc:language>
  <cp:lastModifiedBy>Ing. Industrial</cp:lastModifiedBy>
  <dcterms:modified xsi:type="dcterms:W3CDTF">2003-12-01T15:37:20Z</dcterms:modified>
  <cp:revision>2</cp:revision>
  <dc:subject/>
  <dc:title>Presentación de PowerPoint</dc:title>
</cp:coreProperties>
</file>