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38228"/>
        <c:axId val="48607218"/>
      </c:barChart>
      <c:catAx>
        <c:axId val="56138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07218"/>
        <c:crosses val="autoZero"/>
        <c:auto val="1"/>
        <c:lblAlgn val="ctr"/>
        <c:lblOffset val="100"/>
        <c:noMultiLvlLbl val="0"/>
      </c:catAx>
      <c:valAx>
        <c:axId val="48607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38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B69-9A5A-40A1-8C29-03625B05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0BC-63AD-4F4C-9933-054C5211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B6A-2F44-41E9-9846-EACE7F07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3A0-0BC6-402E-ADB5-C6DF3515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46B-ABC0-4E0C-86AB-95FF2761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8F6-BC57-45C2-996E-A8090D1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2C6-1B88-4306-9FD5-AF9290C0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09A-6DEF-46C8-A96C-6F746835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426-6DFB-4946-9CAF-166E0423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E88-491C-4B3B-9E57-5380B3FF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F67-6C70-420F-A4B4-503D2D9A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6DC-2E5A-4ECC-A7D6-9CEFABA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7396F-F3F4-45C3-91BA-8D7619771B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