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AF6D-33E4-43BB-9C31-3C265CD89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: Your license is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Upgrading from an installation without monitoring to one which has monitoring is currently a pain. We will look at making this easier but currently if you are entitled to monitoring you should make sure to install a monitoring capable license. The upgrade from the evaluation with monitoring to a full license is easy, just drop in the new license file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usually a problem since you’re Server will normally be talking to agents on other machines, really just an issue for demo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y obvious because agent holds a reference to the servers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nly way to correct this is to update the agent.properties file on each agent platform and set “agent.setup.serverIP” to the new IP of the server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fqdn can be any string, just look less out of place when it is normal domain nam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rough on the slide, then at the end there will be time to do the actual install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oose Complete or Custom (just make sure to install Server, Agent and C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efault Installation Settings, the interview takes a long time and the defaults are fine for this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il server domain, you must change it but doesn’t need to be valid for this exercise, just use local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his out of the way ear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e worried if you see JBN rather JON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branded our materials to JON and the next version (1.2Final) of the software will match that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install yet! There will be time 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r production – you can install this on laptops for demo/testing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load and run setup.sh –full as a non root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root access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have an Agent-Only installer (not on the CD!) which is smaller and is for installation on your separate agent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hange ports or DB’s is available, we will just be installing with defa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 with UNIX, we have an Agent-Only installer for your agent platforms running the Windows OS (again, this is NOT on the C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key sub-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traight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688EDDB4-3BCC-4ED7-A204-A6105C2E232F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4680"/>
            <a:ext cx="1550880" cy="95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localhost:7080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perations Network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indows installer configures services that are automatically started when Windows st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staller starts these services immediately after installation and points a browser at the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7480" y="3733920"/>
            <a:ext cx="6629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itial auto-discovery sca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will perform an initial auto-discovery upon star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N supports manag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3.2.x and 4.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mcat 4.0.x, 4.1.x, 5.0.x, 5.5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ache 1.3.x and 2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744560" y="5105520"/>
            <a:ext cx="56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mcat and Apache require further configuration so JON can monit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the server uses the license file for execution. Agents run without a license fi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server license can be obtained from the JBoss Customer Support Por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 (con’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6324840" cy="124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6095880" cy="194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w that the Server is started, login to see the main home p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localhost:708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load the license to the JON Server using its Console GU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cense upload page appears after you log into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00600"/>
            <a:ext cx="230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message like this will appear after you upload a valid license that you received from the Customer Support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 initial auto-discovery sc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shboard will show you what has been auto-discovered (give it a minute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 the resources you want to man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he “Import” button to tell the server, “Yes, I want to manage these resources that have been discovere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will notice that the server and agent will be auto-discov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means you can manage/monitor the JON distribution itself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796160" cy="3208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s of initial auto-dis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14600"/>
            <a:ext cx="44370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066680" y="3809520"/>
            <a:ext cx="434340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" y="23623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080" y="43434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352680"/>
            <a:ext cx="4286160" cy="266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y! It found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 Apach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b Serv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4266720"/>
            <a:ext cx="2819520" cy="160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6760" y="586728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ick me to import these auto-discovered servers into JON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85840"/>
            <a:ext cx="821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order for the initial import of resources into the JON Server to succeed, the JON Server must have a working network conne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 for the lab make sure your WiFi is work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eginning the instal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sue will be fixed in the next 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the JON server is deployed and inventoried, changing the IP address of the machine it is running on will cause failures when the agents try to conn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s mostly seen on laptop install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ince laptops frequently change ip’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ll-install on Windows will default hostname for agent and server to localho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f installing on Unix make sure to answer as fol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s the JON Server IP address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P should the JON server use to contact the agent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name of the platform changes the JON Server will try to re-discover all the servers on the platfor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 name changes often occur due to DNS changes. Again most common for laptop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vent this problem by adding an entry to agent.properties fil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form.fqdn=machinename.company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5080" y="1295280"/>
            <a:ext cx="8001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N Server and Agents available for Windows and Unix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for either Server and/or Ag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started Agents will begin sending data to the Server immediate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a the Server’s Portal interface, discovered resources can be imported and brought under manage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0010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ning the insta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configu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the full distribution including server, agent and client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you have an network 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to specify server and agent hostname/ip as localhost/127.0.0.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ter install has completed upda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BN 1.2.8/agent-jboss-1.2.8/agent.properti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includ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latform.fqdn=machine.yourcompany.c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art the ag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load license to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 your initial auto-discovered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brand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d to be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Network Enterprise Manager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oss 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Operations Network (JON) distribution consists of two par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gine that drives it al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active GU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 agent is deployed on each operating system that is to be monito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requisi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Server Requi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 server (1-5 platforms, 5-15 serve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x1GHZ x86 or 1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12M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dium server (6-25 platfo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x2GHZ x86 or 2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are recommended for production systems, but you can install the server on less powerful laptops for demo and testing purpo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440" y="1185480"/>
            <a:ext cx="801504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, download the appropriate installation package for your platform and follow the installation script’s prom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basic installation can be performed by executing “setup.sh –full” and choosing the server, agent and she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 script cannot be run as root however, you must have root access to run another script the installer asks you to run [got it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second script is called “tune-os.sh” and is only required on some platforms (e.g. Linux but not Windows). It sets some kernel parameters necessary to run the server prope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 agent-only installer is avail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 on Windows, download the full windows installer program and run it as desir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dvanced installation will allow you to alter default 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tabase settings can be chosen from an existing Oracle or PostgreSQL installation or the default embedded PostgreSQL cho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Boss ON also has an agent-only installer avail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ed F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295280"/>
            <a:ext cx="7086600" cy="4953240"/>
            <a:chOff x="762120" y="1295280"/>
            <a:chExt cx="7086600" cy="49532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22003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86200" y="1523880"/>
              <a:ext cx="3962520" cy="762120"/>
            </a:xfrm>
            <a:prstGeom prst="borderCallout1">
              <a:avLst>
                <a:gd name="adj1" fmla="val 18750"/>
                <a:gd name="adj2" fmla="val -8333"/>
                <a:gd name="adj3" fmla="val -11875"/>
                <a:gd name="adj4" fmla="val -48837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is is the directory given to the installer as the location where the JON distribution should be install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5909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8611"/>
                <a:gd name="adj5" fmla="val -298958"/>
                <a:gd name="adj6" fmla="val -1125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A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35053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0694"/>
                <a:gd name="adj5" fmla="val 121356"/>
                <a:gd name="adj6" fmla="val -10583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419720"/>
              <a:ext cx="152388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42814"/>
                <a:gd name="adj5" fmla="val 393750"/>
                <a:gd name="adj6" fmla="val -900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Client Sh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 can be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server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 is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agent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3:41Z</dcterms:modified>
  <cp:revision>93</cp:revision>
  <dc:subject/>
  <dc:title>JBN Enterprise Management</dc:title>
</cp:coreProperties>
</file>