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70700"/>
        <c:axId val="31204078"/>
      </c:barChart>
      <c:catAx>
        <c:axId val="42970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04078"/>
        <c:crosses val="autoZero"/>
        <c:auto val="1"/>
        <c:lblAlgn val="ctr"/>
        <c:lblOffset val="100"/>
        <c:noMultiLvlLbl val="0"/>
      </c:catAx>
      <c:valAx>
        <c:axId val="31204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70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85C-027F-44F7-AA0D-777FC4DC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E6D-D9FC-4EC2-921A-0564658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322-8185-412C-B70C-9057D63B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DFB-82C3-4202-A04B-1EA13435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FF2-AC48-4694-AB21-89C38B2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D32-6D82-4E49-A435-BBD858C6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2FE-8B33-41FA-8E09-24C9B1A9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65B-838F-4B24-B9FB-B2915B0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7C3-9EF0-4AD7-916D-2A475D4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55D-A5F8-47C4-BBD8-C9DDD30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EB1-5EB8-4109-BE3F-02306DA2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E19-72DB-47A7-813E-8F28D75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16ADA-184B-41F5-9AF9-0EA8B1EB36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