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06778"/>
        <c:axId val="9056915"/>
      </c:barChart>
      <c:catAx>
        <c:axId val="70306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6915"/>
        <c:crosses val="autoZero"/>
        <c:auto val="1"/>
        <c:lblAlgn val="ctr"/>
        <c:lblOffset val="100"/>
        <c:noMultiLvlLbl val="0"/>
      </c:catAx>
      <c:valAx>
        <c:axId val="9056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06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619-1B2E-4982-8BB9-D097C8B5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AD3-C91B-4A05-B4D6-C5D56DC0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5D4-B5FA-475B-AD28-65077742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5D1-2F42-4D16-A1D8-E4213F98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FD4-1AA1-4F71-8604-A83C77E3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605-AC06-488E-9C47-CB7C531D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ED3-F85E-40C3-9252-11144F0A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229-3E96-4BDB-AE68-D750B0FD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DF3-1F31-470C-A312-867A0DE2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EC0-25EA-4486-8765-F07912C3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C1D-809E-4478-A9A2-E1929BDA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E1E-4DBA-4195-850A-7DB1B198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BEF2C-D057-471C-86A0-135B0C3206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