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20380"/>
        <c:axId val="25453161"/>
      </c:barChart>
      <c:catAx>
        <c:axId val="18520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53161"/>
        <c:crosses val="autoZero"/>
        <c:auto val="1"/>
        <c:lblAlgn val="ctr"/>
        <c:lblOffset val="100"/>
        <c:noMultiLvlLbl val="0"/>
      </c:catAx>
      <c:valAx>
        <c:axId val="25453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0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5A7-DD12-48DB-B40F-12BCB58E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C72-3FFA-4AA6-AB61-E29F7B1F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8D1-3DEB-4B09-9F73-155BEB4A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AC5-E7A6-4AEA-9DE3-D76DDDF0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1A8-18A1-416B-8BD3-0BD7B712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682-7AAF-4084-B953-53CF8C7C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2F6-A26B-4C22-8189-B2920220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50E-8DA9-4582-8A80-24A32290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66F-D3C8-4A07-83EA-7BB35E54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731-AF8F-4105-A194-0927988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3C8-0881-4F64-8BAB-471D412A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843-A452-437D-9822-5DC3F073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F7BC9-2001-4F87-A4F9-B56AF2D745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