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34570"/>
        <c:axId val="95214999"/>
      </c:barChart>
      <c:catAx>
        <c:axId val="71934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14999"/>
        <c:crosses val="autoZero"/>
        <c:auto val="1"/>
        <c:lblAlgn val="ctr"/>
        <c:lblOffset val="100"/>
        <c:noMultiLvlLbl val="0"/>
      </c:catAx>
      <c:valAx>
        <c:axId val="95214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4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364-5BA7-47CE-823B-516576C4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9FC-2D08-43AB-BDE7-4B30EE3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AD2-2F23-40CC-9D4C-3D8AA8B4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9A3-AEF1-4A4F-AC91-907BCF1A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F46-EFAF-4ABE-B3C0-1698706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C9-965B-4CEE-A6D1-880000B4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98E-600A-4834-A22B-2306F745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A43-324B-4ABE-8E48-8D5EDC5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38C-A0EC-4606-86A4-50EC1940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5A4-75A9-4DB6-8A60-2B901DE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1AE-2F1B-4402-88E8-163297D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8B0-C16C-4F5A-ACF1-633FCF5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06867-4493-4AE9-9F4B-92FCC1EB4A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