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5270063"/>
        <c:axId val="68318094"/>
      </c:barChart>
      <c:catAx>
        <c:axId val="7527006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318094"/>
        <c:crosses val="autoZero"/>
        <c:auto val="1"/>
        <c:lblAlgn val="ctr"/>
        <c:lblOffset val="100"/>
        <c:noMultiLvlLbl val="0"/>
      </c:catAx>
      <c:valAx>
        <c:axId val="6831809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27006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3FE83-CDD7-4FBB-A2D9-C622E0FD1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F796E-26DB-45D1-A0F5-AF975A110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03A12-E77A-47F2-A95A-74EC49897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0A8EC-9AF2-4FFE-9FA8-9EB7BEFCA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5C3D8-D945-4C4A-A8DE-95C0EC3E7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8CC5D-72C0-425C-B63C-D26C11C22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3C17E-D962-4F62-9749-872CF874A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9C6E7-797B-4B0C-9AD6-08B88ABE2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66482-B105-4738-85B7-CDDF6018B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CB450-F42B-4164-B505-4272381FC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6FA7C-624B-4CB2-937E-606F59203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E5ACB-47FA-43E6-8D22-DF3744881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52BD8B-7BC7-4B16-AE2F-E3FF3636ECC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