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32147"/>
        <c:axId val="64336936"/>
      </c:barChart>
      <c:catAx>
        <c:axId val="64932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36936"/>
        <c:crosses val="autoZero"/>
        <c:auto val="1"/>
        <c:lblAlgn val="ctr"/>
        <c:lblOffset val="100"/>
        <c:noMultiLvlLbl val="0"/>
      </c:catAx>
      <c:valAx>
        <c:axId val="64336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32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132-13E5-4D05-BAE5-7C071037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8CA-3120-437D-A437-BF115067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3B4-36E1-4FE7-87B4-98D2275F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208-7046-4C37-B697-F8BFE873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226-B298-4832-A59A-D45D6C83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F7C-1787-46F9-81ED-331A2CCC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6E2-DFEE-402E-AE8A-F3E0D767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024-C459-438B-B7DC-CAADEA73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F3B-6023-47AE-B978-09CF6AC8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8A7-EC66-4B13-9825-16D840D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C51-D9FB-4645-9775-42F40E4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D1E-6585-437F-8755-EE167CA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CE3B2-73AB-4D49-AFD6-2AE69EF936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