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049367"/>
        <c:axId val="87941756"/>
      </c:barChart>
      <c:catAx>
        <c:axId val="404936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941756"/>
        <c:crosses val="autoZero"/>
        <c:auto val="1"/>
        <c:lblAlgn val="ctr"/>
        <c:lblOffset val="100"/>
        <c:noMultiLvlLbl val="0"/>
      </c:catAx>
      <c:valAx>
        <c:axId val="8794175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04936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CDCE5-0D49-4E4C-BADA-99D3BCE71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B9C35-2B2B-48AE-875D-10E34F4B7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F0B4A-9E00-44B6-B081-BAE648ADA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E23B4-DB55-4DC0-83D8-D027F6947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90865-15BB-403E-B25C-EC7A5B7BB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D59CA-EB64-4701-99E1-8DB9FBCC0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275F5-0147-4C1C-8E21-E94430CCC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7A412-CA22-4D43-A768-71C90A852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712A9-FE32-415D-91FE-B90DB8CFC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938E8-1CF3-409D-8D46-5598ECBCF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0CE4C-4275-4AD3-9DBA-6BEF71D18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0A9A8-1092-4642-82B3-74B0394DC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44BD75-2134-4ECA-86B1-7133A754380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