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32006"/>
        <c:axId val="19216417"/>
      </c:barChart>
      <c:catAx>
        <c:axId val="14932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16417"/>
        <c:crosses val="autoZero"/>
        <c:auto val="1"/>
        <c:lblAlgn val="ctr"/>
        <c:lblOffset val="100"/>
        <c:noMultiLvlLbl val="0"/>
      </c:catAx>
      <c:valAx>
        <c:axId val="19216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32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A87-9190-42B3-A853-27FA6750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B00-CD17-467D-9A09-450D98D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620-E0A6-4701-BDAE-3F708B97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A10-0303-47C2-AF4E-996F5078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325-8CFD-4BEA-A6DC-755542AB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402-B9DF-4766-9405-F0E1009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430-CACC-481F-B0D5-6F118178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3B1-7948-4C94-BD75-9E73D6F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5EC-922E-4204-8F68-19FB6D5B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EFD-C48E-437D-A3FE-756D3B4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918-0EEE-4836-89DE-47D7F91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31F-3333-4013-9E83-13EACD21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C7AA8-3156-443D-A418-AD44FE4702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