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92849"/>
        <c:axId val="40368707"/>
      </c:barChart>
      <c:catAx>
        <c:axId val="96292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8707"/>
        <c:crosses val="autoZero"/>
        <c:auto val="1"/>
        <c:lblAlgn val="ctr"/>
        <c:lblOffset val="100"/>
        <c:noMultiLvlLbl val="0"/>
      </c:catAx>
      <c:valAx>
        <c:axId val="40368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92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CD2-8589-4D3D-85CA-351F8B5F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50D-3AEB-495B-AD0E-40ED23F8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972-3996-4272-B36E-24E4F811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336-B515-4590-97E2-60966E25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121-04F3-46A3-BA32-482D24E2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D6E-A306-464E-86C8-8C0DF72D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BC3-3595-4513-A161-C6233B55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F11-A6AD-4955-A392-2BD3DCD8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E89-D037-40A8-992B-DACDFF7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180-F7EF-4C6C-B859-D260070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8AB-0B1A-42D4-9A88-8A4F980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2E5-2008-49B1-9F34-5DF7E42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8051A-7C5C-4724-81E0-0C3781F78F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