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623024"/>
        <c:axId val="11031671"/>
      </c:barChart>
      <c:catAx>
        <c:axId val="796230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31671"/>
        <c:crosses val="autoZero"/>
        <c:auto val="1"/>
        <c:lblAlgn val="ctr"/>
        <c:lblOffset val="100"/>
        <c:noMultiLvlLbl val="0"/>
      </c:catAx>
      <c:valAx>
        <c:axId val="11031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230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083B-1687-4730-9262-68780F83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31CC-4E67-4EFC-A638-CA6594B4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7123-FF1D-44AA-96BD-B579DAB3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FEF1-DE44-4A10-B786-F9266BEF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700-0ED0-4C5B-89C1-01789632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CC9-2814-46D9-A657-BA240860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3502-5AE4-403C-9D49-C47CB7C4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DD1-B9CE-4A1C-A1E5-05607640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A6D-523F-459F-A1E1-0AA3923C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1E5B-4A9A-4749-B23F-62A5ADBC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7E5-50CD-4447-935C-056349FA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A1A-806D-49E3-A10D-AADB3B7A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0104A-D00A-4B22-865E-363CC2B4F4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