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23809"/>
        <c:axId val="9193875"/>
      </c:barChart>
      <c:catAx>
        <c:axId val="34823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3875"/>
        <c:crosses val="autoZero"/>
        <c:auto val="1"/>
        <c:lblAlgn val="ctr"/>
        <c:lblOffset val="100"/>
        <c:noMultiLvlLbl val="0"/>
      </c:catAx>
      <c:valAx>
        <c:axId val="91938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23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B7B-15AD-468E-B2DD-42B1AD4E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5D9-70F7-4289-8A97-3BE876F8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C59E-A6CA-4C78-A6AF-2208D1A6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65E3-047B-4940-B2A2-5BB5E018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84B-BB6C-4E54-8CBD-281FD21B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DCB-5D4F-4A10-AE76-A99790EA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290-CA8D-4F0D-9B85-C0476BC4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3ED-1A69-4C5F-87CD-6B45E085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9AF9-4CD1-40EE-ABB5-CDF881D5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B490-3809-4CA7-87D9-0153AA1B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475-E6EE-4B64-AD56-12F7AD0F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6BA7-B873-41C3-813E-56E1B132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878D0-D910-45B0-BB3E-C018EB0E26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