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44795"/>
        <c:axId val="8199123"/>
      </c:barChart>
      <c:catAx>
        <c:axId val="104447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9123"/>
        <c:crosses val="autoZero"/>
        <c:auto val="1"/>
        <c:lblAlgn val="ctr"/>
        <c:lblOffset val="100"/>
        <c:noMultiLvlLbl val="0"/>
      </c:catAx>
      <c:valAx>
        <c:axId val="81991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447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E4D-A31B-4DB9-87A5-9A1119C6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ED55-A45D-4A43-94D5-A33D93A2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5186-FE99-4592-BA67-6BA9729B8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594-6454-4F97-ACC9-F70B3E49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3968-44D5-4E9F-9712-E7125CCB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729C-A9E2-4EE0-8A97-4D51E5C3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1ABD-E0E5-46E1-895B-4DD10051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538-8347-4085-B5E8-2CB24132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6EF-15D5-40FA-A367-011093FFA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0732-88EA-44A7-A50C-F0BF241F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0B8B-F10B-4251-A0AA-FEECF1DC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2560-F769-4EEF-82ED-3FA504D0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AB1DD-2736-4752-8FE1-9152685783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