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10335"/>
        <c:axId val="21450898"/>
      </c:barChart>
      <c:catAx>
        <c:axId val="14010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50898"/>
        <c:crosses val="autoZero"/>
        <c:auto val="1"/>
        <c:lblAlgn val="ctr"/>
        <c:lblOffset val="100"/>
        <c:noMultiLvlLbl val="0"/>
      </c:catAx>
      <c:valAx>
        <c:axId val="21450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10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9BB-2FB5-47A6-8663-45EA93E9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C05-E830-4102-9673-1B69027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395-9FFF-41B9-8469-C4131149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A0D-CA6F-4D69-9AE2-719D1115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8EA-6607-45D9-837B-1D742BE8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1A4-0830-4700-BA69-360B12AE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6D8-5AC2-47C3-97C5-D026245D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CEE-4F5D-4372-854F-71305AF6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F50-5A98-4653-ADAB-0554E066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76A-2BBC-4C32-B91B-1CF32B0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799-BD07-4817-BEF0-495E7219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BB1-D3E1-4BA4-BFD3-0911547D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30DA6-0426-45B3-8814-035C6C01D0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