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003AD-4B64-4282-9A25-19616C4A6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B4BC1-90A8-40CE-8E15-1DA696E16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258C0-C7FB-4C87-9975-583368F1A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EE8D6-427D-4454-8B16-B1A20D6C6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021ED-2B44-44B9-B41D-84D236C4C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15FADF-2B8F-4112-ABFD-01FD9022F75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06D28321-0CCA-46F0-86E7-530461E8C70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F3688E5F-CDFB-4AA5-9CC2-8887A4A935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45C3211A-67A9-4D40-949F-5F073C30FFD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E0A8DA71-E191-4DF0-AE91-CC759D980E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A0DD9-D11B-40F0-9E6B-BE75DF6A4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33BC458C-0576-4135-9683-DD194C8C20E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40DE32C7-E3FD-4044-A6D2-D5ABB80B0DE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6A7A4BB8-F066-4CDF-BFF7-997CF51055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F1D0AD96-5A10-40F9-8ABD-97A38D7614F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D19AB443-5DD8-4518-A04A-6BDF2BF92AD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B4BD44DD-5356-40FA-B5DA-EF12586A68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B5BBF759-92ED-41C4-BE6C-24FF4F0E45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286FB-157B-497C-8E53-29EC08E33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15A3C-151B-46F0-B0D1-50AADAE42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754BF-594E-4CFF-9D06-96D9D65B3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DAC7C-1142-4817-BC58-2E4156D91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D46E0-DF02-42B1-870C-8B2C23766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DF2B7-90C0-44B1-9A68-ECCCDCF4F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1046F615-5251-4CFF-9810-A9784F3DE336}"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6AD820B5-1467-4FE8-AC6E-43EE59D7BB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CB3287-7C2D-492E-8C93-79F4493768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55"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 A3 of the Primer and Reference.</a:t>
            </a:r>
            <a:endParaRPr b="0" lang="en-US" sz="2200" spc="-1" strike="noStrike">
              <a:solidFill>
                <a:srgbClr val="000000"/>
              </a:solidFill>
              <a:latin typeface="Calibri"/>
            </a:endParaRPr>
          </a:p>
        </p:txBody>
      </p:sp>
      <p:sp>
        <p:nvSpPr>
          <p:cNvPr id="5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20AD0F7-E470-4857-BEDF-21A6394388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7"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97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A1B165-31FD-4A83-B054-900B87C564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1" name="Picture 2" descr="Manual"/>
          <p:cNvPicPr/>
          <p:nvPr/>
        </p:nvPicPr>
        <p:blipFill>
          <a:blip r:embed="rId1"/>
          <a:stretch/>
        </p:blipFill>
        <p:spPr>
          <a:xfrm>
            <a:off x="6921360" y="1859040"/>
            <a:ext cx="3341880" cy="2363760"/>
          </a:xfrm>
          <a:prstGeom prst="rect">
            <a:avLst/>
          </a:prstGeom>
          <a:ln w="0">
            <a:noFill/>
          </a:ln>
        </p:spPr>
      </p:pic>
      <p:pic>
        <p:nvPicPr>
          <p:cNvPr id="562"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71D559-FC2D-44F0-90A9-F190D11386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C49BF4-8081-46CB-B40C-FCDE21EF4F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56043B-042A-461B-81B9-569AD1E15A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1240E13-1C73-43A6-9DAC-17E7B3E526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6178A7-5AA5-4BA4-9088-81BB61D905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EA82C7-5955-4BD5-9F2D-456910CC86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4"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7" name="Picture 2" descr=""/>
          <p:cNvPicPr/>
          <p:nvPr/>
        </p:nvPicPr>
        <p:blipFill>
          <a:blip r:embed="rId1"/>
          <a:stretch/>
        </p:blipFill>
        <p:spPr>
          <a:xfrm>
            <a:off x="3279600" y="2598840"/>
            <a:ext cx="4133880" cy="734760"/>
          </a:xfrm>
          <a:prstGeom prst="rect">
            <a:avLst/>
          </a:prstGeom>
          <a:ln w="0">
            <a:noFill/>
          </a:ln>
        </p:spPr>
      </p:pic>
      <p:sp>
        <p:nvSpPr>
          <p:cNvPr id="18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731977-8C11-4829-8046-49F803D8B9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3"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4"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5"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9FD8CE-B97B-4795-AAE8-57F83C0DD6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2"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FAEBCA-2E9B-4D86-82C3-0B16B7B52A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2AAB28-0704-4049-86BA-2D0DE1968E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6"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7"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F43C8C4-5DE3-4023-8619-2DB3ECA7D0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2"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3"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F73BB9-9993-4C6E-87A1-C33AA5ED7E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8"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C2C81F-590C-4D37-8AEC-B483178C6C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B8BDB1-ED38-4802-A971-96E80C93F5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6"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F06AA9-7CFB-4F43-B4D3-37B97129A3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0"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1"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2"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DD9BD6-A8BF-4BFD-820B-EA92487ED1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Rechteck 5"/>
          <p:cNvSpPr/>
          <p:nvPr/>
        </p:nvSpPr>
        <p:spPr>
          <a:xfrm>
            <a:off x="105264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BD52D5-9310-4F30-939D-BA66CF82F8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1"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2" name="Rechteck 4"/>
          <p:cNvSpPr/>
          <p:nvPr/>
        </p:nvSpPr>
        <p:spPr>
          <a:xfrm>
            <a:off x="5600880" y="3463920"/>
            <a:ext cx="435420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3"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4"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6"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A7445E-C88E-4E14-AEFF-9AB9BB01E6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9"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0"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4A385A-CFFF-41AC-AF12-D39D1CC545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5" name="Rechteck 5"/>
          <p:cNvSpPr/>
          <p:nvPr/>
        </p:nvSpPr>
        <p:spPr>
          <a:xfrm>
            <a:off x="1085760" y="4057560"/>
            <a:ext cx="885528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484F15-E586-43D0-9F4B-6B21457F6D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6E26ADE-B15D-4A45-B731-FF302B7273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0"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1"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5CAD50-D633-4FC8-8635-5E44072357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6"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7"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CA5B8E-B6F6-4689-B18E-A04BF4D362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1"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2"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F9EB26-D23F-4172-8B81-C7B625D87B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7"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7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DC11F8-8D20-4151-9AED-427F4B9CC9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2"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3"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F295E7-0D9C-49C1-8094-DBF6A4212E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8"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172FEF-4D47-4381-A59E-F8635C6E27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3"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4"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C04331-0780-4D0D-BF57-92AF9967B4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99"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7ED31AE-2429-42A9-AF82-7FD2EDCA1B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4"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5"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0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08" name="Picture 2" descr=""/>
          <p:cNvPicPr/>
          <p:nvPr/>
        </p:nvPicPr>
        <p:blipFill>
          <a:blip r:embed="rId1"/>
          <a:stretch/>
        </p:blipFill>
        <p:spPr>
          <a:xfrm>
            <a:off x="3279600" y="2598840"/>
            <a:ext cx="4133880" cy="734760"/>
          </a:xfrm>
          <a:prstGeom prst="rect">
            <a:avLst/>
          </a:prstGeom>
          <a:ln w="0">
            <a:noFill/>
          </a:ln>
        </p:spPr>
      </p:pic>
      <p:sp>
        <p:nvSpPr>
          <p:cNvPr id="30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814C267-0262-4E85-84E5-9E56A0631D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A3FCCB-E42E-478D-9519-BB1438A98E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4"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521342-E1B9-4C40-9084-6E3E43B094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2564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323EDA-EB6A-40DD-B693-B8E4EBC68A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23"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481BAAC-1E2C-4C01-AD1B-CA9E087683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7"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338B6F-FBF1-4A8D-B8D1-EDF6FC0A9E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Rechteck 4"/>
          <p:cNvSpPr/>
          <p:nvPr/>
        </p:nvSpPr>
        <p:spPr>
          <a:xfrm>
            <a:off x="108576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0A7B98-A1FA-427E-8096-890AEEC65D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BA7A99-46CC-461D-84F8-9AE9B62FA8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8A32FBF-1008-49B6-AA45-C2E27492D8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8576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4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46" name="Picture 2" descr=""/>
          <p:cNvPicPr/>
          <p:nvPr/>
        </p:nvPicPr>
        <p:blipFill>
          <a:blip r:embed="rId1"/>
          <a:stretch/>
        </p:blipFill>
        <p:spPr>
          <a:xfrm>
            <a:off x="3279600" y="2598840"/>
            <a:ext cx="4133880" cy="734760"/>
          </a:xfrm>
          <a:prstGeom prst="rect">
            <a:avLst/>
          </a:prstGeom>
          <a:ln w="0">
            <a:noFill/>
          </a:ln>
        </p:spPr>
      </p:pic>
      <p:sp>
        <p:nvSpPr>
          <p:cNvPr id="34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78B9E4-B9DF-419C-87C2-E978BB322B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BB6471D-9262-4561-9E3F-85EF14C4E9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2CEA15-9274-436D-B53C-1A8CCE2EA7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58A0ACC-1B5E-42C4-A589-C216B6B0C3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1"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DC6EDF-4622-48FB-889B-1EF0402C7A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F8A026-78A3-48F2-B439-2FB5F90F4C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95A649-5B07-4AA4-8E80-FF69E55D75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BCBCDE9-5C47-4B2D-A556-DFEEF3246F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B9731A-3C04-49E6-A9AA-DBE861293D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75CB46-DB5D-4C3C-AB2F-C537C4C7EB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0A1131-550C-49E0-8B01-4CADC3B02C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88"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CC3E10-53E0-4A62-89A7-EB600C131F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2"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3B2A12-2DEC-4153-8E92-A9B28617C2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15125E-0A5D-4FD9-A453-E7F8CD50B1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45B3B2-2C4D-4310-94F2-AD3979607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0"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88C8B6-1774-46CE-981C-C88B83F57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3F5A7C-F759-4302-B505-43F444B7C7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1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11" name="Picture 2" descr=""/>
          <p:cNvPicPr/>
          <p:nvPr/>
        </p:nvPicPr>
        <p:blipFill>
          <a:blip r:embed="rId1"/>
          <a:stretch/>
        </p:blipFill>
        <p:spPr>
          <a:xfrm>
            <a:off x="3279600" y="2598840"/>
            <a:ext cx="4133880" cy="734760"/>
          </a:xfrm>
          <a:prstGeom prst="rect">
            <a:avLst/>
          </a:prstGeom>
          <a:ln w="0">
            <a:noFill/>
          </a:ln>
        </p:spPr>
      </p:pic>
      <p:sp>
        <p:nvSpPr>
          <p:cNvPr id="41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1E28EE-848A-4207-9D3E-ADE0F6C6C4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16B5E0-5FAC-4FA4-A30B-6099A9E3E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7CEE36-14D7-4C1C-9EDC-8E0DD89226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5BD0C9-82A0-4D15-9D99-00F83218CA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378915-5622-4CDD-93EF-436CF30293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8A21D66-83E3-4744-ADBE-2B228A2E6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C03379-C209-481F-9A5E-8064C34B19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5F8893-045F-4B93-8B0C-5D04910BEA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D1D4A33-5FA7-4BA2-98B6-9EBB55247E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45"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0F73EB-CD69-4F7D-B267-4CF659C59D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9"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50"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9149F7-67C5-4808-951B-BB48D53C5E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4"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55"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57"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3DFCC9-AAE6-4706-AD39-D7D2E8670C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9"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A659F6-9C38-4D46-B129-1DCC5DD4DD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Rechteck 5"/>
          <p:cNvSpPr/>
          <p:nvPr/>
        </p:nvSpPr>
        <p:spPr>
          <a:xfrm>
            <a:off x="1052640" y="480708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64"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2783583-12A7-4D53-8D9E-781F4371B8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7EFBE0-2102-4161-B58B-D021128516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F38E6D7-62B3-4E27-A9FA-771BABBCF3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 store[1], stor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AA349A6-6B6A-4B78-9437-7A1CDF80C9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4C0337-E225-462C-8BFA-ACF97F1B75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85"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8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8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D40755-8D95-42EE-B584-40913E6CD5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9"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490"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9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9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1DA83A-415B-4D50-9385-2570446794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209330-E3B3-49FC-997A-69CCDC576E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0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0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7C0005-2845-4301-8C40-813847AA6E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4E33C8-FB53-433A-98DB-7E32282DB9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78874D-12FC-4BEF-824A-1570999F00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4DDE3E-C959-44F6-B5E3-A3045C609C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85760" y="262728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E2CE4D-EC14-41E9-B146-D17A9B64EE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9804B6-32BD-4B33-82C3-844C8A8A5D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2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21" name="Picture 2" descr=""/>
          <p:cNvPicPr/>
          <p:nvPr/>
        </p:nvPicPr>
        <p:blipFill>
          <a:blip r:embed="rId1"/>
          <a:stretch/>
        </p:blipFill>
        <p:spPr>
          <a:xfrm>
            <a:off x="3279600" y="2598840"/>
            <a:ext cx="4133880" cy="734760"/>
          </a:xfrm>
          <a:prstGeom prst="rect">
            <a:avLst/>
          </a:prstGeom>
          <a:ln w="0">
            <a:noFill/>
          </a:ln>
        </p:spPr>
      </p:pic>
      <p:sp>
        <p:nvSpPr>
          <p:cNvPr id="52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03B5B9A-2F33-4037-93E8-C6DE594728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5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BAAFD5-B28B-44EA-8553-7D1CAF0050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3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31" name="Picture 2" descr=""/>
          <p:cNvPicPr/>
          <p:nvPr/>
        </p:nvPicPr>
        <p:blipFill>
          <a:blip r:embed="rId1"/>
          <a:stretch/>
        </p:blipFill>
        <p:spPr>
          <a:xfrm>
            <a:off x="3279600" y="2598840"/>
            <a:ext cx="4133880" cy="734760"/>
          </a:xfrm>
          <a:prstGeom prst="rect">
            <a:avLst/>
          </a:prstGeom>
          <a:ln w="0">
            <a:noFill/>
          </a:ln>
        </p:spPr>
      </p:pic>
      <p:sp>
        <p:nvSpPr>
          <p:cNvPr id="53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E49067-7150-42F0-8E59-D352222BA3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36"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35CFDB2-9D2C-416E-83AE-19F435B5E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90AC7C-5AD9-46A4-90D0-BAD70288CD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38C5FB-C44F-4443-977C-384A8F39E4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583AF1-B0BA-4834-BF3E-03E3F1070E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0"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5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133C3D-7CB3-47AA-BBCB-4CC3BBAF2C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3" name=""/>
          <p:cNvGraphicFramePr/>
          <p:nvPr/>
        </p:nvGraphicFramePr>
        <p:xfrm>
          <a:off x="1052640" y="1905120"/>
          <a:ext cx="9190080" cy="1631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2-12-09T11:48:44Z</dcterms:modified>
  <cp:revision>698</cp:revision>
  <dc:subject/>
  <dc:title>Agena Language Summary</dc:title>
</cp:coreProperties>
</file>