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27EC7-9ADA-4CFF-B974-15FB87B66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FF50A-B879-44B4-B7CC-D84EA4046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057E4B-F763-4935-B0EE-B18DFA6A5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9B6244-8319-4636-9438-130738A94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338DA-6572-43BE-B829-A8F96E676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798E00-F97D-4022-8A6E-4B9F49BD1C0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3221F95-80CB-4A75-A515-91616620EB7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7F22F9C-683F-42DA-A81C-4AD2547B2C0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8ACB4D6-4099-4BA3-ACF1-FCE9CFD8551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038EB3D6-0B5D-4F59-899D-0593BB3820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DDA9F-EBC2-4489-B63C-FCE53D3CD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926A8E4-4D7A-44FE-9123-2C3536530FF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07FDC2C-6473-494C-BDFA-2959675FD50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43A955E-C45D-4167-86C4-715CEB2B436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95C7284-4D97-4D81-89DE-096CD9D7EFB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8F0316A-B940-4B5D-8E5B-A4CB347BD9E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E76464D-8E5E-498D-BB50-3C9CA5CA827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D8DF637-F211-4178-BBC6-E9B97D577E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1C941-68CA-4F90-A590-58FC23AEC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FC981-CAE2-4402-BEEA-141C1ACDF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B05C4-C3E6-4A29-A847-6F84782EE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6DBC9-B5A8-40B9-90D6-F107628A4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356DB-49F7-4822-A1C8-59FF2B43E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1C1F9-4579-4164-9919-F4741A25F5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300F1-336F-459D-A628-6758708AE236}"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91683-7C4E-4EA9-9DE3-C486DFD979C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EF594-B49E-44D6-8EE9-2D3376C138D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F7F63-12C8-495D-A350-4F6BE08A328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99124-D5C6-4A8B-836E-3525CFB6105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6DE06-EA48-46B3-8749-222E6DA43E0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487FA-85E4-4348-B5D8-57D26E703A9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FF37F-A250-4011-99DC-F56C9E180AA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EDF00-C01F-4A89-A5C1-A460D3110FA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D4E81-521C-476C-AD25-A837C8928D4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C10FA-192E-4EC6-927D-AC6F094F922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Linux, DO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50C42-306A-4801-AE12-45DC71B1EE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85C14-8AF2-4D78-82E0-514B090B87A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C902C-FFB2-479B-99A8-B390EDDE9AC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903B0-8212-4CDE-B1C6-0A7A9C9DF37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8C318-CE44-4D9B-86BC-1C05820572A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F0C90-2D2D-4F86-9994-F4FAF958F1A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B1270-948B-45A0-A565-3499FC3B07D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BBE8D-CAAD-450C-8D4F-FB6204E96A9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7F46F-CC72-4B67-A8C1-A5C98CB43CE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FF691-64B4-476D-90D1-7A8AF4CF985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2A09A-1FCC-4F12-864F-937A74C6E1E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B7AFA-56A9-411B-92C9-F35FAB72B68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F4073-1FFE-47EE-813A-98C72389E22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E1F09-BF52-41F8-86B6-FC070E56C2D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009CD-F657-463C-9E84-05EA97843CE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67"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68"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7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 descr=""/>
          <p:cNvPicPr/>
          <p:nvPr/>
        </p:nvPicPr>
        <p:blipFill>
          <a:blip r:embed="rId1"/>
          <a:stretch/>
        </p:blipFill>
        <p:spPr>
          <a:xfrm>
            <a:off x="2805120" y="2357280"/>
            <a:ext cx="3533760" cy="667080"/>
          </a:xfrm>
          <a:prstGeom prst="rect">
            <a:avLst/>
          </a:prstGeom>
          <a:ln w="0">
            <a:noFill/>
          </a:ln>
        </p:spPr>
      </p:pic>
      <p:sp>
        <p:nvSpPr>
          <p:cNvPr id="272"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s &amp; is Operator</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s</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2E4A8-AA0C-45C1-978A-C3A1EDB80EE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77"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s 1 &lt; 2 then 'valid' else 'invalid' s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4F4A7-47A9-438A-92E0-5992FC99D4F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A9DF8-C09B-4CB4-B5F4-259673F0402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7"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8" name="Picture 2" descr=""/>
          <p:cNvPicPr/>
          <p:nvPr/>
        </p:nvPicPr>
        <p:blipFill>
          <a:blip r:embed="rId1"/>
          <a:stretch/>
        </p:blipFill>
        <p:spPr>
          <a:xfrm>
            <a:off x="2805120" y="2357280"/>
            <a:ext cx="3533760" cy="667080"/>
          </a:xfrm>
          <a:prstGeom prst="rect">
            <a:avLst/>
          </a:prstGeom>
          <a:ln w="0">
            <a:noFill/>
          </a:ln>
        </p:spPr>
      </p:pic>
      <p:sp>
        <p:nvSpPr>
          <p:cNvPr id="289"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2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14707-7EAD-4988-9C68-63EB775CD87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32304-98EA-4CB8-82AD-581F612195D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72E7B-0286-4655-B753-5BC1817EA1F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DA431-4993-49D3-A8AC-3C6C8B667D6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03"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0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60894-CA76-44F4-B5DC-C57316B36B3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2D6D7-491C-4D8A-A95F-5B0D61DFA7E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AF739-C2C8-4CA5-81DD-77B4BE270F6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46958-7C28-43D0-AE15-A92B1CDAB04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2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20F0E-6388-46E6-9B48-9B010E4D15A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2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3B4B6-5F81-4CA1-AEBF-51BFB496995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8FEAD-6E49-425F-A85B-E809257E585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DD39E-51FB-48EC-B7BF-FCBF774BBB5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747F6-AFFE-4C35-A282-79F43AEA9E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3744E-FAAC-46BA-B28D-D40C28F5193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39"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2" descr=""/>
          <p:cNvPicPr/>
          <p:nvPr/>
        </p:nvPicPr>
        <p:blipFill>
          <a:blip r:embed="rId1"/>
          <a:stretch/>
        </p:blipFill>
        <p:spPr>
          <a:xfrm>
            <a:off x="2805120" y="2357280"/>
            <a:ext cx="3533760" cy="667080"/>
          </a:xfrm>
          <a:prstGeom prst="rect">
            <a:avLst/>
          </a:prstGeom>
          <a:ln w="0">
            <a:noFill/>
          </a:ln>
        </p:spPr>
      </p:pic>
      <p:sp>
        <p:nvSpPr>
          <p:cNvPr id="341"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D48EA-6EB6-412D-A727-EF30CB89A08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46"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22D37-856C-4E97-BAD1-0FD80D16EE5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B207B-5013-4F48-8DF1-85FBF613D79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B3B58-87D3-408A-A6A9-1DFA16E3A3E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A28CE-9DC6-46D9-A48E-24C924C4F5D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80A98-4A97-4768-A0FB-0A3B1B57A1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A58D8-17E2-42AE-B450-CFB954AF560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7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FBD9C-97A7-4F19-88AF-9E29B8AAA62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75"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BF50D-116A-45A2-9C50-66BAE471ED8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hteck 5"/>
          <p:cNvSpPr/>
          <p:nvPr/>
        </p:nvSpPr>
        <p:spPr>
          <a:xfrm>
            <a:off x="900000" y="207324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A00B1-5F15-4242-9AEE-25CDF8EECA5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3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39A16-AE08-44FA-91FE-050445DBC83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3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1155C-4992-4128-A697-018D696E8A3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3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3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F8927-6289-4AE9-8A22-FCD1EE8DFF8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9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2" descr=""/>
          <p:cNvPicPr/>
          <p:nvPr/>
        </p:nvPicPr>
        <p:blipFill>
          <a:blip r:embed="rId1"/>
          <a:stretch/>
        </p:blipFill>
        <p:spPr>
          <a:xfrm>
            <a:off x="2805120" y="2357280"/>
            <a:ext cx="3533760" cy="667080"/>
          </a:xfrm>
          <a:prstGeom prst="rect">
            <a:avLst/>
          </a:prstGeom>
          <a:ln w="0">
            <a:noFill/>
          </a:ln>
        </p:spPr>
      </p:pic>
      <p:sp>
        <p:nvSpPr>
          <p:cNvPr id="39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16ABA-1977-4D64-AF9E-144BAE43503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0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C19EB-8CA2-4342-97B7-E24DA07D5D5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0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2" descr=""/>
          <p:cNvPicPr/>
          <p:nvPr/>
        </p:nvPicPr>
        <p:blipFill>
          <a:blip r:embed="rId1"/>
          <a:stretch/>
        </p:blipFill>
        <p:spPr>
          <a:xfrm>
            <a:off x="2805120" y="2357280"/>
            <a:ext cx="3533760" cy="667080"/>
          </a:xfrm>
          <a:prstGeom prst="rect">
            <a:avLst/>
          </a:prstGeom>
          <a:ln w="0">
            <a:noFill/>
          </a:ln>
        </p:spPr>
      </p:pic>
      <p:sp>
        <p:nvSpPr>
          <p:cNvPr id="40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14048-60F3-4882-BDB1-5251432EFB9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0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amp;&am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with</a:t>
            </a:r>
            <a:r>
              <a:rPr b="0" lang="en-GB" sz="2000" spc="-1" strike="noStrike">
                <a:solidFill>
                  <a:srgbClr val="000000"/>
                </a:solidFill>
                <a:latin typeface="Arial"/>
                <a:ea typeface="Arial"/>
              </a:rPr>
              <a:t> or </a:t>
            </a:r>
            <a:r>
              <a:rPr b="0" lang="en-GB" sz="1800" spc="-1" strike="noStrike">
                <a:solidFill>
                  <a:srgbClr val="000000"/>
                </a:solidFill>
                <a:latin typeface="Courier New"/>
                <a:ea typeface="Courier New"/>
              </a:rPr>
              <a:t>readlib</a:t>
            </a:r>
            <a:r>
              <a:rPr b="0" lang="en-GB" sz="2000" spc="-1" strike="noStrike">
                <a:solidFill>
                  <a:srgbClr val="000000"/>
                </a:solidFill>
                <a:latin typeface="Arial"/>
                <a:ea typeface="Arial"/>
              </a:rPr>
              <a:t> functions, e.g. </a:t>
            </a:r>
            <a:r>
              <a:rPr b="0" lang="en-GB" sz="1800" spc="-1" strike="noStrike">
                <a:solidFill>
                  <a:srgbClr val="000000"/>
                </a:solidFill>
                <a:latin typeface="Courier New"/>
                <a:ea typeface="Courier New"/>
              </a:rPr>
              <a:t>with 'calc'</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CD3C2-9703-4DC8-9B95-D2FDEFE87CB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319EE-8A65-4C0C-8A04-F0E78E2430D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E1409-4F4C-471F-A465-97AEBE1D87B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0" name=""/>
          <p:cNvGraphicFramePr/>
          <p:nvPr/>
        </p:nvGraphicFramePr>
        <p:xfrm>
          <a:off x="900000" y="1727280"/>
          <a:ext cx="7858080" cy="25606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99282-7FDA-425E-8CC0-A7655802112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03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2BA87-F364-439B-BE54-D331B25A1D5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28" name="Picture 2" descr="Manual"/>
          <p:cNvPicPr/>
          <p:nvPr/>
        </p:nvPicPr>
        <p:blipFill>
          <a:blip r:embed="rId1"/>
          <a:stretch/>
        </p:blipFill>
        <p:spPr>
          <a:xfrm>
            <a:off x="6143760" y="1643040"/>
            <a:ext cx="2857320" cy="2143080"/>
          </a:xfrm>
          <a:prstGeom prst="rect">
            <a:avLst/>
          </a:prstGeom>
          <a:ln w="0">
            <a:noFill/>
          </a:ln>
        </p:spPr>
      </p:pic>
      <p:pic>
        <p:nvPicPr>
          <p:cNvPr id="42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Windows, and Mac OS X, the respective installer automatically installs and sets up Agena. 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version is included in the manual.</a:t>
            </a:r>
            <a:endParaRPr b="0" lang="en-US" sz="20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gena has been compiled successfully in OS/2 and Haiku in the past.</a:t>
            </a:r>
            <a:endParaRPr b="0" lang="en-US" sz="1800" spc="-1" strike="noStrike">
              <a:solidFill>
                <a:srgbClr val="000000"/>
              </a:solidFill>
              <a:latin typeface="Calibri"/>
            </a:endParaRPr>
          </a:p>
          <a:p>
            <a:pPr marL="343080" indent="-343080">
              <a:lnSpc>
                <a:spcPct val="100000"/>
              </a:lnSpc>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3FF1F-E67E-49D8-BCEE-1782C6A6142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76C28-AC81-4A2B-81AF-D30A7F507E3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412272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3-12-29T21:45:21Z</dcterms:modified>
  <cp:revision>444</cp:revision>
  <dc:subject/>
  <dc:title>Agena Language Summary</dc:title>
</cp:coreProperties>
</file>