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9EEE4-9427-4C7E-9436-371034EAD9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0954A0-D794-48E2-ABE2-2B1CD3171C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89794-0410-46FD-AB02-0867BD815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52EEB6-3CE0-4ABF-AB77-5D0C05534A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DF2123-D109-4584-83A2-C577CFCAE0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44F82-A5DB-42E5-ABBA-C4BA6AD1B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7F743-BBD2-487B-854D-F05DDBC71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4F480-6946-4919-BB79-AB4F499AA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A79EF-7083-4C83-82CB-84CE2C7E3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ACBE4-65E9-4301-A48B-C3839B123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F6C97-6CC0-479F-B590-40D0E1986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A38D1-1D82-4E46-9369-211A709CC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4FB78-5E26-4085-93CF-FADB844EB4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FB818-6625-468A-B0CD-55928D9F75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6"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67"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68"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sp>
        <p:nvSpPr>
          <p:cNvPr id="69"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0"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1"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2" name=""/>
          <p:cNvSpPr/>
          <p:nvPr/>
        </p:nvSpPr>
        <p:spPr>
          <a:xfrm>
            <a:off x="4267080" y="4572000"/>
            <a:ext cx="213372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73"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4"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75"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76"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638680" y="6248520"/>
            <a:ext cx="990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
          <p:cNvCxnSpPr>
            <a:stCxn id="73" idx="2"/>
            <a:endCxn id="84" idx="1"/>
          </p:cNvCxnSpPr>
          <p:nvPr/>
        </p:nvCxnSpPr>
        <p:spPr>
          <a:xfrm flipH="1" flipV="1" rot="10800000">
            <a:off x="684720" y="2818080"/>
            <a:ext cx="686520" cy="2553120"/>
          </a:xfrm>
          <a:prstGeom prst="bentConnector3">
            <a:avLst>
              <a:gd name="adj1" fmla="val -33315"/>
            </a:avLst>
          </a:prstGeom>
          <a:ln w="9360">
            <a:solidFill>
              <a:srgbClr val="000000"/>
            </a:solidFill>
            <a:miter/>
            <a:tailEnd len="med" type="triangle" w="med"/>
          </a:ln>
        </p:spPr>
      </p:cxnSp>
      <p:cxnSp>
        <p:nvCxnSpPr>
          <p:cNvPr id="85" name=""/>
          <p:cNvCxnSpPr>
            <a:stCxn id="74" idx="1"/>
            <a:endCxn id="73"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86"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87"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
        <p:nvSpPr>
          <p:cNvPr id="84" name=""/>
          <p:cNvSpPr/>
          <p:nvPr/>
        </p:nvSpPr>
        <p:spPr>
          <a:xfrm>
            <a:off x="1371600" y="5029200"/>
            <a:ext cx="4191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88" name=""/>
          <p:cNvSpPr/>
          <p:nvPr/>
        </p:nvSpPr>
        <p:spPr>
          <a:xfrm>
            <a:off x="1371600" y="5867280"/>
            <a:ext cx="4267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Charles Crouch</cp:lastModifiedBy>
  <dcterms:modified xsi:type="dcterms:W3CDTF">2005-04-14T14:21:23Z</dcterms:modified>
  <cp:revision>45</cp:revision>
  <dc:subject/>
  <dc:title>JBN Admin</dc:title>
</cp:coreProperties>
</file>