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55B1-973F-4C32-BCAC-A7BE0387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835-CF44-47A7-B280-EBC3CEA0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7EBE-260F-46B6-AE10-7CBCBD6D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AA62-AEA6-4202-8D35-BED79A42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1EF9-75A2-4976-94BB-61ADF7EF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9E93-FF42-4786-BF19-FF908671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AEF5-BAD9-48F4-9BF6-3DF68CA5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6CD-A475-43C0-A8D2-D58AC0F9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5B5D-C3FF-4697-BB7E-5EE9A784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0B8-D69B-4397-B32D-77AA173A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C38B-1984-4821-950E-2FE6A607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D1D8-EE20-4784-B1BF-559ADC2D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AF5E-AF16-46D0-84D0-B1A8811DB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5-05-15T05:31:27Z</dcterms:modified>
  <cp:revision>5</cp:revision>
  <dc:subject/>
  <dc:title>Слайд 1</dc:title>
</cp:coreProperties>
</file>