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FC9-0482-457D-9F1F-BF177B00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6C4-B470-4817-ABD8-F62C25F2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EAD-58A1-4E99-88CA-436C0237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F71-397E-455B-A9FC-0A71D0A2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43A-46B5-4A80-8258-6786A906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957-40AF-4156-A9CA-0EC3684B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B1A-C978-47DA-B4D8-143D1D8F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699-6FB5-4AB4-8448-8CF2D6F1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D2F-6D6E-4191-80B5-308640DA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6BF-1D50-4C0F-9C80-3EEF72BB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7F1-53DE-43B8-8EE1-8C541618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302-AE29-45C5-972D-F6F361D6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1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E0CD8FE-B7DF-4AB3-9962-ED5F8424D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3040" y="3886200"/>
            <a:ext cx="6397920" cy="175248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H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33360"/>
            <a:ext cx="606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37440" y="333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ff33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9999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9999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632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280" y="6329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08:25:05Z</dcterms:created>
  <dc:creator>Alexey Zhilin</dc:creator>
  <dc:description/>
  <dc:language>en-US</dc:language>
  <cp:lastModifiedBy>Alexey Zhilin</cp:lastModifiedBy>
  <dcterms:modified xsi:type="dcterms:W3CDTF">2004-07-21T14:36:58Z</dcterms:modified>
  <cp:revision>66</cp:revision>
  <dc:subject/>
  <dc:title>Header of the slide</dc:title>
</cp:coreProperties>
</file>