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79F-6496-4BDB-8C24-7F60D940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415-2912-440B-994C-78DB10C4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E12-12AD-43BB-8067-9F2E581A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99A-1EFF-495C-83E3-31BD8956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EC5-4E8F-4293-9248-25E3B0A8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543-A5CE-4F6D-BB83-27B6A769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99B-BD6F-45A2-A455-ECD9F69B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26D-64A7-48F7-8842-E51ECD1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B0C-4489-43D2-8328-174CAAF2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2F5-0CE0-47A2-9612-AB52B4BF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152-6A15-4599-A6AD-51444D9B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DC2-B2B0-4D65-A87D-1E2F1FB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869D-568E-4230-A98E-5F00EA39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crus</cp:lastModifiedBy>
  <dcterms:modified xsi:type="dcterms:W3CDTF">2006-02-15T18:39:04Z</dcterms:modified>
  <cp:revision>5</cp:revision>
  <dc:subject/>
  <dc:title>Слайд 1</dc:title>
</cp:coreProperties>
</file>