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727562"/>
        <c:axId val="13400252"/>
      </c:barChart>
      <c:catAx>
        <c:axId val="807275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00252"/>
        <c:crosses val="autoZero"/>
        <c:auto val="1"/>
        <c:lblAlgn val="ctr"/>
        <c:lblOffset val="100"/>
        <c:noMultiLvlLbl val="0"/>
      </c:catAx>
      <c:valAx>
        <c:axId val="134002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275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4CBC-7970-4AC1-8AC7-1EC2BBF5F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BA0B-1F39-4D11-AC1B-D2D9543A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A2E5-013D-4C18-8F70-52AC6E5FA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1898-E0B5-42C6-8EE3-43E209C4E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E71B-B8E6-47B6-8334-913B0C52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951E-36B5-41DE-9D87-2211B53D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7FCB-09BC-40DD-9DA4-F15ABF62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36CE-7ABA-4B5F-9537-B4F56165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C7F8-730A-48B1-BA20-E84AEAF4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FA4A-E4A9-422F-BFDA-DFB1C6A3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E785-D65F-4699-877C-4EF56930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7C13-334E-4F16-ACFB-EDE4D5FE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A689D-F828-4991-A906-693906B662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