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14045"/>
        <c:axId val="80063100"/>
      </c:barChart>
      <c:catAx>
        <c:axId val="55614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63100"/>
        <c:crosses val="autoZero"/>
        <c:auto val="1"/>
        <c:lblAlgn val="ctr"/>
        <c:lblOffset val="100"/>
        <c:noMultiLvlLbl val="0"/>
      </c:catAx>
      <c:valAx>
        <c:axId val="80063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4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B55-D852-4288-B8EE-2C900041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90C-3228-4563-A3B2-55410414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D5A-5D88-4903-8569-5F5F73E4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583-BB2A-4338-92A7-EE4F075E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3F4-76A3-44C7-A7D3-4E9DB0F0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F5F-DB14-4D1D-BE5B-C715098E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A9F-418B-4E80-9E92-6C12B3B6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7D7-769D-4C0C-B164-D04CC574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3D9-952E-4B32-9FEC-CAC1A7A6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244-CB5A-4D73-992F-3B5CD33A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74D-15BB-469D-AD42-9CCB7EFC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5C9-1EAD-4D41-9A22-1C7CD45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3CD10-6B79-4A2E-836B-DF876AB3C4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