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396231"/>
        <c:axId val="43466812"/>
      </c:barChart>
      <c:catAx>
        <c:axId val="893962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466812"/>
        <c:crosses val="autoZero"/>
        <c:auto val="1"/>
        <c:lblAlgn val="ctr"/>
        <c:lblOffset val="100"/>
        <c:noMultiLvlLbl val="0"/>
      </c:catAx>
      <c:valAx>
        <c:axId val="434668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3962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CDDF-1D99-4CBE-AE5D-24C583549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9C02-3227-416A-A609-2C6A011ED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594B-3045-4046-9EB6-D15AD4D95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1A34-DF7D-4513-9F91-470B0B7F7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C2E0-3AD1-4BC7-B779-B90B665C1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D6F7-7D67-4312-BBB9-E9F6F092C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86CF-7FFA-4DEB-87DC-3348666AD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1218-26F4-47C5-9E2E-5966C0DAD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12DF-82A6-4D92-BA58-266D2BAC4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B11B-4DDF-4933-AFC9-86D1DC24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E2CC-C9B3-4E17-96CA-40A23B42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4732-6D31-4A78-8F10-395051331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8A3A94-1EF4-46C8-B73D-889319726FE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