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5478476"/>
        <c:axId val="44815052"/>
      </c:barChart>
      <c:catAx>
        <c:axId val="7547847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815052"/>
        <c:crosses val="autoZero"/>
        <c:auto val="1"/>
        <c:lblAlgn val="ctr"/>
        <c:lblOffset val="100"/>
        <c:noMultiLvlLbl val="0"/>
      </c:catAx>
      <c:valAx>
        <c:axId val="4481505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47847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3217D-26C5-4E98-997A-61BF420A3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D9B75-EFBF-4685-8582-C8B1160E4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92888-82B3-4A0A-B4CC-B0A799E3C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7E5D3-27A6-4D7E-AC4C-5E376AA90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FDBE7-D8FD-45A0-BDD0-7CC68144E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D4D9B-F949-42F0-B9F8-3124C86AC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A9FF2-B078-4507-B6D7-4BEA5A5B6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AB5E9-E9AD-45F1-9FE9-BE0E0A300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9F353-2637-48A5-8AF8-21E8A06D5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77C48-6118-429D-A269-6E0C15861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1824A-00E7-4DD0-AEB7-1122CAC5F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867B6-797F-42B4-A357-9403311AF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7EF9CA-93C4-4F7A-91AB-FE2138DFA7F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