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11637"/>
        <c:axId val="68449325"/>
      </c:barChart>
      <c:catAx>
        <c:axId val="137116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49325"/>
        <c:crosses val="autoZero"/>
        <c:auto val="1"/>
        <c:lblAlgn val="ctr"/>
        <c:lblOffset val="100"/>
        <c:noMultiLvlLbl val="0"/>
      </c:catAx>
      <c:valAx>
        <c:axId val="684493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116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A898-68B5-4A38-AA14-5D062384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7426-A9DF-4760-9ED5-A40E94DD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57F0-64A9-4CDB-94FD-9321FA7A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F5CF-FDEA-4711-A0FA-CA04C09A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331-2613-437A-9EF5-04E6BBAF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8076-A931-444C-A724-E3DBB815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DD4E-BBD3-4CED-B95E-061DB65F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53D2-BA98-46F2-8998-08E8B255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1EE1-9400-49D8-AAF6-898104D9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AF66-4CB4-4DAA-A823-ED6A753E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934F-D843-4F32-A2C1-151313F0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F017-B969-47A6-A1B7-14D8FCAB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98F48-38E1-4B87-B2B8-044135159E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