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9294813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92952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3"/>
          </p:nvPr>
        </p:nvSpPr>
        <p:spPr>
          <a:xfrm>
            <a:off x="5265720" y="-36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2933280" y="514440"/>
            <a:ext cx="3429000" cy="2571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4"/>
          </p:nvPr>
        </p:nvSpPr>
        <p:spPr>
          <a:xfrm>
            <a:off x="0" y="651312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5"/>
          </p:nvPr>
        </p:nvSpPr>
        <p:spPr>
          <a:xfrm>
            <a:off x="5265720" y="651312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6FEEE-6F01-4C64-AAA4-554FF2F53A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’ll be doing the power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greg and I will be assisting you with the l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06668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36912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601560" y="6486120"/>
            <a:ext cx="811872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8103E338-43DD-4C0C-9A83-5C6C9B5ECCEA}" type="slidenum">
              <a:rPr b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8160" y="-4680"/>
            <a:ext cx="1550880" cy="960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5176440" y="6477120"/>
            <a:ext cx="3853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740640" y="111240"/>
            <a:ext cx="2332080" cy="14446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JBoss ON the Road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218960" y="3429000"/>
            <a:ext cx="64767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JBoss Operations Networ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raining – Jan/Feb 2006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troduction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harles Crouch (JBoss, Inc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oss Operations Network team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ead open source admin consol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troduction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Greg Hinkle (JBoss, Inc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oss Operations Network team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ead of numerous open source project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MC4J, JarJunkie, Carbon and Chire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troduction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95080" y="1371600"/>
            <a:ext cx="8001000" cy="49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ohn Mazzitelli (JBoss, Inc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oss Operations Network team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Material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veryone should have a CD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rom the CD you will need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inary JBoss Operations Network distribution for the O/S you are running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icense.xm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icense.pdf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opy the files to a temporary directory on your laptop, but *DON’T* start installing!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d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95080" y="1311120"/>
            <a:ext cx="8001000" cy="49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450720" indent="-4507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JBoss ON overview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JBoss ON architecture and feature-se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JBoss ON installation and configuratio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71560" indent="-4186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Lab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8715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reak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JBoss ON Portal overview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71560" indent="-4186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Lab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8715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onitoring JBoss AS with JBoss O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71560" indent="-4186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Lab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9T13:38:31Z</dcterms:created>
  <dc:creator>ghinkle</dc:creator>
  <dc:description/>
  <dc:language>en-US</dc:language>
  <cp:lastModifiedBy>John Mazzitelli</cp:lastModifiedBy>
  <dcterms:modified xsi:type="dcterms:W3CDTF">2006-01-20T18:54:51Z</dcterms:modified>
  <cp:revision>80</cp:revision>
  <dc:subject/>
  <dc:title>JBN Enterprise Management</dc:title>
</cp:coreProperties>
</file>