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5272200" y="-36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898720" y="525240"/>
            <a:ext cx="351000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666540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5272200" y="666540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EAC159-4C93-4D5A-B286-E40DB3DCA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 for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capabilities described are available today, but those that aren’t are on the road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ustomers decide which software to be notified about, e.g. new Portal, new J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ropriate patches sent directly to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ustomers who register their running software will get alerts when patches affecting them are shipped. Patches will be downloaded and ready to a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oftware distributed is certified, tested with stated product 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tners/ISV’s/Customers will be able to connect to the network and use it as a delivery mechanism for their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asp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 enabled by the JON server, training today on this. Detail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 ON Server will allow configuration of JBoss AS through UI or 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will support applying patches or rolling out new versions of software received from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oint of access for info on JEMS products, no need to search many sources separa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tion of updates and patches, know about issues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the JBoss ON Server as a tool to apply patches and roll out new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Servere allows for administering JEMS products more easily, reducing manu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problems organizations have managing I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that pain be hel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 solution of offering integrated support through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vey we conducted found a number of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 information is gathered reactively, rather than proa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lications typically pass through a number of environments, meaning lots of maintenance and synchr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at synchronization is typically done manually, rather than using any 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looked at the respondents IT processes we usually saw some variation of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velopment needing up to date to patch/releas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ts of environments needing to be kept in sync (Dev, QA, Pr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ts of different people with responsibilities for those environment, potentially using different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more pain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nding defects in production is expensive (surprise), better to be alerted to a fix for a vendor defect in 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cesses are people intensive, needs to be more autom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st, obviously hardware, licenses (if you’re not using JBoss!),  also peoples time spent migrating applications/synchronizing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ed to address the pain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me up with concept of “Integrated Suppo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pport should do more than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uld connect customers and partners and the community in a way which eases the IT 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s vision is to enable integrated support using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: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keys parts of JBos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Access: Letting people access information in a easier way than browsing the for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Distribution: Getting patches and new versions of software delivered, rather than dl from sf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: Allow server updates and environment sync to be done without manually updating XML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Portal: Available at network.jbo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has search, can manage support cases, subscribe to receive updates on bugs, new ver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1C30C810-9293-46EC-AAEE-BFA0586670CC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E31D-7B5B-4FF6-99F2-A9FADD19BFE7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2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28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4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10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2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3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2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2.png"/><Relationship Id="rId15" Type="http://schemas.openxmlformats.org/officeDocument/2006/relationships/image" Target="../media/image8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d Support through Knowledge Access, Software Distribution and Application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ftware Distribu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1399680"/>
            <a:ext cx="39240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ware distribution defined by customer rule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es delivered automatically based on customer system registr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twork Package Repository available for query via command line and conso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cal Repository can be used to package and manage updates to enterprise application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362480" y="1871640"/>
            <a:ext cx="4686480" cy="3949560"/>
            <a:chOff x="4362480" y="1871640"/>
            <a:chExt cx="4686480" cy="3949560"/>
          </a:xfrm>
        </p:grpSpPr>
        <p:sp>
          <p:nvSpPr>
            <p:cNvPr id="270" name=""/>
            <p:cNvSpPr/>
            <p:nvPr/>
          </p:nvSpPr>
          <p:spPr>
            <a:xfrm rot="5400000">
              <a:off x="7034040" y="3128760"/>
              <a:ext cx="1206360" cy="1339920"/>
            </a:xfrm>
            <a:prstGeom prst="blockArc">
              <a:avLst>
                <a:gd name="adj1" fmla="val 13673248"/>
                <a:gd name="adj2" fmla="val 18726752"/>
                <a:gd name="adj3" fmla="val 1069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790040" y="3571920"/>
              <a:ext cx="437760" cy="514440"/>
              <a:chOff x="7790040" y="3571920"/>
              <a:chExt cx="437760" cy="514440"/>
            </a:xfrm>
          </p:grpSpPr>
          <p:sp>
            <p:nvSpPr>
              <p:cNvPr id="272" name=""/>
              <p:cNvSpPr/>
              <p:nvPr/>
            </p:nvSpPr>
            <p:spPr>
              <a:xfrm>
                <a:off x="7930800" y="3725640"/>
                <a:ext cx="185040" cy="209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56000" y="3750120"/>
                <a:ext cx="137880" cy="16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4" name=""/>
              <p:cNvGrpSpPr/>
              <p:nvPr/>
            </p:nvGrpSpPr>
            <p:grpSpPr>
              <a:xfrm>
                <a:off x="7790040" y="3571920"/>
                <a:ext cx="437760" cy="514440"/>
                <a:chOff x="7790040" y="3571920"/>
                <a:chExt cx="437760" cy="5144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056800" y="3617280"/>
                  <a:ext cx="42480" cy="10044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103960" y="3663720"/>
                  <a:ext cx="99360" cy="9612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38160" y="3773160"/>
                  <a:ext cx="74520" cy="3780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39600" y="3833280"/>
                  <a:ext cx="88200" cy="36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111880" y="3893400"/>
                  <a:ext cx="87120" cy="9504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3935880"/>
                  <a:ext cx="55440" cy="9612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35120" y="3615480"/>
                  <a:ext cx="43920" cy="10044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45120" y="3675600"/>
                  <a:ext cx="90000" cy="8604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822800" y="3774960"/>
                  <a:ext cx="85680" cy="43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90040" y="3835080"/>
                  <a:ext cx="109080" cy="3924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858800" y="3902040"/>
                  <a:ext cx="63360" cy="6408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919640" y="3944160"/>
                  <a:ext cx="53640" cy="9612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99920" y="3571920"/>
                  <a:ext cx="37080" cy="12240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04240" y="3965040"/>
                  <a:ext cx="33120" cy="12132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5975280" y="3309840"/>
              <a:ext cx="897120" cy="9460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78520" y="3254400"/>
              <a:ext cx="889920" cy="1044000"/>
              <a:chOff x="5978520" y="3254400"/>
              <a:chExt cx="889920" cy="1044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264720" y="3566520"/>
                <a:ext cx="376200" cy="425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15840" y="3616200"/>
                <a:ext cx="280440" cy="33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3" name=""/>
              <p:cNvGrpSpPr/>
              <p:nvPr/>
            </p:nvGrpSpPr>
            <p:grpSpPr>
              <a:xfrm>
                <a:off x="5978520" y="3254400"/>
                <a:ext cx="889920" cy="1044000"/>
                <a:chOff x="5978520" y="3254400"/>
                <a:chExt cx="889920" cy="1044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520680" y="3346560"/>
                  <a:ext cx="86400" cy="204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616440" y="3441240"/>
                  <a:ext cx="201960" cy="19548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686280" y="3663360"/>
                  <a:ext cx="151560" cy="7704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688800" y="3785040"/>
                  <a:ext cx="179640" cy="7380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33000" y="3907080"/>
                  <a:ext cx="177120" cy="19296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545520" y="3993120"/>
                  <a:ext cx="112680" cy="19548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73360" y="3342960"/>
                  <a:ext cx="89640" cy="204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90480" y="3465000"/>
                  <a:ext cx="182880" cy="17496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45120" y="3666600"/>
                  <a:ext cx="174600" cy="88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978520" y="3788640"/>
                  <a:ext cx="221760" cy="7992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118560" y="3924360"/>
                  <a:ext cx="129240" cy="1303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42040" y="4010760"/>
                  <a:ext cx="109440" cy="19548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05480" y="3254400"/>
                  <a:ext cx="75600" cy="24876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413760" y="4052160"/>
                  <a:ext cx="67320" cy="24624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5935320" y="40957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5311440" y="2676600"/>
              <a:ext cx="1855800" cy="2011320"/>
            </a:xfrm>
            <a:prstGeom prst="blockArc">
              <a:avLst>
                <a:gd name="adj1" fmla="val 13446275"/>
                <a:gd name="adj2" fmla="val 18953725"/>
                <a:gd name="adj3" fmla="val 981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34320" y="4330800"/>
              <a:ext cx="203040" cy="20304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931080" y="2903400"/>
              <a:ext cx="217440" cy="12888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27720" y="3800520"/>
              <a:ext cx="268560" cy="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32760" y="4191120"/>
              <a:ext cx="203040" cy="20304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98000" y="3803760"/>
              <a:ext cx="268200" cy="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131320" y="3273120"/>
              <a:ext cx="217440" cy="12852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5313240" y="2179080"/>
              <a:ext cx="3035160" cy="3286080"/>
            </a:xfrm>
            <a:prstGeom prst="blockArc">
              <a:avLst>
                <a:gd name="adj1" fmla="val 12497126"/>
                <a:gd name="adj2" fmla="val 19902874"/>
                <a:gd name="adj3" fmla="val 764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56960" y="5605560"/>
              <a:ext cx="5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59920" y="5153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29240" y="2933640"/>
              <a:ext cx="73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tif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77680" y="231444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871640"/>
              <a:ext cx="46512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371840" y="3971880"/>
              <a:ext cx="66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573880" y="5389200"/>
              <a:ext cx="609480" cy="219960"/>
              <a:chOff x="5573880" y="5389200"/>
              <a:chExt cx="609480" cy="219960"/>
            </a:xfrm>
          </p:grpSpPr>
          <p:cxnSp>
            <p:nvCxnSpPr>
              <p:cNvPr id="324" name=""/>
              <p:cNvCxnSpPr/>
              <p:nvPr/>
            </p:nvCxnSpPr>
            <p:spPr>
              <a:xfrm>
                <a:off x="5688720" y="5491440"/>
                <a:ext cx="3783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5" name=""/>
              <p:cNvCxnSpPr/>
              <p:nvPr/>
            </p:nvCxnSpPr>
            <p:spPr>
              <a:xfrm flipH="1" flipV="1" rot="5400000">
                <a:off x="5952240" y="5382000"/>
                <a:ext cx="23040" cy="30492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3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7388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88160" y="54176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6"/>
              <a:stretch/>
            </p:blipFill>
            <p:spPr>
              <a:xfrm rot="10800000">
                <a:off x="602784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7"/>
              <a:stretch/>
            </p:blipFill>
            <p:spPr>
              <a:xfrm rot="2700000">
                <a:off x="5736240" y="54212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0" name=""/>
            <p:cNvSpPr/>
            <p:nvPr/>
          </p:nvSpPr>
          <p:spPr>
            <a:xfrm flipH="1" flipV="1">
              <a:off x="5968800" y="2342880"/>
              <a:ext cx="88920" cy="15228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238720" y="2908440"/>
              <a:ext cx="184320" cy="13320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957560" y="3809880"/>
              <a:ext cx="245880" cy="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222880" y="4626000"/>
              <a:ext cx="239760" cy="1443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936760" y="5135400"/>
              <a:ext cx="111240" cy="2397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7391520" y="34290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9"/>
            <a:stretch/>
          </p:blipFill>
          <p:spPr>
            <a:xfrm>
              <a:off x="7086600" y="24382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173000" y="29401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93320" y="4038480"/>
              <a:ext cx="56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10"/>
            <a:stretch/>
          </p:blipFill>
          <p:spPr>
            <a:xfrm>
              <a:off x="8381880" y="3048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8610480" y="36576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8305920" y="43434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324640" y="332100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35960" y="39304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31040" y="46162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7086600" y="4419720"/>
              <a:ext cx="547560" cy="609120"/>
              <a:chOff x="7086600" y="4419720"/>
              <a:chExt cx="547560" cy="609120"/>
            </a:xfrm>
          </p:grpSpPr>
          <p:pic>
            <p:nvPicPr>
              <p:cNvPr id="34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07920" y="4419720"/>
                <a:ext cx="425880" cy="42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86600" y="4480560"/>
                <a:ext cx="547560" cy="54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8" name=""/>
            <p:cNvSpPr/>
            <p:nvPr/>
          </p:nvSpPr>
          <p:spPr>
            <a:xfrm>
              <a:off x="7274880" y="4967280"/>
              <a:ext cx="34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621320" y="2322360"/>
              <a:ext cx="686880" cy="609480"/>
              <a:chOff x="4621320" y="2322360"/>
              <a:chExt cx="686880" cy="609480"/>
            </a:xfrm>
          </p:grpSpPr>
          <p:pic>
            <p:nvPicPr>
              <p:cNvPr id="35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684680" y="2376360"/>
                <a:ext cx="55548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621320" y="2544480"/>
                <a:ext cx="229320" cy="22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43440" y="2322360"/>
                <a:ext cx="243000" cy="2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92920" y="2529720"/>
                <a:ext cx="21528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4" name="" descr=""/>
            <p:cNvPicPr/>
            <p:nvPr/>
          </p:nvPicPr>
          <p:blipFill>
            <a:blip r:embed="rId19"/>
            <a:stretch/>
          </p:blipFill>
          <p:spPr>
            <a:xfrm>
              <a:off x="4362480" y="3463920"/>
              <a:ext cx="5493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"/>
            <p:cNvGrpSpPr/>
            <p:nvPr/>
          </p:nvGrpSpPr>
          <p:grpSpPr>
            <a:xfrm>
              <a:off x="4737240" y="4692600"/>
              <a:ext cx="466560" cy="466920"/>
              <a:chOff x="4737240" y="4692600"/>
              <a:chExt cx="466560" cy="466920"/>
            </a:xfrm>
          </p:grpSpPr>
          <p:pic>
            <p:nvPicPr>
              <p:cNvPr id="35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737240" y="46926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849560" y="4832280"/>
                <a:ext cx="237600" cy="23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plication Managemen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5440" y="1274760"/>
            <a:ext cx="392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, Monitoring and Advanced manag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s JBoss AS configuration, management and supervision much more effective in large deployment scenari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ified patching, migration, update of JBoss AS nodes, clusters and dom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onal non-stop upgrade and pat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8092800" y="393552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54080" y="1720800"/>
            <a:ext cx="3799440" cy="3767760"/>
            <a:chOff x="4654080" y="1720800"/>
            <a:chExt cx="3799440" cy="3767760"/>
          </a:xfrm>
        </p:grpSpPr>
        <p:grpSp>
          <p:nvGrpSpPr>
            <p:cNvPr id="362" name=""/>
            <p:cNvGrpSpPr/>
            <p:nvPr/>
          </p:nvGrpSpPr>
          <p:grpSpPr>
            <a:xfrm>
              <a:off x="5067360" y="2174040"/>
              <a:ext cx="2892960" cy="2903040"/>
              <a:chOff x="5067360" y="2174040"/>
              <a:chExt cx="2892960" cy="2903040"/>
            </a:xfrm>
          </p:grpSpPr>
          <p:cxnSp>
            <p:nvCxnSpPr>
              <p:cNvPr id="363" name=""/>
              <p:cNvCxnSpPr>
                <a:stCxn id="364" idx="0"/>
              </p:cNvCxnSpPr>
              <p:nvPr/>
            </p:nvCxnSpPr>
            <p:spPr>
              <a:xfrm>
                <a:off x="7526160" y="3808080"/>
                <a:ext cx="349200" cy="5508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5" name=""/>
              <p:cNvCxnSpPr>
                <a:stCxn id="364" idx="1"/>
              </p:cNvCxnSpPr>
              <p:nvPr/>
            </p:nvCxnSpPr>
            <p:spPr>
              <a:xfrm flipV="1">
                <a:off x="7334280" y="2840400"/>
                <a:ext cx="308880" cy="20340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6" name=""/>
              <p:cNvCxnSpPr>
                <a:stCxn id="364" idx="2"/>
              </p:cNvCxnSpPr>
              <p:nvPr/>
            </p:nvCxnSpPr>
            <p:spPr>
              <a:xfrm flipV="1">
                <a:off x="6674760" y="2279880"/>
                <a:ext cx="79200" cy="3297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4" name=""/>
              <p:cNvSpPr/>
              <p:nvPr/>
            </p:nvSpPr>
            <p:spPr>
              <a:xfrm rot="3279000">
                <a:off x="5464080" y="2596320"/>
                <a:ext cx="2099520" cy="2057760"/>
              </a:xfrm>
              <a:prstGeom prst="blockArc">
                <a:avLst>
                  <a:gd name="adj1" fmla="val 13494928"/>
                  <a:gd name="adj2" fmla="val 18905072"/>
                  <a:gd name="adj3" fmla="val 1185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79960" y="2198160"/>
              <a:ext cx="2867760" cy="2854800"/>
              <a:chOff x="5079960" y="2198160"/>
              <a:chExt cx="2867760" cy="2854800"/>
            </a:xfrm>
          </p:grpSpPr>
          <p:cxnSp>
            <p:nvCxnSpPr>
              <p:cNvPr id="368" name=""/>
              <p:cNvCxnSpPr>
                <a:endCxn id="369" idx="0"/>
              </p:cNvCxnSpPr>
              <p:nvPr/>
            </p:nvCxnSpPr>
            <p:spPr>
              <a:xfrm>
                <a:off x="5362560" y="2912400"/>
                <a:ext cx="276480" cy="1713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0" name=""/>
              <p:cNvCxnSpPr>
                <a:stCxn id="369" idx="1"/>
              </p:cNvCxnSpPr>
              <p:nvPr/>
            </p:nvCxnSpPr>
            <p:spPr>
              <a:xfrm flipH="1" flipV="1">
                <a:off x="6212880" y="2296800"/>
                <a:ext cx="82800" cy="32364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1" name=""/>
              <p:cNvCxnSpPr>
                <a:stCxn id="369" idx="2"/>
              </p:cNvCxnSpPr>
              <p:nvPr/>
            </p:nvCxnSpPr>
            <p:spPr>
              <a:xfrm flipH="1">
                <a:off x="5195520" y="3876120"/>
                <a:ext cx="319320" cy="7452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9" name=""/>
              <p:cNvSpPr/>
              <p:nvPr/>
            </p:nvSpPr>
            <p:spPr>
              <a:xfrm rot="18110400">
                <a:off x="5484600" y="2576520"/>
                <a:ext cx="2057760" cy="2097720"/>
              </a:xfrm>
              <a:prstGeom prst="blockArc">
                <a:avLst>
                  <a:gd name="adj1" fmla="val 13413236"/>
                  <a:gd name="adj2" fmla="val 18986764"/>
                  <a:gd name="adj3" fmla="val 968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72" name=""/>
            <p:cNvCxnSpPr/>
            <p:nvPr/>
          </p:nvCxnSpPr>
          <p:spPr>
            <a:xfrm flipV="1">
              <a:off x="6059880" y="4598640"/>
              <a:ext cx="104040" cy="3222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cxnSp>
          <p:nvCxnSpPr>
            <p:cNvPr id="373" name=""/>
            <p:cNvCxnSpPr/>
            <p:nvPr/>
          </p:nvCxnSpPr>
          <p:spPr>
            <a:xfrm flipH="1" flipV="1">
              <a:off x="6950160" y="4559400"/>
              <a:ext cx="159840" cy="3060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sp>
          <p:nvSpPr>
            <p:cNvPr id="374" name=""/>
            <p:cNvSpPr/>
            <p:nvPr/>
          </p:nvSpPr>
          <p:spPr>
            <a:xfrm rot="9657600">
              <a:off x="5487480" y="2576520"/>
              <a:ext cx="2059200" cy="2098800"/>
            </a:xfrm>
            <a:prstGeom prst="blockArc">
              <a:avLst>
                <a:gd name="adj1" fmla="val 13791782"/>
                <a:gd name="adj2" fmla="val 18608218"/>
                <a:gd name="adj3" fmla="val 1116"/>
              </a:avLst>
            </a:prstGeom>
            <a:solidFill>
              <a:srgbClr val="0099cc"/>
            </a:solidFill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6981840" y="4840200"/>
              <a:ext cx="442800" cy="41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"/>
            <p:cNvGrpSpPr/>
            <p:nvPr/>
          </p:nvGrpSpPr>
          <p:grpSpPr>
            <a:xfrm>
              <a:off x="5027760" y="4233960"/>
              <a:ext cx="823680" cy="749160"/>
              <a:chOff x="5027760" y="4233960"/>
              <a:chExt cx="823680" cy="749160"/>
            </a:xfrm>
          </p:grpSpPr>
          <p:pic>
            <p:nvPicPr>
              <p:cNvPr id="3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7760" y="4233960"/>
                <a:ext cx="82368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5126040" y="4327200"/>
                <a:ext cx="598680" cy="368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372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314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32160" y="4325760"/>
                <a:ext cx="1900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26360" y="4331520"/>
                <a:ext cx="19008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3960" y="4321800"/>
                <a:ext cx="424440" cy="3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4" name=""/>
            <p:cNvSpPr/>
            <p:nvPr/>
          </p:nvSpPr>
          <p:spPr>
            <a:xfrm>
              <a:off x="7554960" y="5024520"/>
              <a:ext cx="801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42520" y="218772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53080" y="2205000"/>
              <a:ext cx="628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vanc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98240" y="471024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52240" y="5151600"/>
              <a:ext cx="703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25320" y="4948200"/>
              <a:ext cx="640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8"/>
            <a:stretch/>
          </p:blipFill>
          <p:spPr>
            <a:xfrm>
              <a:off x="6284880" y="3389400"/>
              <a:ext cx="503280" cy="49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1" name=""/>
            <p:cNvGrpSpPr/>
            <p:nvPr/>
          </p:nvGrpSpPr>
          <p:grpSpPr>
            <a:xfrm>
              <a:off x="5828760" y="2908440"/>
              <a:ext cx="1420920" cy="1421280"/>
              <a:chOff x="5828760" y="2908440"/>
              <a:chExt cx="1420920" cy="1421280"/>
            </a:xfrm>
          </p:grpSpPr>
          <p:sp>
            <p:nvSpPr>
              <p:cNvPr id="392" name=""/>
              <p:cNvSpPr/>
              <p:nvPr/>
            </p:nvSpPr>
            <p:spPr>
              <a:xfrm rot="6100200">
                <a:off x="6034680" y="311724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20422800">
                <a:off x="6035400" y="3110760"/>
                <a:ext cx="1006920" cy="100620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842800">
                <a:off x="6034680" y="3117240"/>
                <a:ext cx="1008360" cy="10029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800800">
                <a:off x="6141960" y="3238920"/>
                <a:ext cx="780480" cy="774360"/>
              </a:xfrm>
              <a:prstGeom prst="blockArc">
                <a:avLst>
                  <a:gd name="adj1" fmla="val 3002428"/>
                  <a:gd name="adj2" fmla="val 7797572"/>
                  <a:gd name="adj3" fmla="val 5662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287600">
                <a:off x="6034680" y="311688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7014200">
                <a:off x="6033960" y="3112560"/>
                <a:ext cx="1008360" cy="101232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064600">
                <a:off x="6155640" y="3227760"/>
                <a:ext cx="780480" cy="779760"/>
              </a:xfrm>
              <a:prstGeom prst="blockArc">
                <a:avLst>
                  <a:gd name="adj1" fmla="val 3024521"/>
                  <a:gd name="adj2" fmla="val 7775479"/>
                  <a:gd name="adj3" fmla="val 561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9963000">
                <a:off x="6035760" y="3111480"/>
                <a:ext cx="1004760" cy="10155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9995400">
                <a:off x="6140520" y="3215520"/>
                <a:ext cx="777960" cy="782640"/>
              </a:xfrm>
              <a:prstGeom prst="blockArc">
                <a:avLst>
                  <a:gd name="adj1" fmla="val 3025150"/>
                  <a:gd name="adj2" fmla="val 7774850"/>
                  <a:gd name="adj3" fmla="val 5875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5718600" y="5288040"/>
              <a:ext cx="65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68560" y="257328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689360" y="2794320"/>
              <a:ext cx="669600" cy="243000"/>
              <a:chOff x="4689360" y="2794320"/>
              <a:chExt cx="669600" cy="243000"/>
            </a:xfrm>
          </p:grpSpPr>
          <p:cxnSp>
            <p:nvCxnSpPr>
              <p:cNvPr id="404" name=""/>
              <p:cNvCxnSpPr/>
              <p:nvPr/>
            </p:nvCxnSpPr>
            <p:spPr>
              <a:xfrm>
                <a:off x="4816080" y="2907000"/>
                <a:ext cx="4161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"/>
              <p:cNvCxnSpPr/>
              <p:nvPr/>
            </p:nvCxnSpPr>
            <p:spPr>
              <a:xfrm flipH="1" flipV="1" rot="5400000">
                <a:off x="5105880" y="2787840"/>
                <a:ext cx="25560" cy="33480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4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89360" y="282420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34600" y="282528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5187960" y="282384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12"/>
              <a:stretch/>
            </p:blipFill>
            <p:spPr>
              <a:xfrm rot="2700000">
                <a:off x="4866480" y="2830320"/>
                <a:ext cx="172800" cy="171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0" name="" descr=""/>
            <p:cNvPicPr/>
            <p:nvPr/>
          </p:nvPicPr>
          <p:blipFill>
            <a:blip r:embed="rId13"/>
            <a:stretch/>
          </p:blipFill>
          <p:spPr>
            <a:xfrm>
              <a:off x="7634160" y="25369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756200" y="2887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54080" y="3581280"/>
              <a:ext cx="61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lica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65200" y="2152800"/>
              <a:ext cx="561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14"/>
            <a:stretch/>
          </p:blipFill>
          <p:spPr>
            <a:xfrm>
              <a:off x="5805360" y="2008080"/>
              <a:ext cx="3715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572800" y="23605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napsh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6" name=""/>
            <p:cNvCxnSpPr>
              <a:stCxn id="374" idx="0"/>
            </p:cNvCxnSpPr>
            <p:nvPr/>
          </p:nvCxnSpPr>
          <p:spPr>
            <a:xfrm>
              <a:off x="7397280" y="4160880"/>
              <a:ext cx="299160" cy="165600"/>
            </a:xfrm>
            <a:prstGeom prst="straightConnector1">
              <a:avLst/>
            </a:prstGeom>
            <a:ln w="12600">
              <a:solidFill>
                <a:srgbClr val="0099cc"/>
              </a:solidFill>
              <a:miter/>
            </a:ln>
          </p:spPr>
        </p:cxnSp>
        <p:sp>
          <p:nvSpPr>
            <p:cNvPr id="417" name=""/>
            <p:cNvSpPr/>
            <p:nvPr/>
          </p:nvSpPr>
          <p:spPr>
            <a:xfrm>
              <a:off x="6038640" y="3963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15"/>
            <a:stretch/>
          </p:blipFill>
          <p:spPr>
            <a:xfrm>
              <a:off x="5867280" y="4952880"/>
              <a:ext cx="381240" cy="3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"/>
            <p:cNvGrpSpPr/>
            <p:nvPr/>
          </p:nvGrpSpPr>
          <p:grpSpPr>
            <a:xfrm>
              <a:off x="4729320" y="3767040"/>
              <a:ext cx="236160" cy="206280"/>
              <a:chOff x="4729320" y="3767040"/>
              <a:chExt cx="236160" cy="206280"/>
            </a:xfrm>
          </p:grpSpPr>
          <p:pic>
            <p:nvPicPr>
              <p:cNvPr id="42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776840" y="3767040"/>
                <a:ext cx="153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72932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1284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"/>
            <p:cNvGrpSpPr/>
            <p:nvPr/>
          </p:nvGrpSpPr>
          <p:grpSpPr>
            <a:xfrm>
              <a:off x="4943520" y="3890880"/>
              <a:ext cx="236160" cy="206280"/>
              <a:chOff x="4943520" y="3890880"/>
              <a:chExt cx="236160" cy="206280"/>
            </a:xfrm>
          </p:grpSpPr>
          <p:pic>
            <p:nvPicPr>
              <p:cNvPr id="42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991040" y="3890880"/>
                <a:ext cx="153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4352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02704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7" name="" descr=""/>
            <p:cNvPicPr/>
            <p:nvPr/>
          </p:nvPicPr>
          <p:blipFill>
            <a:blip r:embed="rId22"/>
            <a:stretch/>
          </p:blipFill>
          <p:spPr>
            <a:xfrm rot="21341400">
              <a:off x="4800240" y="37555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"/>
            <p:cNvGrpSpPr/>
            <p:nvPr/>
          </p:nvGrpSpPr>
          <p:grpSpPr>
            <a:xfrm>
              <a:off x="7656480" y="4260960"/>
              <a:ext cx="544320" cy="475920"/>
              <a:chOff x="7656480" y="4260960"/>
              <a:chExt cx="544320" cy="475920"/>
            </a:xfrm>
          </p:grpSpPr>
          <p:pic>
            <p:nvPicPr>
              <p:cNvPr id="42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765920" y="4260960"/>
                <a:ext cx="352080" cy="35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6564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78490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2" name="" descr=""/>
            <p:cNvPicPr/>
            <p:nvPr/>
          </p:nvPicPr>
          <p:blipFill>
            <a:blip r:embed="rId26"/>
            <a:stretch/>
          </p:blipFill>
          <p:spPr>
            <a:xfrm>
              <a:off x="6924600" y="1720800"/>
              <a:ext cx="473040" cy="47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"/>
            <p:cNvGrpSpPr/>
            <p:nvPr/>
          </p:nvGrpSpPr>
          <p:grpSpPr>
            <a:xfrm>
              <a:off x="7931160" y="3495600"/>
              <a:ext cx="522360" cy="476280"/>
              <a:chOff x="7931160" y="3495600"/>
              <a:chExt cx="522360" cy="47628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8078760" y="3533400"/>
                <a:ext cx="13104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8166960" y="3561480"/>
                <a:ext cx="23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8106480" y="3601080"/>
                <a:ext cx="1962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73280" y="3654000"/>
                <a:ext cx="2293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8212680" y="3615120"/>
                <a:ext cx="240840" cy="28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" descr=""/>
              <p:cNvPicPr/>
              <p:nvPr/>
            </p:nvPicPr>
            <p:blipFill>
              <a:blip r:embed="rId32"/>
              <a:stretch/>
            </p:blipFill>
            <p:spPr>
              <a:xfrm rot="979800">
                <a:off x="7978680" y="3785760"/>
                <a:ext cx="18936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8274240" y="3817080"/>
                <a:ext cx="133200" cy="14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8122320" y="3771000"/>
                <a:ext cx="216720" cy="20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931160" y="3495600"/>
                <a:ext cx="245520" cy="26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JBoss ON Benef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87080" y="1246320"/>
            <a:ext cx="8001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mproved efficiency for development, qa, security and sys op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Your team can stay up to date without having to scour forums and wait for emails from the community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grated knowled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cross forums, wikis, documentation, code, javadocs, tutorials and cas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 to date knowledge of patches, updates, and upgra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JBoss Operations Network™ provides you proactive notification of patches relative to your applic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standard way to apply patches and software across your middleware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ches will be shipped in a standard format with a uniform mechanism to deploy against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ffective mechanisms to manage your enterprise middle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 By leveraging the JBoss Operations Network administration features you can control configuration and deployments across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sistency across your topology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the administration to validate that your environments are current and contain matching configuration and patch leve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0"/>
            <a:ext cx="67960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pain 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can the pain be eas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grated support with JBoss Operations Network (JBoss ON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ftware distribu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 managem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1680" y="-360"/>
            <a:ext cx="68245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terprise Customers Q &amp; 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143000"/>
            <a:ext cx="83055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5268960"/>
            <a:ext cx="2236680" cy="1276200"/>
          </a:xfrm>
          <a:prstGeom prst="wedgeEllipseCallout">
            <a:avLst>
              <a:gd name="adj1" fmla="val 76328"/>
              <a:gd name="adj2" fmla="val -86319"/>
            </a:avLst>
          </a:prstGeom>
          <a:solidFill>
            <a:srgbClr val="2a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erous deployments, numerous groups using and approving the distribution of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080" y="2971440"/>
            <a:ext cx="3657240" cy="1447920"/>
            <a:chOff x="685080" y="2971440"/>
            <a:chExt cx="3657240" cy="1447920"/>
          </a:xfrm>
        </p:grpSpPr>
        <p:sp>
          <p:nvSpPr>
            <p:cNvPr id="100" name=""/>
            <p:cNvSpPr/>
            <p:nvPr/>
          </p:nvSpPr>
          <p:spPr>
            <a:xfrm rot="5400000">
              <a:off x="2639160" y="2716200"/>
              <a:ext cx="1236960" cy="216900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 rot="5400000">
              <a:off x="1239120" y="2416680"/>
              <a:ext cx="1274760" cy="238356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01360" y="-360"/>
            <a:ext cx="71074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-to-Production in large IT or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66880"/>
            <a:ext cx="43434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819520"/>
            <a:ext cx="533412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Ops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038480"/>
            <a:ext cx="304560" cy="1447920"/>
          </a:xfrm>
          <a:prstGeom prst="upArrow">
            <a:avLst>
              <a:gd name="adj1" fmla="val 50000"/>
              <a:gd name="adj2" fmla="val 1188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038480"/>
            <a:ext cx="304920" cy="1447920"/>
          </a:xfrm>
          <a:prstGeom prst="upArrow">
            <a:avLst>
              <a:gd name="adj1" fmla="val 50000"/>
              <a:gd name="adj2" fmla="val 11871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5356080"/>
            <a:ext cx="1524240" cy="35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 and Client 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2763720" y="2209680"/>
            <a:ext cx="533520" cy="1067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92280" y="212868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84120"/>
            <a:ext cx="1719360" cy="987480"/>
          </a:xfrm>
          <a:prstGeom prst="wedgeEllipseCallout">
            <a:avLst>
              <a:gd name="adj1" fmla="val 73453"/>
              <a:gd name="adj2" fmla="val 1043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stay current with my third party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371600"/>
            <a:ext cx="1739880" cy="1052640"/>
          </a:xfrm>
          <a:prstGeom prst="wedgeEllipseCallout">
            <a:avLst>
              <a:gd name="adj1" fmla="val -27736"/>
              <a:gd name="adj2" fmla="val 109277"/>
            </a:avLst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manage and administer numerous shared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572000"/>
            <a:ext cx="4952880" cy="609480"/>
          </a:xfrm>
          <a:prstGeom prst="rect">
            <a:avLst/>
          </a:prstGeom>
          <a:solidFill>
            <a:srgbClr val="cc9900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re IT Pain Poi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/Vendor Defects later in the lifecyc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s found in production have HIGH financial impacts to the busin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ndors have different mechanism for pushing pat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mechanism to keep environments in sy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A, Security, Tech Ops, Development organizationally separ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heavy for moving from development through prod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al process has to go through multiple 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ple levels of testing (regression expens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Resources ( Systems and Resources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whelmed technical operations gro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cked down environ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 resolution in clustered environments takes a lot of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resources and configuration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rdware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ople management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dleware licensing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grated Suppor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IT Pain Points, how Software Vendors operate, and how they both integ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ed our current offer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ulting, Training, Supp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nding Support to be more than someone to answer you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port Network connecting customers, partners and commun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25120" y="241200"/>
            <a:ext cx="74185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ing 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083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17960" y="4876920"/>
            <a:ext cx="2908080" cy="803160"/>
          </a:xfrm>
          <a:prstGeom prst="roundRect">
            <a:avLst>
              <a:gd name="adj" fmla="val 9079"/>
            </a:avLst>
          </a:prstGeom>
          <a:solidFill>
            <a:srgbClr val="33cc33"/>
          </a:solidFill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oftwar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3680" y="5756400"/>
            <a:ext cx="67122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Deliver seamless support by integrating knowledge access, software distribution and 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295280"/>
            <a:ext cx="53496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219320"/>
            <a:ext cx="534960" cy="355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1295280"/>
            <a:ext cx="53352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066680"/>
            <a:ext cx="198108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14680" y="12366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27360" y="1066680"/>
            <a:ext cx="1360440" cy="1017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27360" y="1490760"/>
            <a:ext cx="1360440" cy="10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47080" y="28494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86640" y="2340000"/>
            <a:ext cx="147168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05800" y="3273480"/>
            <a:ext cx="34128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nowledg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8200" y="1406520"/>
            <a:ext cx="3059280" cy="2290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B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4960" y="2424240"/>
            <a:ext cx="2263680" cy="169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/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54240" y="2340000"/>
            <a:ext cx="2266920" cy="16970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87800" y="3017880"/>
            <a:ext cx="2264040" cy="16984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99040" y="4037040"/>
            <a:ext cx="10224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51840" y="3103560"/>
            <a:ext cx="147456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78640" y="39513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47080" y="4037040"/>
            <a:ext cx="33804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99600" y="3951360"/>
            <a:ext cx="3394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7080" y="310356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46800" y="4121280"/>
            <a:ext cx="102096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00280" y="3187800"/>
            <a:ext cx="10206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73400" y="3443400"/>
            <a:ext cx="1020600" cy="677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00560" y="14907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1000" y="1676520"/>
            <a:ext cx="79200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63840" y="1924200"/>
            <a:ext cx="6219720" cy="3289320"/>
            <a:chOff x="1563840" y="1924200"/>
            <a:chExt cx="6219720" cy="3289320"/>
          </a:xfrm>
        </p:grpSpPr>
        <p:sp>
          <p:nvSpPr>
            <p:cNvPr id="162" name=""/>
            <p:cNvSpPr/>
            <p:nvPr/>
          </p:nvSpPr>
          <p:spPr>
            <a:xfrm>
              <a:off x="156384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2575080"/>
              <a:ext cx="221940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740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227560" y="2193840"/>
              <a:ext cx="9302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800360" y="4754520"/>
              <a:ext cx="19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0360" y="47545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8680" y="475452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43680" y="192420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7560" y="194328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38800" y="2311560"/>
              <a:ext cx="676080" cy="4586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5351400" y="2554200"/>
              <a:ext cx="21420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797440" y="2554200"/>
              <a:ext cx="2145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345280" y="2309760"/>
              <a:ext cx="21564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5791320" y="2316240"/>
              <a:ext cx="2156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5450040" y="2303640"/>
              <a:ext cx="479160" cy="49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4343400" y="4043520"/>
              <a:ext cx="692640" cy="768600"/>
              <a:chOff x="4343400" y="4043520"/>
              <a:chExt cx="692640" cy="768600"/>
            </a:xfrm>
          </p:grpSpPr>
          <p:sp>
            <p:nvSpPr>
              <p:cNvPr id="178" name=""/>
              <p:cNvSpPr/>
              <p:nvPr/>
            </p:nvSpPr>
            <p:spPr>
              <a:xfrm>
                <a:off x="4566600" y="4272840"/>
                <a:ext cx="29304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05840" y="4309920"/>
                <a:ext cx="218520" cy="24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"/>
              <p:cNvGrpSpPr/>
              <p:nvPr/>
            </p:nvGrpSpPr>
            <p:grpSpPr>
              <a:xfrm>
                <a:off x="4343400" y="4043520"/>
                <a:ext cx="692640" cy="768600"/>
                <a:chOff x="4343400" y="4043520"/>
                <a:chExt cx="692640" cy="768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765680" y="4111200"/>
                  <a:ext cx="67320" cy="150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39840" y="4181040"/>
                  <a:ext cx="156960" cy="14400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894560" y="4344840"/>
                  <a:ext cx="118080" cy="5688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96360" y="4434480"/>
                  <a:ext cx="139680" cy="54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52800" y="4524120"/>
                  <a:ext cx="137880" cy="14220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84760" y="4587480"/>
                  <a:ext cx="87480" cy="14400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573080" y="4108680"/>
                  <a:ext cx="69840" cy="150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30520" y="4198320"/>
                  <a:ext cx="142200" cy="12852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395240" y="4347000"/>
                  <a:ext cx="135720" cy="651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37000"/>
                  <a:ext cx="172440" cy="5868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452480" y="4537080"/>
                  <a:ext cx="100440" cy="961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548600" y="4600440"/>
                  <a:ext cx="85320" cy="14400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75680" y="4043520"/>
                  <a:ext cx="59040" cy="18324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82160" y="4631040"/>
                  <a:ext cx="52560" cy="18108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6217560" y="3964680"/>
              <a:ext cx="982800" cy="982800"/>
              <a:chOff x="6217560" y="3964680"/>
              <a:chExt cx="982800" cy="9828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217560" y="3964680"/>
                <a:ext cx="982800" cy="982800"/>
                <a:chOff x="6217560" y="3964680"/>
                <a:chExt cx="982800" cy="982800"/>
              </a:xfrm>
            </p:grpSpPr>
            <p:sp>
              <p:nvSpPr>
                <p:cNvPr id="197" name=""/>
                <p:cNvSpPr/>
                <p:nvPr/>
              </p:nvSpPr>
              <p:spPr>
                <a:xfrm rot="6100200">
                  <a:off x="6360840" y="410796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0422800">
                  <a:off x="6359400" y="4104720"/>
                  <a:ext cx="69732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842800">
                  <a:off x="6360480" y="4108680"/>
                  <a:ext cx="696240" cy="69480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800800">
                  <a:off x="6434280" y="4192560"/>
                  <a:ext cx="538920" cy="536040"/>
                </a:xfrm>
                <a:prstGeom prst="blockArc">
                  <a:avLst>
                    <a:gd name="adj1" fmla="val 3002428"/>
                    <a:gd name="adj2" fmla="val 7797572"/>
                    <a:gd name="adj3" fmla="val 5662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3287600">
                  <a:off x="6360840" y="410832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7014200">
                  <a:off x="6360120" y="4105080"/>
                  <a:ext cx="69624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7064600">
                  <a:off x="6444360" y="4184280"/>
                  <a:ext cx="538920" cy="540000"/>
                </a:xfrm>
                <a:prstGeom prst="blockArc">
                  <a:avLst>
                    <a:gd name="adj1" fmla="val 3024521"/>
                    <a:gd name="adj2" fmla="val 7775479"/>
                    <a:gd name="adj3" fmla="val 561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9963000">
                  <a:off x="6359760" y="4105440"/>
                  <a:ext cx="69588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9995400">
                  <a:off x="6432480" y="4176720"/>
                  <a:ext cx="538920" cy="540360"/>
                </a:xfrm>
                <a:prstGeom prst="blockArc">
                  <a:avLst>
                    <a:gd name="adj1" fmla="val 3025150"/>
                    <a:gd name="adj2" fmla="val 7774850"/>
                    <a:gd name="adj3" fmla="val 5875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26440" y="4294440"/>
                <a:ext cx="349920" cy="33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2298600" y="4046400"/>
              <a:ext cx="804240" cy="779400"/>
              <a:chOff x="2298600" y="4046400"/>
              <a:chExt cx="804240" cy="779400"/>
            </a:xfrm>
          </p:grpSpPr>
          <p:pic>
            <p:nvPicPr>
              <p:cNvPr id="2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622960" y="4352760"/>
                <a:ext cx="151200" cy="15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9" name=""/>
              <p:cNvGrpSpPr/>
              <p:nvPr/>
            </p:nvGrpSpPr>
            <p:grpSpPr>
              <a:xfrm>
                <a:off x="2298600" y="4046400"/>
                <a:ext cx="804240" cy="779400"/>
                <a:chOff x="2298600" y="4046400"/>
                <a:chExt cx="804240" cy="779400"/>
              </a:xfrm>
            </p:grpSpPr>
            <p:sp>
              <p:nvSpPr>
                <p:cNvPr id="210" name=""/>
                <p:cNvSpPr/>
                <p:nvPr/>
              </p:nvSpPr>
              <p:spPr>
                <a:xfrm rot="19755000">
                  <a:off x="2301840" y="4318920"/>
                  <a:ext cx="78588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04400">
                  <a:off x="2307600" y="4316400"/>
                  <a:ext cx="78552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2310120" y="4321080"/>
                  <a:ext cx="779400" cy="2296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3213000" y="2193840"/>
              <a:ext cx="944640" cy="946080"/>
              <a:chOff x="3213000" y="2193840"/>
              <a:chExt cx="944640" cy="94608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3000" y="2193840"/>
                <a:ext cx="944640" cy="9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325680" y="2313000"/>
                <a:ext cx="685800" cy="46512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36800" y="2303640"/>
                <a:ext cx="300240" cy="2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54440" y="2556000"/>
                <a:ext cx="2970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81400" y="2546280"/>
                <a:ext cx="314280" cy="23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01920" y="2303640"/>
                <a:ext cx="265320" cy="24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11440" y="2395440"/>
                <a:ext cx="316080" cy="31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548160" y="2432160"/>
                <a:ext cx="230040" cy="16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2760" y="1277640"/>
            <a:ext cx="462276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 self-service/Software Repositor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tegrated Search including knowledge base, javadocs, wiki, cod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uide organization of documentation and inform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rtal access including support system and knowledgebase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iew and manage customer profile, systems and applic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bscribe to relevant knowledg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ug reports, new features, security bulletins, etc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EM/ISV Network integ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713120" y="1677960"/>
            <a:ext cx="3939120" cy="3884760"/>
            <a:chOff x="4713120" y="1677960"/>
            <a:chExt cx="3939120" cy="3884760"/>
          </a:xfrm>
        </p:grpSpPr>
        <p:sp>
          <p:nvSpPr>
            <p:cNvPr id="225" name=""/>
            <p:cNvSpPr/>
            <p:nvPr/>
          </p:nvSpPr>
          <p:spPr>
            <a:xfrm rot="15006000">
              <a:off x="5531040" y="2467440"/>
              <a:ext cx="2283120" cy="2325600"/>
            </a:xfrm>
            <a:prstGeom prst="blockArc">
              <a:avLst>
                <a:gd name="adj1" fmla="val 7452638"/>
                <a:gd name="adj2" fmla="val 3347362"/>
                <a:gd name="adj3" fmla="val 152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6502320" y="3457440"/>
              <a:ext cx="308160" cy="32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5842080" y="2836800"/>
              <a:ext cx="1632240" cy="1579680"/>
              <a:chOff x="5842080" y="2836800"/>
              <a:chExt cx="1632240" cy="1579680"/>
            </a:xfrm>
          </p:grpSpPr>
          <p:sp>
            <p:nvSpPr>
              <p:cNvPr id="228" name=""/>
              <p:cNvSpPr/>
              <p:nvPr/>
            </p:nvSpPr>
            <p:spPr>
              <a:xfrm rot="19755000">
                <a:off x="5848200" y="3389760"/>
                <a:ext cx="159552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604400">
                <a:off x="5860440" y="3384000"/>
                <a:ext cx="159516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400000">
                <a:off x="5866920" y="3393360"/>
                <a:ext cx="1579680" cy="46656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235480" y="4456080"/>
              <a:ext cx="47808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19480" y="18622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id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36600" y="4854600"/>
              <a:ext cx="68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wnloa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11680" y="4630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30880" y="4191120"/>
              <a:ext cx="47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3880" y="3414600"/>
              <a:ext cx="91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0200" y="3795840"/>
              <a:ext cx="64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33960" y="2664000"/>
              <a:ext cx="63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bscrib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98240" y="1965240"/>
              <a:ext cx="50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3280" y="4044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5684400" y="4563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"/>
            <p:cNvSpPr/>
            <p:nvPr/>
          </p:nvSpPr>
          <p:spPr>
            <a:xfrm flipH="1">
              <a:off x="5308200" y="3633840"/>
              <a:ext cx="220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722920" y="2674800"/>
              <a:ext cx="13824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703920" y="2300040"/>
              <a:ext cx="0" cy="19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340760" y="2539800"/>
              <a:ext cx="109440" cy="16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662440" y="4403880"/>
              <a:ext cx="160560" cy="13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61080" y="4765680"/>
              <a:ext cx="0" cy="21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6040" y="4432320"/>
              <a:ext cx="13500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2400" y="3913200"/>
              <a:ext cx="203040" cy="4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6400800" y="50292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8001000" y="38098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7467480" y="44956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818480" y="47386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7315200" y="200664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6354720" y="1677960"/>
              <a:ext cx="6001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8"/>
            <a:stretch/>
          </p:blipFill>
          <p:spPr>
            <a:xfrm>
              <a:off x="5165640" y="216360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"/>
            <p:cNvGrpSpPr/>
            <p:nvPr/>
          </p:nvGrpSpPr>
          <p:grpSpPr>
            <a:xfrm>
              <a:off x="7807320" y="2616120"/>
              <a:ext cx="820800" cy="822240"/>
              <a:chOff x="7807320" y="2616120"/>
              <a:chExt cx="820800" cy="822240"/>
            </a:xfrm>
          </p:grpSpPr>
          <p:pic>
            <p:nvPicPr>
              <p:cNvPr id="25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807320" y="2616120"/>
                <a:ext cx="820800" cy="8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7905600" y="2719440"/>
                <a:ext cx="595440" cy="404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63080" y="2711520"/>
                <a:ext cx="26028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7120" y="2930400"/>
                <a:ext cx="258840" cy="1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66000" y="2922480"/>
                <a:ext cx="2732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85080" y="2711520"/>
                <a:ext cx="23040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66160" y="2790720"/>
                <a:ext cx="27468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101080" y="2824200"/>
                <a:ext cx="198360" cy="135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6" name="" descr=""/>
            <p:cNvPicPr/>
            <p:nvPr/>
          </p:nvPicPr>
          <p:blipFill>
            <a:blip r:embed="rId16"/>
            <a:stretch/>
          </p:blipFill>
          <p:spPr>
            <a:xfrm>
              <a:off x="4713120" y="3281400"/>
              <a:ext cx="549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3:03:45Z</dcterms:created>
  <dc:creator>Shaun Connolly</dc:creator>
  <dc:description/>
  <dc:language>en-US</dc:language>
  <cp:lastModifiedBy>John Mazzitelli</cp:lastModifiedBy>
  <dcterms:modified xsi:type="dcterms:W3CDTF">2006-01-20T18:54:32Z</dcterms:modified>
  <cp:revision>444</cp:revision>
  <dc:subject/>
  <dc:title>JBoss Professional Open Source Methodology</dc:title>
</cp:coreProperties>
</file>