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72288" cy="9791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72400" cy="9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3894120" y="-1440"/>
            <a:ext cx="297648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93240" y="739800"/>
            <a:ext cx="4883400" cy="3659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5"/>
          </p:nvPr>
        </p:nvSpPr>
        <p:spPr>
          <a:xfrm>
            <a:off x="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6"/>
          </p:nvPr>
        </p:nvSpPr>
        <p:spPr>
          <a:xfrm>
            <a:off x="3894120" y="9299160"/>
            <a:ext cx="2976480" cy="4906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4EE511A-DD5F-497F-AB74-C3712E13B6C7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c exampl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nk account transf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it one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dit another accou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st be an ‘atomic’ opera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n’t allow debit without the credi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er-side errors: disk crash e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524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side errors: program die()’s or is ki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ial tools for these tend to lack the flexibility of Perl (in breadth and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find yourself wasting time working around the limitations of blunt commercial 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o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Unix variants - (not heard of any it won’t build 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ows 95, Windows NT, V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s out-of-the-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ri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BC, Oracle, Informix, DB2, Ingres, Solid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hancements to the DBI (inc. docs) will make it eas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/J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 ways of specifying (data types, meta-data, options et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ays of do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BI won’t re-invent these wheels - but may make them easier to steer! (by offering higher-level interfaces to them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is data types and meta-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pecifying the unspecifi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ing features once they’ve stabiliz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90440"/>
                <a:tab algn="l" pos="380880"/>
                <a:tab algn="l" pos="571680"/>
                <a:tab algn="l" pos="762120"/>
                <a:tab algn="l" pos="95256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placeholders and bind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few lines of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simple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8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ative API’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generally offer the most power, e.g., Oracle OC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ake a lot of effort to learn and 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is rarely portable to other AP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ic application language interfaces: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ODBC and J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ll lots of effort to lea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ledg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ortable between data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is dependant on quality of ODBC dr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e-compil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C (where SQL is embedded in C and ‘precompiled’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r than a raw C API but typically less power. Hard to debu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Command li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ccess - Just type it i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e SQL from script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robust - hard to check for and respond to 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cript Langu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CL (oratcl, sybtc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generally much slower. Binary data h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in32::ODB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a bottom-up approach - thin layer over raw ODBC calls. DBI is higher level but DBD::ODBC doesn’t yet have the same breadth of ODBC specific functionality. Recommended for existing users and people who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e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at degree o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+DBD::ODBC can run twice as fast as Win32::ODB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base - and other database specific perl extens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3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gain some performance advantage if well written but loose out on the DBI extras: portable apps &amp; knowledge, tools, subclasse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995400" y="739800"/>
            <a:ext cx="4879800" cy="365904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5480" y="4649400"/>
            <a:ext cx="5038920" cy="44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ilar in concept to an ODBC Driver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BI provides methods, functions and tools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ensure conforma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efficient implemen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more automatic support for new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EF22C-59AB-494A-A947-182D16082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E734-B208-4B17-AC1A-0160B550E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842-B124-469B-82B4-226579F9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9EC8-F29D-4254-938C-1CA1A3D1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6D5-6737-484D-AAB2-CE8514A4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76CD-6384-47B4-84E3-33C690556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72D3-D9CE-4A26-97ED-A9B6A314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D14-09B1-4B4F-810C-49AFE6C62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8332-5361-43D7-A258-63070278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332F-7582-4330-B643-4007E46E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73CB-BCE6-4658-825B-B85F17D6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355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98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355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98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B4C8-C0BC-4340-AA8B-2CCB3279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057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42560" cy="152280"/>
            <a:chOff x="0" y="1428840"/>
            <a:chExt cx="91425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425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425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3556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E63B-703E-43B9-B9CF-4080F8060F90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844D-F82E-496F-AE80-9F8791D42FC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680" y="3276720"/>
            <a:ext cx="9137880" cy="152280"/>
            <a:chOff x="4680" y="3276720"/>
            <a:chExt cx="9137880" cy="152280"/>
          </a:xfrm>
        </p:grpSpPr>
        <p:sp>
          <p:nvSpPr>
            <p:cNvPr id="47" name=""/>
            <p:cNvSpPr/>
            <p:nvPr/>
          </p:nvSpPr>
          <p:spPr>
            <a:xfrm>
              <a:off x="4680" y="3276720"/>
              <a:ext cx="91378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680" y="3390840"/>
              <a:ext cx="91378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Getting Serious</a:t>
            </a:r>
            <a:br>
              <a:rPr sz="4400"/>
            </a:b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with the Perl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Making simple things easy and difficult things possible</a:t>
            </a:r>
            <a:r>
              <a:rPr b="0" lang="en-US" sz="3200" spc="-1" strike="noStrike">
                <a:solidFill>
                  <a:srgbClr val="ffcc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6400" y="6408360"/>
            <a:ext cx="1188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August 199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4876920" y="3876480"/>
            <a:ext cx="3377160" cy="1219320"/>
            <a:chOff x="4876920" y="3876480"/>
            <a:chExt cx="3377160" cy="1219320"/>
          </a:xfrm>
        </p:grpSpPr>
        <p:sp>
          <p:nvSpPr>
            <p:cNvPr id="164" name=""/>
            <p:cNvSpPr/>
            <p:nvPr/>
          </p:nvSpPr>
          <p:spPr>
            <a:xfrm>
              <a:off x="4876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525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019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9552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62920" y="4572000"/>
              <a:ext cx="106668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23816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70" name=""/>
            <p:cNvCxnSpPr>
              <a:stCxn id="164" idx="0"/>
              <a:endCxn id="171" idx="2"/>
            </p:cNvCxnSpPr>
            <p:nvPr/>
          </p:nvCxnSpPr>
          <p:spPr>
            <a:xfrm flipV="1">
              <a:off x="5409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2" name=""/>
            <p:cNvCxnSpPr>
              <a:stCxn id="166" idx="0"/>
              <a:endCxn id="173" idx="2"/>
            </p:cNvCxnSpPr>
            <p:nvPr/>
          </p:nvCxnSpPr>
          <p:spPr>
            <a:xfrm flipV="1">
              <a:off x="6552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74" name=""/>
            <p:cNvCxnSpPr>
              <a:stCxn id="168" idx="0"/>
              <a:endCxn id="175" idx="2"/>
            </p:cNvCxnSpPr>
            <p:nvPr/>
          </p:nvCxnSpPr>
          <p:spPr>
            <a:xfrm flipV="1">
              <a:off x="7695720" y="3876480"/>
              <a:ext cx="22932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176" name=""/>
          <p:cNvSpPr/>
          <p:nvPr/>
        </p:nvSpPr>
        <p:spPr>
          <a:xfrm flipH="1">
            <a:off x="3885840" y="2057400"/>
            <a:ext cx="68580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28600" y="3809880"/>
            <a:ext cx="4175640" cy="2044080"/>
            <a:chOff x="228600" y="3809880"/>
            <a:chExt cx="4175640" cy="2044080"/>
          </a:xfrm>
        </p:grpSpPr>
        <p:sp>
          <p:nvSpPr>
            <p:cNvPr id="178" name=""/>
            <p:cNvSpPr/>
            <p:nvPr/>
          </p:nvSpPr>
          <p:spPr>
            <a:xfrm>
              <a:off x="228600" y="3809880"/>
              <a:ext cx="685800" cy="5238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31560" y="38858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990720" y="4571640"/>
              <a:ext cx="1066320" cy="524160"/>
              <a:chOff x="990720" y="4571640"/>
              <a:chExt cx="1066320" cy="524160"/>
            </a:xfrm>
          </p:grpSpPr>
          <p:sp>
            <p:nvSpPr>
              <p:cNvPr id="181" name=""/>
              <p:cNvSpPr/>
              <p:nvPr/>
            </p:nvSpPr>
            <p:spPr>
              <a:xfrm>
                <a:off x="990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079280" y="4647960"/>
                <a:ext cx="73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133720" y="4571640"/>
              <a:ext cx="1066320" cy="524160"/>
              <a:chOff x="2133720" y="4571640"/>
              <a:chExt cx="1066320" cy="524160"/>
            </a:xfrm>
          </p:grpSpPr>
          <p:sp>
            <p:nvSpPr>
              <p:cNvPr id="184" name=""/>
              <p:cNvSpPr/>
              <p:nvPr/>
            </p:nvSpPr>
            <p:spPr>
              <a:xfrm>
                <a:off x="2133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221920" y="464796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3276720" y="4571640"/>
              <a:ext cx="1066320" cy="524160"/>
              <a:chOff x="3276720" y="4571640"/>
              <a:chExt cx="1066320" cy="524160"/>
            </a:xfrm>
          </p:grpSpPr>
          <p:sp>
            <p:nvSpPr>
              <p:cNvPr id="187" name=""/>
              <p:cNvSpPr/>
              <p:nvPr/>
            </p:nvSpPr>
            <p:spPr>
              <a:xfrm>
                <a:off x="3276720" y="4571640"/>
                <a:ext cx="106632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364560" y="4647960"/>
                <a:ext cx="718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02880" y="5333760"/>
              <a:ext cx="3501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 handle classes visible to application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se classes are effectively ‘empty’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27600" y="3876480"/>
            <a:ext cx="4280040" cy="2526480"/>
            <a:chOff x="4827600" y="3876480"/>
            <a:chExt cx="4280040" cy="2526480"/>
          </a:xfrm>
        </p:grpSpPr>
        <p:sp>
          <p:nvSpPr>
            <p:cNvPr id="191" name=""/>
            <p:cNvSpPr/>
            <p:nvPr/>
          </p:nvSpPr>
          <p:spPr>
            <a:xfrm>
              <a:off x="5754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9096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897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93396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40600" y="5334120"/>
              <a:ext cx="106704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07660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1" idx="0"/>
              <a:endCxn id="171" idx="2"/>
            </p:cNvCxnSpPr>
            <p:nvPr/>
          </p:nvCxnSpPr>
          <p:spPr>
            <a:xfrm flipH="1" flipV="1">
              <a:off x="5638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8" name=""/>
            <p:cNvCxnSpPr>
              <a:stCxn id="193" idx="0"/>
              <a:endCxn id="173" idx="2"/>
            </p:cNvCxnSpPr>
            <p:nvPr/>
          </p:nvCxnSpPr>
          <p:spPr>
            <a:xfrm flipH="1" flipV="1">
              <a:off x="6781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199" name=""/>
            <p:cNvCxnSpPr>
              <a:stCxn id="195" idx="0"/>
              <a:endCxn id="175" idx="2"/>
            </p:cNvCxnSpPr>
            <p:nvPr/>
          </p:nvCxnSpPr>
          <p:spPr>
            <a:xfrm flipH="1" flipV="1">
              <a:off x="7924320" y="3876480"/>
              <a:ext cx="650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482760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4876920" y="1752480"/>
            <a:ext cx="4264920" cy="2124360"/>
            <a:chOff x="4876920" y="1752480"/>
            <a:chExt cx="4264920" cy="2124360"/>
          </a:xfrm>
        </p:grpSpPr>
        <p:grpSp>
          <p:nvGrpSpPr>
            <p:cNvPr id="202" name=""/>
            <p:cNvGrpSpPr/>
            <p:nvPr/>
          </p:nvGrpSpPr>
          <p:grpSpPr>
            <a:xfrm>
              <a:off x="5638680" y="2133720"/>
              <a:ext cx="2286000" cy="1218600"/>
              <a:chOff x="5638680" y="2133720"/>
              <a:chExt cx="2286000" cy="1218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81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943600" y="2133720"/>
                <a:ext cx="16002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05" name=""/>
              <p:cNvCxnSpPr>
                <a:stCxn id="171" idx="0"/>
                <a:endCxn id="204" idx="2"/>
              </p:cNvCxnSpPr>
              <p:nvPr/>
            </p:nvCxnSpPr>
            <p:spPr>
              <a:xfrm flipV="1">
                <a:off x="5638680" y="2657160"/>
                <a:ext cx="11059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6" name=""/>
              <p:cNvCxnSpPr>
                <a:stCxn id="173" idx="0"/>
                <a:endCxn id="204" idx="2"/>
              </p:cNvCxnSpPr>
              <p:nvPr/>
            </p:nvCxnSpPr>
            <p:spPr>
              <a:xfrm flipH="1" flipV="1">
                <a:off x="6743160" y="2657160"/>
                <a:ext cx="38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07" name=""/>
              <p:cNvCxnSpPr>
                <a:stCxn id="175" idx="0"/>
                <a:endCxn id="204" idx="2"/>
              </p:cNvCxnSpPr>
              <p:nvPr/>
            </p:nvCxnSpPr>
            <p:spPr>
              <a:xfrm flipH="1" flipV="1">
                <a:off x="6743520" y="2657160"/>
                <a:ext cx="118152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08" name=""/>
            <p:cNvGrpSpPr/>
            <p:nvPr/>
          </p:nvGrpSpPr>
          <p:grpSpPr>
            <a:xfrm>
              <a:off x="4876920" y="1752480"/>
              <a:ext cx="3598920" cy="2124360"/>
              <a:chOff x="4876920" y="1752480"/>
              <a:chExt cx="3598920" cy="212436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105520" y="3352680"/>
                <a:ext cx="1102320" cy="524160"/>
                <a:chOff x="5105520" y="3352680"/>
                <a:chExt cx="1102320" cy="52416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5105520" y="3352680"/>
                  <a:ext cx="10666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9336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6248520" y="3352680"/>
                <a:ext cx="1141920" cy="524160"/>
                <a:chOff x="6248520" y="3352680"/>
                <a:chExt cx="1141920" cy="52416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248520" y="3352680"/>
                  <a:ext cx="106704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3636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7391520" y="3352680"/>
                <a:ext cx="1084320" cy="524160"/>
                <a:chOff x="7391520" y="3352680"/>
                <a:chExt cx="1084320" cy="5241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7391520" y="3352680"/>
                  <a:ext cx="10677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747972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7728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920" y="2057400"/>
                <a:ext cx="6858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790668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733560" y="1752480"/>
            <a:ext cx="2400840" cy="4193280"/>
            <a:chOff x="3733560" y="1752480"/>
            <a:chExt cx="2400840" cy="4193280"/>
          </a:xfrm>
        </p:grpSpPr>
        <p:cxnSp>
          <p:nvCxnSpPr>
            <p:cNvPr id="220" name=""/>
            <p:cNvCxnSpPr>
              <a:stCxn id="221" idx="1"/>
              <a:endCxn id="222" idx="3"/>
            </p:cNvCxnSpPr>
            <p:nvPr/>
          </p:nvCxnSpPr>
          <p:spPr>
            <a:xfrm flipH="1">
              <a:off x="3739320" y="2361960"/>
              <a:ext cx="75636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3" name=""/>
            <p:cNvCxnSpPr>
              <a:stCxn id="222" idx="3"/>
            </p:cNvCxnSpPr>
            <p:nvPr/>
          </p:nvCxnSpPr>
          <p:spPr>
            <a:xfrm flipV="1">
              <a:off x="3739680" y="3276000"/>
              <a:ext cx="75636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4" name=""/>
            <p:cNvCxnSpPr>
              <a:stCxn id="222" idx="3"/>
            </p:cNvCxnSpPr>
            <p:nvPr/>
          </p:nvCxnSpPr>
          <p:spPr>
            <a:xfrm flipV="1">
              <a:off x="3739680" y="2601360"/>
              <a:ext cx="74052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5" name=""/>
            <p:cNvCxnSpPr>
              <a:stCxn id="222" idx="3"/>
              <a:endCxn id="226" idx="1"/>
            </p:cNvCxnSpPr>
            <p:nvPr/>
          </p:nvCxnSpPr>
          <p:spPr>
            <a:xfrm flipV="1">
              <a:off x="3739680" y="2818800"/>
              <a:ext cx="75636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7" name=""/>
            <p:cNvCxnSpPr>
              <a:stCxn id="222" idx="3"/>
              <a:endCxn id="228" idx="1"/>
            </p:cNvCxnSpPr>
            <p:nvPr/>
          </p:nvCxnSpPr>
          <p:spPr>
            <a:xfrm flipV="1">
              <a:off x="3739680" y="3058560"/>
              <a:ext cx="74052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29" name=""/>
            <p:cNvCxnSpPr>
              <a:stCxn id="222" idx="3"/>
              <a:endCxn id="230" idx="1"/>
            </p:cNvCxnSpPr>
            <p:nvPr/>
          </p:nvCxnSpPr>
          <p:spPr>
            <a:xfrm flipV="1">
              <a:off x="3739680" y="2144160"/>
              <a:ext cx="74052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30" name=""/>
            <p:cNvSpPr/>
            <p:nvPr/>
          </p:nvSpPr>
          <p:spPr>
            <a:xfrm>
              <a:off x="4479840" y="19922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95680" y="22096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95680" y="26668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79840" y="290664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31" name=""/>
            <p:cNvCxnSpPr>
              <a:endCxn id="232" idx="0"/>
            </p:cNvCxnSpPr>
            <p:nvPr/>
          </p:nvCxnSpPr>
          <p:spPr>
            <a:xfrm flipH="1" flipV="1">
              <a:off x="3733560" y="3961800"/>
              <a:ext cx="76248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3" name=""/>
            <p:cNvCxnSpPr>
              <a:stCxn id="232" idx="1"/>
            </p:cNvCxnSpPr>
            <p:nvPr/>
          </p:nvCxnSpPr>
          <p:spPr>
            <a:xfrm>
              <a:off x="3733920" y="3962160"/>
              <a:ext cx="76248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4" name=""/>
            <p:cNvCxnSpPr>
              <a:stCxn id="232" idx="1"/>
              <a:endCxn id="235" idx="1"/>
            </p:cNvCxnSpPr>
            <p:nvPr/>
          </p:nvCxnSpPr>
          <p:spPr>
            <a:xfrm>
              <a:off x="3733920" y="3962160"/>
              <a:ext cx="74664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6" name=""/>
            <p:cNvCxnSpPr>
              <a:stCxn id="232" idx="1"/>
              <a:endCxn id="237" idx="1"/>
            </p:cNvCxnSpPr>
            <p:nvPr/>
          </p:nvCxnSpPr>
          <p:spPr>
            <a:xfrm>
              <a:off x="3733920" y="3962160"/>
              <a:ext cx="76248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8" name=""/>
            <p:cNvCxnSpPr>
              <a:stCxn id="232" idx="1"/>
            </p:cNvCxnSpPr>
            <p:nvPr/>
          </p:nvCxnSpPr>
          <p:spPr>
            <a:xfrm>
              <a:off x="3733920" y="3962160"/>
              <a:ext cx="74664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39" name=""/>
            <p:cNvCxnSpPr>
              <a:stCxn id="232" idx="1"/>
              <a:endCxn id="240" idx="1"/>
            </p:cNvCxnSpPr>
            <p:nvPr/>
          </p:nvCxnSpPr>
          <p:spPr>
            <a:xfrm>
              <a:off x="3733920" y="3962160"/>
              <a:ext cx="74664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40" name=""/>
            <p:cNvSpPr/>
            <p:nvPr/>
          </p:nvSpPr>
          <p:spPr>
            <a:xfrm>
              <a:off x="4479840" y="42022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479840" y="465948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4876920"/>
              <a:ext cx="77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91120" y="1752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91120" y="4038480"/>
              <a:ext cx="1295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922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922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72000" y="25909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72000" y="45720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72000" y="52578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48" name=""/>
            <p:cNvCxnSpPr>
              <a:stCxn id="246" idx="0"/>
              <a:endCxn id="249" idx="1"/>
            </p:cNvCxnSpPr>
            <p:nvPr/>
          </p:nvCxnSpPr>
          <p:spPr>
            <a:xfrm flipV="1">
              <a:off x="5181480" y="3580920"/>
              <a:ext cx="915120" cy="9914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0" name=""/>
            <p:cNvCxnSpPr>
              <a:stCxn id="247" idx="0"/>
              <a:endCxn id="251" idx="1"/>
            </p:cNvCxnSpPr>
            <p:nvPr/>
          </p:nvCxnSpPr>
          <p:spPr>
            <a:xfrm flipV="1">
              <a:off x="5181120" y="4277520"/>
              <a:ext cx="916920" cy="98028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>
              <a:stCxn id="245" idx="0"/>
              <a:endCxn id="253" idx="1"/>
            </p:cNvCxnSpPr>
            <p:nvPr/>
          </p:nvCxnSpPr>
          <p:spPr>
            <a:xfrm>
              <a:off x="5181120" y="2590560"/>
              <a:ext cx="916920" cy="1230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4" name=""/>
            <p:cNvSpPr/>
            <p:nvPr/>
          </p:nvSpPr>
          <p:spPr>
            <a:xfrm>
              <a:off x="4572000" y="327672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72000" y="54864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6" name=""/>
            <p:cNvCxnSpPr>
              <a:stCxn id="255" idx="0"/>
            </p:cNvCxnSpPr>
            <p:nvPr/>
          </p:nvCxnSpPr>
          <p:spPr>
            <a:xfrm flipV="1">
              <a:off x="5181120" y="4582440"/>
              <a:ext cx="916920" cy="903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7" name=""/>
            <p:cNvCxnSpPr>
              <a:stCxn id="254" idx="0"/>
            </p:cNvCxnSpPr>
            <p:nvPr/>
          </p:nvCxnSpPr>
          <p:spPr>
            <a:xfrm>
              <a:off x="5181480" y="3276720"/>
              <a:ext cx="953280" cy="1296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</p:grpSp>
      <p:sp>
        <p:nvSpPr>
          <p:cNvPr id="258" name=""/>
          <p:cNvSpPr/>
          <p:nvPr/>
        </p:nvSpPr>
        <p:spPr>
          <a:xfrm>
            <a:off x="152280" y="6858000"/>
            <a:ext cx="121932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371600" y="6019920"/>
            <a:ext cx="6324840" cy="840240"/>
            <a:chOff x="1371600" y="6019920"/>
            <a:chExt cx="6324840" cy="840240"/>
          </a:xfrm>
        </p:grpSpPr>
        <p:sp>
          <p:nvSpPr>
            <p:cNvPr id="260" name=""/>
            <p:cNvSpPr/>
            <p:nvPr/>
          </p:nvSpPr>
          <p:spPr>
            <a:xfrm>
              <a:off x="4114800" y="6095880"/>
              <a:ext cx="29718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4191120" y="6019920"/>
              <a:ext cx="3505320" cy="838080"/>
              <a:chOff x="4191120" y="6019920"/>
              <a:chExt cx="3505320" cy="838080"/>
            </a:xfrm>
          </p:grpSpPr>
          <p:sp>
            <p:nvSpPr>
              <p:cNvPr id="262" name=""/>
              <p:cNvSpPr/>
              <p:nvPr/>
            </p:nvSpPr>
            <p:spPr>
              <a:xfrm>
                <a:off x="4191120" y="6248520"/>
                <a:ext cx="1295280" cy="60948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191840" y="6248520"/>
                <a:ext cx="108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9933"/>
                    </a:solidFill>
                    <a:latin typeface="Arial"/>
                  </a:rPr>
                  <a:t>DBD::A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91120" y="6858000"/>
                <a:ext cx="129528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6" idx="3"/>
                <a:endCxn id="267" idx="1"/>
              </p:cNvCxnSpPr>
              <p:nvPr/>
            </p:nvCxnSpPr>
            <p:spPr>
              <a:xfrm flipV="1">
                <a:off x="5254560" y="6019920"/>
                <a:ext cx="2442240" cy="621000"/>
              </a:xfrm>
              <a:prstGeom prst="straightConnector1">
                <a:avLst/>
              </a:prstGeom>
              <a:ln w="12600">
                <a:solidFill>
                  <a:srgbClr val="00cccc"/>
                </a:solidFill>
                <a:prstDash val="sysDot"/>
                <a:miter/>
              </a:ln>
            </p:spPr>
          </p:cxnSp>
          <p:sp>
            <p:nvSpPr>
              <p:cNvPr id="266" name=""/>
              <p:cNvSpPr/>
              <p:nvPr/>
            </p:nvSpPr>
            <p:spPr>
              <a:xfrm>
                <a:off x="4479840" y="64882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9933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1371600" y="6248520"/>
              <a:ext cx="1447920" cy="611640"/>
              <a:chOff x="1371600" y="6248520"/>
              <a:chExt cx="1447920" cy="611640"/>
            </a:xfrm>
          </p:grpSpPr>
          <p:sp>
            <p:nvSpPr>
              <p:cNvPr id="269" name=""/>
              <p:cNvSpPr/>
              <p:nvPr/>
            </p:nvSpPr>
            <p:spPr>
              <a:xfrm>
                <a:off x="1905120" y="655308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1828800" y="6248520"/>
                <a:ext cx="99072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82916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1371600" y="670572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1828800" y="6858000"/>
                <a:ext cx="99072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4" name=""/>
          <p:cNvGrpSpPr/>
          <p:nvPr/>
        </p:nvGrpSpPr>
        <p:grpSpPr>
          <a:xfrm>
            <a:off x="152280" y="1676520"/>
            <a:ext cx="3108240" cy="5181480"/>
            <a:chOff x="152280" y="1676520"/>
            <a:chExt cx="3108240" cy="5181480"/>
          </a:xfrm>
        </p:grpSpPr>
        <p:sp>
          <p:nvSpPr>
            <p:cNvPr id="275" name=""/>
            <p:cNvSpPr/>
            <p:nvPr/>
          </p:nvSpPr>
          <p:spPr>
            <a:xfrm>
              <a:off x="152280" y="1752480"/>
              <a:ext cx="121932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1371600" y="2895480"/>
              <a:ext cx="1523880" cy="1981440"/>
              <a:chOff x="1371600" y="2895480"/>
              <a:chExt cx="1523880" cy="1981440"/>
            </a:xfrm>
          </p:grpSpPr>
          <p:cxnSp>
            <p:nvCxnSpPr>
              <p:cNvPr id="277" name=""/>
              <p:cNvCxnSpPr>
                <a:stCxn id="278" idx="3"/>
                <a:endCxn id="222" idx="1"/>
              </p:cNvCxnSpPr>
              <p:nvPr/>
            </p:nvCxnSpPr>
            <p:spPr>
              <a:xfrm>
                <a:off x="2680920" y="3363480"/>
                <a:ext cx="21492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79" name=""/>
              <p:cNvCxnSpPr>
                <a:stCxn id="222" idx="1"/>
                <a:endCxn id="280" idx="3"/>
              </p:cNvCxnSpPr>
              <p:nvPr/>
            </p:nvCxnSpPr>
            <p:spPr>
              <a:xfrm flipH="1" flipV="1">
                <a:off x="2680560" y="3820680"/>
                <a:ext cx="21492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1" name=""/>
              <p:cNvCxnSpPr>
                <a:stCxn id="222" idx="1"/>
                <a:endCxn id="282" idx="3"/>
              </p:cNvCxnSpPr>
              <p:nvPr/>
            </p:nvCxnSpPr>
            <p:spPr>
              <a:xfrm flipH="1">
                <a:off x="2679120" y="3885840"/>
                <a:ext cx="21636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3" name=""/>
              <p:cNvCxnSpPr>
                <a:stCxn id="222" idx="1"/>
                <a:endCxn id="284" idx="3"/>
              </p:cNvCxnSpPr>
              <p:nvPr/>
            </p:nvCxnSpPr>
            <p:spPr>
              <a:xfrm flipH="1">
                <a:off x="2680560" y="3885840"/>
                <a:ext cx="21492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5" name=""/>
              <p:cNvCxnSpPr>
                <a:stCxn id="222" idx="1"/>
                <a:endCxn id="286" idx="3"/>
              </p:cNvCxnSpPr>
              <p:nvPr/>
            </p:nvCxnSpPr>
            <p:spPr>
              <a:xfrm flipH="1">
                <a:off x="2679120" y="3885840"/>
                <a:ext cx="21636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87" name=""/>
              <p:cNvCxnSpPr>
                <a:stCxn id="222" idx="1"/>
                <a:endCxn id="288" idx="3"/>
              </p:cNvCxnSpPr>
              <p:nvPr/>
            </p:nvCxnSpPr>
            <p:spPr>
              <a:xfrm flipH="1" flipV="1">
                <a:off x="2679120" y="3580560"/>
                <a:ext cx="21636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78" name=""/>
              <p:cNvSpPr/>
              <p:nvPr/>
            </p:nvSpPr>
            <p:spPr>
              <a:xfrm>
                <a:off x="1906560" y="32115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05120" y="34290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906560" y="36687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905120" y="38862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06560" y="412596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05120" y="4343400"/>
                <a:ext cx="77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828800" y="2895480"/>
                <a:ext cx="99072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82952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71600" y="3352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71600" y="35812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371600" y="38098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1371600" y="40384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71600" y="42670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1371600" y="4495680"/>
                <a:ext cx="3808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"/>
            <p:cNvGrpSpPr/>
            <p:nvPr/>
          </p:nvGrpSpPr>
          <p:grpSpPr>
            <a:xfrm>
              <a:off x="2514600" y="1676520"/>
              <a:ext cx="745920" cy="307080"/>
              <a:chOff x="2514600" y="1676520"/>
              <a:chExt cx="745920" cy="307080"/>
            </a:xfrm>
          </p:grpSpPr>
          <p:sp>
            <p:nvSpPr>
              <p:cNvPr id="298" name=""/>
              <p:cNvSpPr/>
              <p:nvPr/>
            </p:nvSpPr>
            <p:spPr>
              <a:xfrm>
                <a:off x="251460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2590560" y="1981080"/>
                <a:ext cx="60984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0" name=""/>
          <p:cNvGrpSpPr/>
          <p:nvPr/>
        </p:nvGrpSpPr>
        <p:grpSpPr>
          <a:xfrm>
            <a:off x="2894400" y="1676520"/>
            <a:ext cx="846720" cy="5181480"/>
            <a:chOff x="2894400" y="1676520"/>
            <a:chExt cx="846720" cy="5181480"/>
          </a:xfrm>
        </p:grpSpPr>
        <p:grpSp>
          <p:nvGrpSpPr>
            <p:cNvPr id="301" name=""/>
            <p:cNvGrpSpPr/>
            <p:nvPr/>
          </p:nvGrpSpPr>
          <p:grpSpPr>
            <a:xfrm>
              <a:off x="2894400" y="3505320"/>
              <a:ext cx="846720" cy="535680"/>
              <a:chOff x="2894400" y="3505320"/>
              <a:chExt cx="846720" cy="535680"/>
            </a:xfrm>
          </p:grpSpPr>
          <p:sp>
            <p:nvSpPr>
              <p:cNvPr id="222" name=""/>
              <p:cNvSpPr/>
              <p:nvPr/>
            </p:nvSpPr>
            <p:spPr>
              <a:xfrm>
                <a:off x="289440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73392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304956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4" name=""/>
            <p:cNvSpPr/>
            <p:nvPr/>
          </p:nvSpPr>
          <p:spPr>
            <a:xfrm>
              <a:off x="327672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3277080" y="1676520"/>
            <a:ext cx="5562720" cy="5181480"/>
            <a:chOff x="3277080" y="1676520"/>
            <a:chExt cx="5562720" cy="5181480"/>
          </a:xfrm>
        </p:grpSpPr>
        <p:grpSp>
          <p:nvGrpSpPr>
            <p:cNvPr id="307" name=""/>
            <p:cNvGrpSpPr/>
            <p:nvPr/>
          </p:nvGrpSpPr>
          <p:grpSpPr>
            <a:xfrm>
              <a:off x="5790960" y="2971800"/>
              <a:ext cx="3048840" cy="3886200"/>
              <a:chOff x="5790960" y="2971800"/>
              <a:chExt cx="3048840" cy="3886200"/>
            </a:xfrm>
          </p:grpSpPr>
          <p:grpSp>
            <p:nvGrpSpPr>
              <p:cNvPr id="308" name=""/>
              <p:cNvGrpSpPr/>
              <p:nvPr/>
            </p:nvGrpSpPr>
            <p:grpSpPr>
              <a:xfrm>
                <a:off x="5790960" y="2971800"/>
                <a:ext cx="1905480" cy="3505680"/>
                <a:chOff x="5790960" y="2971800"/>
                <a:chExt cx="1905480" cy="3505680"/>
              </a:xfrm>
            </p:grpSpPr>
            <p:grpSp>
              <p:nvGrpSpPr>
                <p:cNvPr id="309" name=""/>
                <p:cNvGrpSpPr/>
                <p:nvPr/>
              </p:nvGrpSpPr>
              <p:grpSpPr>
                <a:xfrm>
                  <a:off x="5790960" y="2971800"/>
                  <a:ext cx="1295640" cy="1905120"/>
                  <a:chOff x="5790960" y="2971800"/>
                  <a:chExt cx="1295640" cy="1905120"/>
                </a:xfrm>
              </p:grpSpPr>
              <p:sp>
                <p:nvSpPr>
                  <p:cNvPr id="310" name=""/>
                  <p:cNvSpPr/>
                  <p:nvPr/>
                </p:nvSpPr>
                <p:spPr>
                  <a:xfrm>
                    <a:off x="5791320" y="2971800"/>
                    <a:ext cx="129528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6097680" y="32115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6095880" y="34290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6097680" y="36687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6095880" y="388620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6097680" y="4125960"/>
                    <a:ext cx="77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790960" y="2971800"/>
                    <a:ext cx="104040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db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>
                    <a:off x="6172200" y="4572000"/>
                    <a:ext cx="609480" cy="0"/>
                  </a:xfrm>
                  <a:prstGeom prst="line">
                    <a:avLst/>
                  </a:prstGeom>
                  <a:ln cap="rnd" w="12600">
                    <a:solidFill>
                      <a:srgbClr val="ffffff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cxnSp>
              <p:nvCxnSpPr>
                <p:cNvPr id="315" name=""/>
                <p:cNvCxnSpPr>
                  <a:endCxn id="316" idx="1"/>
                </p:cNvCxnSpPr>
                <p:nvPr/>
              </p:nvCxnSpPr>
              <p:spPr>
                <a:xfrm>
                  <a:off x="6781680" y="4572000"/>
                  <a:ext cx="915120" cy="1905840"/>
                </a:xfrm>
                <a:prstGeom prst="straightConnector1">
                  <a:avLst/>
                </a:prstGeom>
                <a:ln w="12600">
                  <a:solidFill>
                    <a:srgbClr val="ffffff"/>
                  </a:solidFill>
                  <a:prstDash val="sysDot"/>
                  <a:miter/>
                </a:ln>
              </p:spPr>
            </p:cxnSp>
          </p:grpSp>
          <p:grpSp>
            <p:nvGrpSpPr>
              <p:cNvPr id="317" name=""/>
              <p:cNvGrpSpPr/>
              <p:nvPr/>
            </p:nvGrpSpPr>
            <p:grpSpPr>
              <a:xfrm>
                <a:off x="7275240" y="4952880"/>
                <a:ext cx="1564560" cy="1905120"/>
                <a:chOff x="7275240" y="4952880"/>
                <a:chExt cx="1564560" cy="19051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315200" y="4952880"/>
                  <a:ext cx="1447920" cy="1905120"/>
                </a:xfrm>
                <a:prstGeom prst="rect">
                  <a:avLst/>
                </a:prstGeom>
                <a:noFill/>
                <a:ln cap="rnd" w="12600">
                  <a:solidFill>
                    <a:srgbClr val="ffff66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7696080" y="58672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696080" y="6324480"/>
                  <a:ext cx="77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method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275240" y="4952880"/>
                  <a:ext cx="1564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66"/>
                      </a:solidFill>
                      <a:latin typeface="Arial"/>
                    </a:rPr>
                    <a:t>DBI::_::common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315200" y="685800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32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1" name=""/>
            <p:cNvGrpSpPr/>
            <p:nvPr/>
          </p:nvGrpSpPr>
          <p:grpSpPr>
            <a:xfrm>
              <a:off x="3277080" y="1676520"/>
              <a:ext cx="735480" cy="307080"/>
              <a:chOff x="3277080" y="1676520"/>
              <a:chExt cx="735480" cy="307080"/>
            </a:xfrm>
          </p:grpSpPr>
          <p:sp>
            <p:nvSpPr>
              <p:cNvPr id="322" name=""/>
              <p:cNvSpPr/>
              <p:nvPr/>
            </p:nvSpPr>
            <p:spPr>
              <a:xfrm>
                <a:off x="3277080" y="167652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3352680" y="1981080"/>
                <a:ext cx="6094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head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2895480"/>
            <a:ext cx="68580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1600" y="28954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200400" y="3419280"/>
            <a:ext cx="685800" cy="686160"/>
            <a:chOff x="3200400" y="3419280"/>
            <a:chExt cx="685800" cy="686160"/>
          </a:xfrm>
        </p:grpSpPr>
        <p:sp>
          <p:nvSpPr>
            <p:cNvPr id="328" name=""/>
            <p:cNvSpPr/>
            <p:nvPr/>
          </p:nvSpPr>
          <p:spPr>
            <a:xfrm>
              <a:off x="3200400" y="3581280"/>
              <a:ext cx="68580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29" name=""/>
            <p:cNvCxnSpPr>
              <a:stCxn id="330" idx="2"/>
              <a:endCxn id="328" idx="0"/>
            </p:cNvCxnSpPr>
            <p:nvPr/>
          </p:nvCxnSpPr>
          <p:spPr>
            <a:xfrm>
              <a:off x="35431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31" name=""/>
            <p:cNvSpPr/>
            <p:nvPr/>
          </p:nvSpPr>
          <p:spPr>
            <a:xfrm>
              <a:off x="320076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905120" y="1752480"/>
            <a:ext cx="1802520" cy="4876920"/>
            <a:chOff x="1905120" y="1752480"/>
            <a:chExt cx="1802520" cy="4876920"/>
          </a:xfrm>
        </p:grpSpPr>
        <p:sp>
          <p:nvSpPr>
            <p:cNvPr id="333" name=""/>
            <p:cNvSpPr/>
            <p:nvPr/>
          </p:nvSpPr>
          <p:spPr>
            <a:xfrm>
              <a:off x="2819520" y="1752480"/>
              <a:ext cx="0" cy="487692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905120" y="1752480"/>
              <a:ext cx="74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ut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198072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972160" y="1752480"/>
              <a:ext cx="73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‘’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nner’’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971800" y="2057400"/>
              <a:ext cx="68580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8" name=""/>
          <p:cNvGrpSpPr/>
          <p:nvPr/>
        </p:nvGrpSpPr>
        <p:grpSpPr>
          <a:xfrm>
            <a:off x="4038480" y="2895120"/>
            <a:ext cx="2743200" cy="2286360"/>
            <a:chOff x="4038480" y="2895120"/>
            <a:chExt cx="2743200" cy="2286360"/>
          </a:xfrm>
        </p:grpSpPr>
        <p:sp>
          <p:nvSpPr>
            <p:cNvPr id="339" name=""/>
            <p:cNvSpPr/>
            <p:nvPr/>
          </p:nvSpPr>
          <p:spPr>
            <a:xfrm flipV="1">
              <a:off x="4038480" y="2895120"/>
              <a:ext cx="53352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38480" y="4114800"/>
              <a:ext cx="53352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72000" y="2895480"/>
              <a:ext cx="220968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781680" y="2895480"/>
            <a:ext cx="2209680" cy="2286000"/>
            <a:chOff x="6781680" y="2895480"/>
            <a:chExt cx="2209680" cy="2286000"/>
          </a:xfrm>
        </p:grpSpPr>
        <p:sp>
          <p:nvSpPr>
            <p:cNvPr id="343" name=""/>
            <p:cNvSpPr/>
            <p:nvPr/>
          </p:nvSpPr>
          <p:spPr>
            <a:xfrm>
              <a:off x="7176240" y="2895480"/>
              <a:ext cx="181512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6781680" y="2895480"/>
              <a:ext cx="39456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 flipV="1">
              <a:off x="6781680" y="3505320"/>
              <a:ext cx="39456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1126800" y="2514600"/>
            <a:ext cx="2759400" cy="1590840"/>
            <a:chOff x="1126800" y="2514600"/>
            <a:chExt cx="2759400" cy="1590840"/>
          </a:xfrm>
        </p:grpSpPr>
        <p:grpSp>
          <p:nvGrpSpPr>
            <p:cNvPr id="347" name=""/>
            <p:cNvGrpSpPr/>
            <p:nvPr/>
          </p:nvGrpSpPr>
          <p:grpSpPr>
            <a:xfrm>
              <a:off x="1126800" y="2514600"/>
              <a:ext cx="2759400" cy="1590840"/>
              <a:chOff x="1126800" y="2514600"/>
              <a:chExt cx="2759400" cy="1590840"/>
            </a:xfrm>
          </p:grpSpPr>
          <p:sp>
            <p:nvSpPr>
              <p:cNvPr id="348" name=""/>
              <p:cNvSpPr/>
              <p:nvPr/>
            </p:nvSpPr>
            <p:spPr>
              <a:xfrm>
                <a:off x="18288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200400" y="2895480"/>
                <a:ext cx="685800" cy="524160"/>
              </a:xfrm>
              <a:prstGeom prst="rect">
                <a:avLst/>
              </a:prstGeom>
              <a:noFill/>
              <a:ln w="1260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49" name=""/>
              <p:cNvCxnSpPr>
                <a:stCxn id="326" idx="3"/>
                <a:endCxn id="348" idx="1"/>
              </p:cNvCxnSpPr>
              <p:nvPr/>
            </p:nvCxnSpPr>
            <p:spPr>
              <a:xfrm>
                <a:off x="1126800" y="3153960"/>
                <a:ext cx="702360" cy="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0" name=""/>
              <p:cNvSpPr/>
              <p:nvPr/>
            </p:nvSpPr>
            <p:spPr>
              <a:xfrm>
                <a:off x="1828800" y="3581280"/>
                <a:ext cx="685800" cy="524160"/>
              </a:xfrm>
              <a:prstGeom prst="rect">
                <a:avLst/>
              </a:prstGeom>
              <a:noFill/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351" name=""/>
              <p:cNvCxnSpPr>
                <a:stCxn id="348" idx="2"/>
                <a:endCxn id="350" idx="0"/>
              </p:cNvCxnSpPr>
              <p:nvPr/>
            </p:nvCxnSpPr>
            <p:spPr>
              <a:xfrm>
                <a:off x="2171520" y="3419280"/>
                <a:ext cx="1080" cy="1623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cxnSp>
            <p:nvCxnSpPr>
              <p:cNvPr id="352" name=""/>
              <p:cNvCxnSpPr>
                <a:stCxn id="350" idx="3"/>
                <a:endCxn id="330" idx="1"/>
              </p:cNvCxnSpPr>
              <p:nvPr/>
            </p:nvCxnSpPr>
            <p:spPr>
              <a:xfrm flipV="1">
                <a:off x="2514240" y="3156840"/>
                <a:ext cx="686520" cy="686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miter/>
                <a:tailEnd len="sm" type="triangle" w="sm"/>
              </a:ln>
            </p:spPr>
          </p:cxnSp>
          <p:sp>
            <p:nvSpPr>
              <p:cNvPr id="353" name=""/>
              <p:cNvSpPr/>
              <p:nvPr/>
            </p:nvSpPr>
            <p:spPr>
              <a:xfrm>
                <a:off x="1829520" y="2895480"/>
                <a:ext cx="5968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01120" y="2971800"/>
                <a:ext cx="596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Has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829160" y="3581280"/>
                <a:ext cx="656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Tie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agic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752480" y="2514600"/>
                <a:ext cx="77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124080" y="2514600"/>
                <a:ext cx="18432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3108240" y="25257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610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-&gt;prepare(..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reference to a DBI::db object (regardless of dri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::db::prep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an alias for DBI dispatch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calls driver’s prepare method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inner_hash_ref-&gt;$implementor_class::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ce driver code gets inner hash it has fast access to the hash cont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PEED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r speed from day 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ispatch written in hand-crafted XS/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patch to XS driver methods optimiz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ched attributes returned by dispatch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ceholders give maximum server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columns and/or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row_arrayref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give maximum client-side fetch performanc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overhead is generally insignifican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the differenc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ecipe for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ransactions (don't use AutoCommi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RaiseErr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eval { … } to catch errors and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 by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DBI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use Text::Wra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 = DBI-&gt;connect(…, …, …,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AutoCommit =&gt; 0, RaiseError =&gt;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 = $dbh-&gt;prepare('insert into table values (?)'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foreach (@array_of_long_strings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text = wrap($_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sth-&gt;execute($tes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@ ? $dbh-&gt;rollback : $dbh-&gt;commi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cccc"/>
                </a:solidFill>
                <a:latin typeface="Times New Roman"/>
              </a:rPr>
              <a:t>(a vague impression of )</a:t>
            </a:r>
            <a:r>
              <a:rPr b="0" lang="en-US" sz="3600" spc="-1" strike="noStrike">
                <a:solidFill>
                  <a:srgbClr val="00cc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AFETY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fety on the cheap (without transac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sh change information onto an arr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do in reverse order, in place of rollb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ider signals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br>
              <a:rPr sz="4400"/>
            </a:br>
            <a:r>
              <a:rPr b="0" lang="en-US" sz="32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32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ace be very helpful in understanding application behavior and for debugg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y Perl for Databases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ally suited to </a:t>
            </a: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data processing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pars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 cleansing / filtering / merg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Mi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acquisition and repor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 Page creation (static and dynami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l lets you build sharper tools fas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user', 'passwd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1 shows results onl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demo' 'user' 'passwd'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0xe0abc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0xe0ab0)~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preparse scanned 2 distinct placehold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tinu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274)~0xe110c 42 'Widgets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499360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499360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49936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execute for DBD::ODBC::st (DBI::st=HASH(0xe10d0)~0x142e6c 'Widgets' 4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1 &lt;== 'Widgets' (size 7/8/0, ptype 4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bind 2 &lt;== 42 (size 2/3/0, ptype 5, otype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st_execute (for sql f1511752 after).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ql 1511752: num_fields=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dbd_describe skipped (no result cols) (sql f151175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</a:t>
            </a:r>
            <a:r>
              <a:rPr b="0" lang="en-US" sz="2000" spc="-1" strike="noStrike">
                <a:solidFill>
                  <a:srgbClr val="00cccc"/>
                </a:solidFill>
                <a:latin typeface="Times New Roman"/>
              </a:rPr>
              <a:t>(concluded)</a:t>
            </a:r>
            <a:endParaRPr b="0" lang="en-US" sz="2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isconnect for DBD::ODBC::db (DBI::db=HASH(0xe0ab0)~0xe0abc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e110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(outer handle DESTROY ignore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st (DBI::st=HASH(0x142e6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DESTROY for DBD::ODBC::db (DBI::db=HASH(0xe0abc)~INNER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tate of the Na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builds and runs on many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, Windows, VMS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BI has many available dri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24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DBC, Oracle, Informix, Ingres, mSQL, mysql, DB2, Adabas, Illustra, Solid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ybase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base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tgress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ickbase, Empress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, Fulcrum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tera,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rging the ODBC/JDBC ‘inheritance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types, meta-data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ying the unspecif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ing the undocumented… at las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prepare_cached($statemen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able_info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 $dbh-&gt;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dbh-&gt;type_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TYPE}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tandards based type valu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SCA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$sth-&gt;{PRECISION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finally… Version 1.00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he Interactive DBI::Shell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ing the sh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long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 dsn user passw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erl -MDBI::shell -e she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short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sh ..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active DSN se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and and Result History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uses ReadLin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 Redirection for all comma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xy can be made transparent by setting DBI_AUTOPROXY environment var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::ProxyServer doesn't work on Win32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ye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(work in progres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80880" y="2057400"/>
            <a:ext cx="3048120" cy="2514600"/>
            <a:chOff x="380880" y="2057400"/>
            <a:chExt cx="3048120" cy="2514600"/>
          </a:xfrm>
        </p:grpSpPr>
        <p:sp>
          <p:nvSpPr>
            <p:cNvPr id="393" name=""/>
            <p:cNvSpPr/>
            <p:nvPr/>
          </p:nvSpPr>
          <p:spPr>
            <a:xfrm>
              <a:off x="380880" y="2057400"/>
              <a:ext cx="304812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088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1860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22076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380520" y="5486400"/>
            <a:ext cx="3072960" cy="762120"/>
            <a:chOff x="380520" y="5486400"/>
            <a:chExt cx="3072960" cy="762120"/>
          </a:xfrm>
        </p:grpSpPr>
        <p:sp>
          <p:nvSpPr>
            <p:cNvPr id="398" name=""/>
            <p:cNvSpPr/>
            <p:nvPr/>
          </p:nvSpPr>
          <p:spPr>
            <a:xfrm>
              <a:off x="380880" y="548640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21932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0880" y="579132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8052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438280" y="5791320"/>
              <a:ext cx="9907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361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5715000" y="4724280"/>
            <a:ext cx="3048120" cy="762120"/>
            <a:chOff x="5715000" y="4724280"/>
            <a:chExt cx="3048120" cy="762120"/>
          </a:xfrm>
        </p:grpSpPr>
        <p:sp>
          <p:nvSpPr>
            <p:cNvPr id="405" name=""/>
            <p:cNvSpPr/>
            <p:nvPr/>
          </p:nvSpPr>
          <p:spPr>
            <a:xfrm>
              <a:off x="571500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55344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5713560" y="2057400"/>
            <a:ext cx="3056040" cy="2514600"/>
            <a:chOff x="5713560" y="2057400"/>
            <a:chExt cx="3056040" cy="2514600"/>
          </a:xfrm>
        </p:grpSpPr>
        <p:sp>
          <p:nvSpPr>
            <p:cNvPr id="408" name=""/>
            <p:cNvSpPr/>
            <p:nvPr/>
          </p:nvSpPr>
          <p:spPr>
            <a:xfrm>
              <a:off x="5715000" y="38098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55452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715000" y="2057400"/>
              <a:ext cx="304812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5505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715000" y="2895480"/>
              <a:ext cx="304812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62868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715000" y="3200400"/>
              <a:ext cx="9144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71356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24680" y="3200400"/>
              <a:ext cx="83844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43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450600" y="3429000"/>
            <a:ext cx="2264040" cy="2590200"/>
            <a:chOff x="3450600" y="3429000"/>
            <a:chExt cx="2264040" cy="2590200"/>
          </a:xfrm>
        </p:grpSpPr>
        <p:sp>
          <p:nvSpPr>
            <p:cNvPr id="419" name=""/>
            <p:cNvSpPr/>
            <p:nvPr/>
          </p:nvSpPr>
          <p:spPr>
            <a:xfrm>
              <a:off x="3962520" y="3505320"/>
              <a:ext cx="137160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20" name=""/>
            <p:cNvCxnSpPr>
              <a:stCxn id="415" idx="1"/>
              <a:endCxn id="419" idx="0"/>
            </p:cNvCxnSpPr>
            <p:nvPr/>
          </p:nvCxnSpPr>
          <p:spPr>
            <a:xfrm flipV="1" rot="10800000">
              <a:off x="5331600" y="3428640"/>
              <a:ext cx="383400" cy="838800"/>
            </a:xfrm>
            <a:prstGeom prst="curvedConnector5">
              <a:avLst>
                <a:gd name="adj1" fmla="val 49718"/>
                <a:gd name="adj2" fmla="val 49978"/>
                <a:gd name="adj3" fmla="val 497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21" name=""/>
            <p:cNvCxnSpPr>
              <a:stCxn id="419" idx="1"/>
              <a:endCxn id="403" idx="3"/>
            </p:cNvCxnSpPr>
            <p:nvPr/>
          </p:nvCxnSpPr>
          <p:spPr>
            <a:xfrm flipV="1" rot="10800000">
              <a:off x="3450600" y="4266000"/>
              <a:ext cx="516600" cy="1753560"/>
            </a:xfrm>
            <a:prstGeom prst="curvedConnector5">
              <a:avLst>
                <a:gd name="adj1" fmla="val 50418"/>
                <a:gd name="adj2" fmla="val 50000"/>
                <a:gd name="adj3" fmla="val 50418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22" name=""/>
            <p:cNvSpPr/>
            <p:nvPr/>
          </p:nvSpPr>
          <p:spPr>
            <a:xfrm>
              <a:off x="419112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380880" y="4724280"/>
            <a:ext cx="3048120" cy="762120"/>
            <a:chOff x="380880" y="4724280"/>
            <a:chExt cx="3048120" cy="762120"/>
          </a:xfrm>
        </p:grpSpPr>
        <p:sp>
          <p:nvSpPr>
            <p:cNvPr id="424" name=""/>
            <p:cNvSpPr/>
            <p:nvPr/>
          </p:nvSpPr>
          <p:spPr>
            <a:xfrm>
              <a:off x="12189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80880" y="4724280"/>
              <a:ext cx="304812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Is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andard Database Interface for Per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erl module and specification that defines a consistent database interface, independent of the actual database being used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  Nex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QL for Non-SQL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ing for Non-Networked data 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mplate driver for command lin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types, especially date/time/interv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-threa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In/Out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ding Arra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4343400" y="228600"/>
            <a:ext cx="533520" cy="1143000"/>
            <a:chOff x="4343400" y="228600"/>
            <a:chExt cx="533520" cy="1143000"/>
          </a:xfrm>
        </p:grpSpPr>
        <p:sp>
          <p:nvSpPr>
            <p:cNvPr id="429" name=""/>
            <p:cNvSpPr txBox="1"/>
            <p:nvPr/>
          </p:nvSpPr>
          <p:spPr>
            <a:xfrm>
              <a:off x="4343400" y="228600"/>
              <a:ext cx="533520" cy="482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263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66"/>
                    </a:solidFill>
                    <a:miter/>
                  </a:ln>
                  <a:solidFill>
                    <a:srgbClr val="ffff66"/>
                  </a:solidFill>
                  <a:latin typeface="Arial Black"/>
                </a:rPr>
                <a:t>was</a:t>
              </a:r>
              <a:endParaRPr b="0" lang="en-US" sz="2400" spc="1" strike="noStrike">
                <a:ln w="9360">
                  <a:solidFill>
                    <a:srgbClr val="ffff66"/>
                  </a:solidFill>
                  <a:miter/>
                </a:ln>
                <a:solidFill>
                  <a:srgbClr val="ffff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19720" y="1130400"/>
              <a:ext cx="228600" cy="241200"/>
            </a:xfrm>
            <a:custGeom>
              <a:avLst/>
              <a:gdLst/>
              <a:ahLst/>
              <a:rect l="l" t="t" r="r" b="b"/>
              <a:pathLst>
                <a:path w="144" h="152">
                  <a:moveTo>
                    <a:pt x="0" y="152"/>
                  </a:moveTo>
                  <a:cubicBezTo>
                    <a:pt x="36" y="84"/>
                    <a:pt x="72" y="16"/>
                    <a:pt x="96" y="8"/>
                  </a:cubicBezTo>
                  <a:cubicBezTo>
                    <a:pt x="120" y="0"/>
                    <a:pt x="136" y="88"/>
                    <a:pt x="144" y="104"/>
                  </a:cubicBezTo>
                </a:path>
              </a:pathLst>
            </a:custGeom>
            <a:noFill/>
            <a:ln w="381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at's Next Now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5788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nd the Shell (batch mode, plug-ins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catch-up to DBI version 1.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on test suite for al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-threading (at least thread safet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In/Out Variables (for DBD::ODB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nding Arrays (for DBD::Orac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n-blocking (method calls return at onc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fetch_scroll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next, previous, first, last et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 Parser (ODBC) for greater script portabil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's new in DBD::Oracle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, but not all, of DBI 1.00 is supporte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ould catch up in the next release or s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bundles Alan Burlison's explain too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09728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imes New Roman"/>
              </a:rPr>
              <a:t>Till next year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 drives the design of the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als of the D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simple to use for simpl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sufficient flexibility to accommodate unusual functionality and non-SQL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orm to applicable standards (ODBC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able the creation of database-independent Perl scripts without being limited to the lowest function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ree with open source c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‘higher-level’ interface than ODBC/JDB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ere does the DBI f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8960" y="3130560"/>
            <a:ext cx="5931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58960" y="1911240"/>
            <a:ext cx="5931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0080" y="4425840"/>
            <a:ext cx="1739880" cy="749520"/>
          </a:xfrm>
          <a:prstGeom prst="rect">
            <a:avLst/>
          </a:prstGeom>
          <a:noFill/>
          <a:ln w="1260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92680" y="4425840"/>
            <a:ext cx="1739880" cy="749520"/>
          </a:xfrm>
          <a:prstGeom prst="rect">
            <a:avLst/>
          </a:prstGeom>
          <a:noFill/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8960" y="4425840"/>
            <a:ext cx="1739880" cy="74952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52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00600" y="3962520"/>
            <a:ext cx="182880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087640" y="5560920"/>
            <a:ext cx="852480" cy="993960"/>
            <a:chOff x="2087640" y="5560920"/>
            <a:chExt cx="85248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087640" y="5560920"/>
              <a:ext cx="852480" cy="993960"/>
              <a:chOff x="2087640" y="5560920"/>
              <a:chExt cx="85248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08764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08764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08764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09556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51460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294080" y="5560920"/>
            <a:ext cx="852480" cy="993960"/>
            <a:chOff x="4294080" y="5560920"/>
            <a:chExt cx="852480" cy="993960"/>
          </a:xfrm>
        </p:grpSpPr>
        <p:grpSp>
          <p:nvGrpSpPr>
            <p:cNvPr id="121" name=""/>
            <p:cNvGrpSpPr/>
            <p:nvPr/>
          </p:nvGrpSpPr>
          <p:grpSpPr>
            <a:xfrm>
              <a:off x="4294080" y="5560920"/>
              <a:ext cx="852480" cy="993960"/>
              <a:chOff x="4294080" y="5560920"/>
              <a:chExt cx="852480" cy="993960"/>
            </a:xfrm>
          </p:grpSpPr>
          <p:sp>
            <p:nvSpPr>
              <p:cNvPr id="122" name=""/>
              <p:cNvSpPr/>
              <p:nvPr/>
            </p:nvSpPr>
            <p:spPr>
              <a:xfrm>
                <a:off x="42940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940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2940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43020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303800" y="5703840"/>
              <a:ext cx="836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6513480" y="5560920"/>
            <a:ext cx="852480" cy="993960"/>
            <a:chOff x="6513480" y="5560920"/>
            <a:chExt cx="852480" cy="993960"/>
          </a:xfrm>
        </p:grpSpPr>
        <p:grpSp>
          <p:nvGrpSpPr>
            <p:cNvPr id="128" name=""/>
            <p:cNvGrpSpPr/>
            <p:nvPr/>
          </p:nvGrpSpPr>
          <p:grpSpPr>
            <a:xfrm>
              <a:off x="6513480" y="5560920"/>
              <a:ext cx="852480" cy="993960"/>
              <a:chOff x="6513480" y="5560920"/>
              <a:chExt cx="852480" cy="993960"/>
            </a:xfrm>
          </p:grpSpPr>
          <p:sp>
            <p:nvSpPr>
              <p:cNvPr id="129" name=""/>
              <p:cNvSpPr/>
              <p:nvPr/>
            </p:nvSpPr>
            <p:spPr>
              <a:xfrm>
                <a:off x="6513480" y="628020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13480" y="5705640"/>
                <a:ext cx="85248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13480" y="5560920"/>
                <a:ext cx="85248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6521400" y="6415200"/>
              <a:ext cx="8398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3200" y="5703840"/>
              <a:ext cx="8362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472428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34320" y="51814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9400" y="590868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77720" y="590868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315480" y="590868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Simple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h = 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-&gt;connec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dbi:ODBC:PRIC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', 'user', 'password'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{ RaiseError =&gt; 1, AutoCommit =&gt; 0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upd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UPDATE prices SET price=? WHERE prod=?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 = $dbh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prepar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'INSERT INTO prices(prod,price) VALUES (?,?)'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while ($line = &lt;COST&gt;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chop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($prod, $price) = split /,/, $lin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rows = $upd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ice, $pro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s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execute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($prod,$price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db-&gt;</a:t>
            </a:r>
            <a:r>
              <a:rPr b="0" lang="en-US" sz="16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o why use the Perl DBI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delivers what it promi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simple and quick to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ast, flexible and well prov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here, there and ever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’s free, with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s available for many datab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ercial support is avai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 has a large user base and a strong fu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omparing DBI and Alternatives</a:t>
            </a:r>
            <a:br>
              <a:rPr sz="4400"/>
            </a:b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(Attempting the Impossible!)</a:t>
            </a:r>
            <a:endParaRPr b="0" lang="en-US" sz="2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990720" y="1905120"/>
            <a:ext cx="7772400" cy="4190760"/>
            <a:chOff x="990720" y="1905120"/>
            <a:chExt cx="7772400" cy="4190760"/>
          </a:xfrm>
        </p:grpSpPr>
        <p:sp>
          <p:nvSpPr>
            <p:cNvPr id="145" name=""/>
            <p:cNvSpPr/>
            <p:nvPr/>
          </p:nvSpPr>
          <p:spPr>
            <a:xfrm>
              <a:off x="990720" y="1905120"/>
              <a:ext cx="0" cy="417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90720" y="609588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42840" y="1805040"/>
            <a:ext cx="98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ower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755840" y="6148440"/>
            <a:ext cx="8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Effort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33760" y="2238480"/>
            <a:ext cx="2000160" cy="329544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mand Lin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72040" y="1857240"/>
            <a:ext cx="2686320" cy="78120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ative 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57840" y="1857240"/>
            <a:ext cx="1314720" cy="22291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DBC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95480" y="1857240"/>
            <a:ext cx="1238040" cy="2914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riv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86240" y="2162160"/>
            <a:ext cx="1543320" cy="222876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ecompil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62160" y="1857240"/>
            <a:ext cx="1238400" cy="18478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in32::ODB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4960" y="3000240"/>
            <a:ext cx="2228760" cy="253368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C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oratcl, sybtcl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975240" y="6170760"/>
            <a:ext cx="6022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lease note: This chart is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only for some values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correc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71440" y="1857240"/>
            <a:ext cx="2229120" cy="628920"/>
          </a:xfrm>
          <a:prstGeom prst="ellipse">
            <a:avLst/>
          </a:prstGeom>
          <a:noFill/>
          <a:ln w="572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ybase::DBli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Under the Hoo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72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defines and implements an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iver modules do much of the real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t limited to the lowest common denominator -  mechanism provided for driver specific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Staff</cp:lastModifiedBy>
  <cp:lastPrinted>1997-08-18T20:27:39Z</cp:lastPrinted>
  <dcterms:modified xsi:type="dcterms:W3CDTF">1998-12-15T18:15:22Z</dcterms:modified>
  <cp:revision>58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H:\timbo\dbi\Talks</vt:lpwstr>
  </property>
  <property fmtid="{D5CDD505-2E9C-101B-9397-08002B2CF9AE}" pid="14" name="ScreenSize">
    <vt:r8>1</vt:r8>
  </property>
  <property fmtid="{D5CDD505-2E9C-101B-9397-08002B2CF9AE}" pid="15" name="ScreenUsage">
    <vt:r8>1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